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gif" ContentType="image/gif"/>
  <Override PartName="/ppt/media/image17.png" ContentType="image/png"/>
  <Override PartName="/ppt/media/image22.png" ContentType="image/png"/>
  <Override PartName="/ppt/media/image23.png" ContentType="image/png"/>
  <Override PartName="/ppt/media/image30.gif" ContentType="image/gif"/>
  <Override PartName="/ppt/media/image18.gif" ContentType="image/gif"/>
  <Override PartName="/ppt/media/image21.png" ContentType="image/png"/>
  <Override PartName="/ppt/media/image19.png" ContentType="image/png"/>
  <Override PartName="/ppt/media/image26.gif" ContentType="image/gif"/>
  <Override PartName="/ppt/media/image16.gif" ContentType="image/gif"/>
  <Override PartName="/ppt/media/image20.png" ContentType="image/png"/>
  <Override PartName="/ppt/media/image15.gif" ContentType="image/gif"/>
  <Override PartName="/ppt/media/image1.png" ContentType="image/png"/>
  <Override PartName="/ppt/media/image31.png" ContentType="image/png"/>
  <Override PartName="/ppt/media/image25.gif" ContentType="image/gif"/>
  <Override PartName="/ppt/media/image2.gif" ContentType="image/gif"/>
  <Override PartName="/ppt/media/image32.gif" ContentType="image/gif"/>
  <Override PartName="/ppt/media/image29.png" ContentType="image/png"/>
  <Override PartName="/ppt/media/image6.gif" ContentType="image/gif"/>
  <Override PartName="/ppt/media/image36.gif" ContentType="image/gif"/>
  <Override PartName="/ppt/media/image3.gif" ContentType="image/gif"/>
  <Override PartName="/ppt/media/image41.png" ContentType="image/png"/>
  <Override PartName="/ppt/media/image45.gif" ContentType="image/gif"/>
  <Override PartName="/ppt/media/image48.png" ContentType="image/png"/>
  <Override PartName="/ppt/media/image10.gif" ContentType="image/gif"/>
  <Override PartName="/ppt/media/image46.gif" ContentType="image/gif"/>
  <Override PartName="/ppt/media/image11.gif" ContentType="image/gif"/>
  <Override PartName="/ppt/media/image14.png" ContentType="image/png"/>
  <Override PartName="/ppt/media/image42.gif" ContentType="image/gif"/>
  <Override PartName="/ppt/media/image35.png" ContentType="image/png"/>
  <Override PartName="/ppt/media/image43.gif" ContentType="image/gif"/>
  <Override PartName="/ppt/media/image47.png" ContentType="image/png"/>
  <Override PartName="/ppt/media/image40.wmf" ContentType="image/x-wmf"/>
  <Override PartName="/ppt/media/image44.gif" ContentType="image/gif"/>
  <Override PartName="/ppt/media/image49.jpeg" ContentType="image/jpeg"/>
  <Override PartName="/ppt/media/image50.gif" ContentType="image/gif"/>
  <Override PartName="/ppt/media/image13.gif" ContentType="image/gif"/>
  <Override PartName="/ppt/media/image39.gif" ContentType="image/gif"/>
  <Override PartName="/ppt/media/image9.gif" ContentType="image/gif"/>
  <Override PartName="/ppt/media/image38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37.gif" ContentType="image/gif"/>
  <Override PartName="/ppt/media/image5.gif" ContentType="image/gif"/>
  <Override PartName="/ppt/media/image28.gif" ContentType="image/gif"/>
  <Override PartName="/ppt/media/image33.jpeg" ContentType="image/jpeg"/>
  <Override PartName="/ppt/media/image34.gif" ContentType="image/gif"/>
  <Override PartName="/ppt/media/image4.gif" ContentType="image/gif"/>
  <Override PartName="/ppt/media/image27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9F6-E3A1-45A1-8527-CCB3F4B3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42C-353B-476D-816C-F5059E69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57A-D8A4-4649-A79D-8D5716B1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59A-CB45-46BD-A059-BBF2E65D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BFD9-A640-4AEE-9B22-AB5A2A56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D974-52D2-4009-86F7-93E52C8A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68CE-42FB-4ECA-8BCF-6271AD85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F16F-A9C0-4BC5-8271-A8631A4D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756B-5C61-422F-997D-47259791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66C3-9E9F-4519-80CD-3D0C44F4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26A8-2E66-4792-8F61-673D7F0E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791-91DD-4FB7-9FFA-B128FF78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DD85-7354-447B-8AB0-0C72D6AB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F232-1A2F-4815-9F3A-4B789F0F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25DC-D556-46DB-93EA-9E11688A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3811-53B2-4907-805C-EB686256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2820-A257-4CCC-9CEC-2647E2B4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B6C43-9723-4214-A46B-034D244D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37C3E-F625-4C00-8B83-36C0310C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6814B-A9E4-4E2E-AE15-17258735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72E5-DEA5-4AF4-A8A7-00755AB6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C009D-3F0A-48BB-AE30-656272B5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F2B-F452-4A57-AAF1-A8E08043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1EA7A-F11A-471A-8C05-CE31E50B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F268F-2884-4D26-99AF-DA5950E8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36BCA-3B42-4E9E-AEC0-849E4DA7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EBBD8-EB12-4C6C-8BB5-F07EBA8D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A8922-CA98-4C6B-8546-88F1DE42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E0D21-F42E-4687-B91F-5AE92830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50C2F-CEC9-4CF8-BBA5-9D01A6AA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C79-BAD3-4429-A27D-BC0CFF6D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110-C019-4464-B044-FB247504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845-A175-4802-B6FD-5E9237DD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3A1-65A8-4F2B-AE1D-B292EDAF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88C-A3BB-43A3-AD11-65720F21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79B9-004A-4F2E-8BFA-42383464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7544-CB9E-4875-B575-2EE89ED819E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0E5C-32B0-42FE-8D8D-63F6FB1B0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502C-31A9-4EC2-B9C4-AD42E4849EC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E053-D3B7-4762-99FA-5812C60A0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8DE6-5954-4CF0-8480-8C8E8D2E0A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A1E3-2BD8-4734-BDFF-A9D89F69D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7.gif"/><Relationship Id="rId6" Type="http://schemas.openxmlformats.org/officeDocument/2006/relationships/image" Target="../media/image26.gif"/><Relationship Id="rId7" Type="http://schemas.openxmlformats.org/officeDocument/2006/relationships/image" Target="../media/image25.gif"/><Relationship Id="rId8" Type="http://schemas.openxmlformats.org/officeDocument/2006/relationships/image" Target="../media/image2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27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6.gif"/><Relationship Id="rId15" Type="http://schemas.openxmlformats.org/officeDocument/2006/relationships/image" Target="../media/image24.gif"/><Relationship Id="rId16" Type="http://schemas.openxmlformats.org/officeDocument/2006/relationships/image" Target="../media/image26.gif"/><Relationship Id="rId17" Type="http://schemas.openxmlformats.org/officeDocument/2006/relationships/image" Target="../media/image17.png"/><Relationship Id="rId1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10.gif"/><Relationship Id="rId9" Type="http://schemas.openxmlformats.org/officeDocument/2006/relationships/image" Target="../media/image29.png"/><Relationship Id="rId10" Type="http://schemas.openxmlformats.org/officeDocument/2006/relationships/image" Target="../media/image9.gif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17.png"/><Relationship Id="rId14" Type="http://schemas.openxmlformats.org/officeDocument/2006/relationships/image" Target="../media/image30.gif"/><Relationship Id="rId15" Type="http://schemas.openxmlformats.org/officeDocument/2006/relationships/image" Target="../media/image30.gif"/><Relationship Id="rId16" Type="http://schemas.openxmlformats.org/officeDocument/2006/relationships/image" Target="../media/image30.gif"/><Relationship Id="rId17" Type="http://schemas.openxmlformats.org/officeDocument/2006/relationships/image" Target="../media/image30.gif"/><Relationship Id="rId18" Type="http://schemas.openxmlformats.org/officeDocument/2006/relationships/image" Target="../media/image30.gif"/><Relationship Id="rId19" Type="http://schemas.openxmlformats.org/officeDocument/2006/relationships/image" Target="../media/image8.gif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gif"/><Relationship Id="rId6" Type="http://schemas.openxmlformats.org/officeDocument/2006/relationships/image" Target="../media/image13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image" Target="../media/image39.gif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4.gi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5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7.png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6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7.png"/><Relationship Id="rId15" Type="http://schemas.openxmlformats.org/officeDocument/2006/relationships/image" Target="../media/image20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eologic Histo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410000" y="2133720"/>
            <a:ext cx="1990800" cy="3962160"/>
          </a:xfrm>
          <a:custGeom>
            <a:avLst/>
            <a:gdLst/>
            <a:ahLst/>
            <a:rect l="l" t="t" r="r" b="b"/>
            <a:pathLst>
              <a:path w="1254" h="2496">
                <a:moveTo>
                  <a:pt x="73" y="1388"/>
                </a:moveTo>
                <a:cubicBezTo>
                  <a:pt x="74" y="1137"/>
                  <a:pt x="76" y="421"/>
                  <a:pt x="81" y="211"/>
                </a:cubicBezTo>
                <a:cubicBezTo>
                  <a:pt x="87" y="0"/>
                  <a:pt x="42" y="126"/>
                  <a:pt x="107" y="120"/>
                </a:cubicBezTo>
                <a:cubicBezTo>
                  <a:pt x="172" y="114"/>
                  <a:pt x="330" y="119"/>
                  <a:pt x="470" y="176"/>
                </a:cubicBezTo>
                <a:cubicBezTo>
                  <a:pt x="610" y="233"/>
                  <a:pt x="821" y="327"/>
                  <a:pt x="945" y="463"/>
                </a:cubicBezTo>
                <a:cubicBezTo>
                  <a:pt x="1069" y="599"/>
                  <a:pt x="1173" y="805"/>
                  <a:pt x="1213" y="991"/>
                </a:cubicBezTo>
                <a:cubicBezTo>
                  <a:pt x="1254" y="1177"/>
                  <a:pt x="1247" y="1399"/>
                  <a:pt x="1191" y="1583"/>
                </a:cubicBezTo>
                <a:cubicBezTo>
                  <a:pt x="1135" y="1767"/>
                  <a:pt x="997" y="1967"/>
                  <a:pt x="878" y="2096"/>
                </a:cubicBezTo>
                <a:cubicBezTo>
                  <a:pt x="759" y="2225"/>
                  <a:pt x="613" y="2305"/>
                  <a:pt x="478" y="2360"/>
                </a:cubicBezTo>
                <a:cubicBezTo>
                  <a:pt x="343" y="2415"/>
                  <a:pt x="138" y="2421"/>
                  <a:pt x="69" y="2424"/>
                </a:cubicBezTo>
                <a:cubicBezTo>
                  <a:pt x="0" y="2427"/>
                  <a:pt x="61" y="2496"/>
                  <a:pt x="61" y="2379"/>
                </a:cubicBezTo>
                <a:cubicBezTo>
                  <a:pt x="61" y="2262"/>
                  <a:pt x="70" y="1883"/>
                  <a:pt x="73" y="1718"/>
                </a:cubicBezTo>
                <a:cubicBezTo>
                  <a:pt x="76" y="1553"/>
                  <a:pt x="73" y="1641"/>
                  <a:pt x="73" y="138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2971800"/>
            <a:ext cx="2109960" cy="3106800"/>
          </a:xfrm>
          <a:custGeom>
            <a:avLst/>
            <a:gdLst/>
            <a:ahLst/>
            <a:rect l="l" t="t" r="r" b="b"/>
            <a:pathLst>
              <a:path w="1329" h="1957">
                <a:moveTo>
                  <a:pt x="1162" y="1899"/>
                </a:moveTo>
                <a:cubicBezTo>
                  <a:pt x="1152" y="1957"/>
                  <a:pt x="1155" y="1909"/>
                  <a:pt x="1099" y="1899"/>
                </a:cubicBezTo>
                <a:cubicBezTo>
                  <a:pt x="1043" y="1889"/>
                  <a:pt x="914" y="1870"/>
                  <a:pt x="824" y="1840"/>
                </a:cubicBezTo>
                <a:cubicBezTo>
                  <a:pt x="734" y="1810"/>
                  <a:pt x="642" y="1765"/>
                  <a:pt x="561" y="1716"/>
                </a:cubicBezTo>
                <a:cubicBezTo>
                  <a:pt x="480" y="1667"/>
                  <a:pt x="396" y="1602"/>
                  <a:pt x="337" y="1545"/>
                </a:cubicBezTo>
                <a:cubicBezTo>
                  <a:pt x="278" y="1488"/>
                  <a:pt x="243" y="1430"/>
                  <a:pt x="205" y="1378"/>
                </a:cubicBezTo>
                <a:cubicBezTo>
                  <a:pt x="169" y="1327"/>
                  <a:pt x="146" y="1292"/>
                  <a:pt x="119" y="1235"/>
                </a:cubicBezTo>
                <a:cubicBezTo>
                  <a:pt x="93" y="1178"/>
                  <a:pt x="63" y="1122"/>
                  <a:pt x="45" y="1036"/>
                </a:cubicBezTo>
                <a:cubicBezTo>
                  <a:pt x="26" y="950"/>
                  <a:pt x="0" y="840"/>
                  <a:pt x="7" y="720"/>
                </a:cubicBezTo>
                <a:cubicBezTo>
                  <a:pt x="15" y="600"/>
                  <a:pt x="47" y="424"/>
                  <a:pt x="87" y="317"/>
                </a:cubicBezTo>
                <a:cubicBezTo>
                  <a:pt x="128" y="210"/>
                  <a:pt x="215" y="121"/>
                  <a:pt x="248" y="78"/>
                </a:cubicBezTo>
                <a:cubicBezTo>
                  <a:pt x="282" y="36"/>
                  <a:pt x="270" y="53"/>
                  <a:pt x="290" y="62"/>
                </a:cubicBezTo>
                <a:cubicBezTo>
                  <a:pt x="311" y="72"/>
                  <a:pt x="224" y="0"/>
                  <a:pt x="376" y="130"/>
                </a:cubicBezTo>
                <a:cubicBezTo>
                  <a:pt x="526" y="260"/>
                  <a:pt x="1063" y="721"/>
                  <a:pt x="1196" y="839"/>
                </a:cubicBezTo>
                <a:cubicBezTo>
                  <a:pt x="1329" y="957"/>
                  <a:pt x="1178" y="806"/>
                  <a:pt x="1174" y="839"/>
                </a:cubicBezTo>
                <a:cubicBezTo>
                  <a:pt x="1171" y="872"/>
                  <a:pt x="1176" y="921"/>
                  <a:pt x="1174" y="1040"/>
                </a:cubicBezTo>
                <a:cubicBezTo>
                  <a:pt x="1172" y="1159"/>
                  <a:pt x="1164" y="1409"/>
                  <a:pt x="1162" y="1552"/>
                </a:cubicBezTo>
                <a:cubicBezTo>
                  <a:pt x="1160" y="1695"/>
                  <a:pt x="1172" y="1841"/>
                  <a:pt x="1162" y="1899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572000" y="2361960"/>
            <a:ext cx="0" cy="1904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33920" y="4267080"/>
            <a:ext cx="1828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recam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2438280"/>
            <a:ext cx="1981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8 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ans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943600" y="2971800"/>
            <a:ext cx="685800" cy="3808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971800"/>
            <a:ext cx="190512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3657600"/>
            <a:ext cx="175248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5257800"/>
            <a:ext cx="685800" cy="5335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5791320"/>
            <a:ext cx="220968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29400" y="51055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xygen r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opshere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095880" y="3657240"/>
            <a:ext cx="762120" cy="228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05720" y="31240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5 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ed forms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a50021"/>
                </a:solidFill>
                <a:latin typeface="Arial Black"/>
              </a:rPr>
              <a:t>Precambrian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362320" y="4800240"/>
            <a:ext cx="761760" cy="3049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5105520"/>
            <a:ext cx="213372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4495680"/>
            <a:ext cx="1981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odinia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590560" y="5181480"/>
            <a:ext cx="685800" cy="4572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5638680"/>
            <a:ext cx="236232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5105520"/>
            <a:ext cx="1981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mul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ed forms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800600" y="1828440"/>
            <a:ext cx="152280" cy="6858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1828800"/>
            <a:ext cx="373392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76920" y="137160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5 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on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are major geologic events of the </a:t>
            </a:r>
            <a:r>
              <a:rPr b="0" lang="en-US" sz="3600" spc="-1" strike="noStrike">
                <a:solidFill>
                  <a:srgbClr val="a50021"/>
                </a:solidFill>
                <a:latin typeface="Arial Black"/>
              </a:rPr>
              <a:t>Precambrian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Er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6248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8 b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ceans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5 b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st single celled forms of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 b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____ rich atmosphere 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3 b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st multi celled forms of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1b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st continent Rhodinia 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34320" y="1752480"/>
            <a:ext cx="175248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10280" y="205740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3124080"/>
          </a:xfrm>
          <a:prstGeom prst="rect">
            <a:avLst/>
          </a:prstGeom>
          <a:gradFill rotWithShape="0">
            <a:gsLst>
              <a:gs pos="0">
                <a:srgbClr val="9ebddb"/>
              </a:gs>
              <a:gs pos="100000">
                <a:srgbClr val="b9dcff">
                  <a:alpha val="8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181480" y="5486400"/>
            <a:ext cx="3962520" cy="13716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0" y="5486400"/>
            <a:ext cx="5181480" cy="13716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gradFill rotWithShape="0">
            <a:gsLst>
              <a:gs pos="0">
                <a:srgbClr val="050505"/>
              </a:gs>
              <a:gs pos="100000">
                <a:srgbClr val="5f5f5f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7924680" y="3886200"/>
            <a:ext cx="990720" cy="17049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6781680" y="4419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>
            <a:off x="9296280" y="4343400"/>
            <a:ext cx="1600200" cy="9586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514600" y="4554360"/>
            <a:ext cx="1143000" cy="11034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1219320" y="4800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10667880" y="4114800"/>
            <a:ext cx="685800" cy="4176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9"/>
          <a:stretch/>
        </p:blipFill>
        <p:spPr>
          <a:xfrm>
            <a:off x="9144000" y="4114800"/>
            <a:ext cx="1066680" cy="639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0"/>
          <a:stretch/>
        </p:blipFill>
        <p:spPr>
          <a:xfrm>
            <a:off x="9677520" y="3886200"/>
            <a:ext cx="685800" cy="4111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1">
            <a:lum bright="-36000"/>
          </a:blip>
          <a:stretch/>
        </p:blipFill>
        <p:spPr>
          <a:xfrm rot="213000">
            <a:off x="10210320" y="4647960"/>
            <a:ext cx="838440" cy="5112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0" y="3124080"/>
            <a:ext cx="9372600" cy="533520"/>
          </a:xfrm>
          <a:prstGeom prst="rect">
            <a:avLst/>
          </a:prstGeom>
          <a:gradFill rotWithShape="0">
            <a:gsLst>
              <a:gs pos="0">
                <a:srgbClr val="69b4ff">
                  <a:alpha val="87058"/>
                </a:srgbClr>
              </a:gs>
              <a:gs pos="100000">
                <a:srgbClr val="25405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 rot="18714000">
            <a:off x="9419040" y="6066360"/>
            <a:ext cx="744480" cy="8380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3"/>
          <a:stretch/>
        </p:blipFill>
        <p:spPr>
          <a:xfrm rot="18713400">
            <a:off x="9938160" y="5758560"/>
            <a:ext cx="511200" cy="576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4"/>
          <a:stretch/>
        </p:blipFill>
        <p:spPr>
          <a:xfrm>
            <a:off x="6400800" y="5257800"/>
            <a:ext cx="1295280" cy="12492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5"/>
          <a:stretch/>
        </p:blipFill>
        <p:spPr>
          <a:xfrm>
            <a:off x="3962520" y="4724280"/>
            <a:ext cx="990360" cy="17049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6"/>
          <a:stretch/>
        </p:blipFill>
        <p:spPr>
          <a:xfrm>
            <a:off x="304920" y="5246640"/>
            <a:ext cx="1295280" cy="12495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0" y="3657600"/>
            <a:ext cx="9144000" cy="3200400"/>
          </a:xfrm>
          <a:prstGeom prst="rect">
            <a:avLst/>
          </a:prstGeom>
          <a:solidFill>
            <a:srgbClr val="0066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205740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se animals included trilobit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monites (squid like creatures with she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380880"/>
            <a:ext cx="1447920" cy="106704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76920" y="380880"/>
            <a:ext cx="2133360" cy="121788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0"/>
            <a:ext cx="1447560" cy="106668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0"/>
            <a:ext cx="2133360" cy="121752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leozoic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990720"/>
            <a:ext cx="342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leozoic Era witnessed an explosion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1219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shallow seas covered most of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477120" y="304920"/>
            <a:ext cx="2743200" cy="2743200"/>
            <a:chOff x="6477120" y="304920"/>
            <a:chExt cx="2743200" cy="2743200"/>
          </a:xfrm>
        </p:grpSpPr>
        <p:pic>
          <p:nvPicPr>
            <p:cNvPr id="314" name="" descr=""/>
            <p:cNvPicPr/>
            <p:nvPr/>
          </p:nvPicPr>
          <p:blipFill>
            <a:blip r:embed="rId17"/>
            <a:stretch/>
          </p:blipFill>
          <p:spPr>
            <a:xfrm>
              <a:off x="6477120" y="304920"/>
              <a:ext cx="27432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778880" y="444240"/>
              <a:ext cx="1208880" cy="241776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09320" y="947880"/>
              <a:ext cx="1198080" cy="190332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7825320" y="583200"/>
              <a:ext cx="0" cy="1162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60560" y="1746360"/>
              <a:ext cx="111564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10120" y="648360"/>
              <a:ext cx="1106280" cy="1131480"/>
            </a:xfrm>
            <a:custGeom>
              <a:avLst/>
              <a:gdLst/>
              <a:ahLst/>
              <a:rect l="l" t="t" r="r" b="b"/>
              <a:pathLst>
                <a:path w="1142" h="1168">
                  <a:moveTo>
                    <a:pt x="1084" y="1139"/>
                  </a:moveTo>
                  <a:cubicBezTo>
                    <a:pt x="1026" y="1168"/>
                    <a:pt x="308" y="480"/>
                    <a:pt x="154" y="347"/>
                  </a:cubicBezTo>
                  <a:cubicBezTo>
                    <a:pt x="0" y="214"/>
                    <a:pt x="143" y="361"/>
                    <a:pt x="160" y="338"/>
                  </a:cubicBezTo>
                  <a:cubicBezTo>
                    <a:pt x="177" y="315"/>
                    <a:pt x="209" y="252"/>
                    <a:pt x="256" y="212"/>
                  </a:cubicBezTo>
                  <a:cubicBezTo>
                    <a:pt x="303" y="172"/>
                    <a:pt x="404" y="104"/>
                    <a:pt x="445" y="98"/>
                  </a:cubicBezTo>
                  <a:cubicBezTo>
                    <a:pt x="486" y="92"/>
                    <a:pt x="398" y="0"/>
                    <a:pt x="504" y="173"/>
                  </a:cubicBezTo>
                  <a:cubicBezTo>
                    <a:pt x="610" y="346"/>
                    <a:pt x="1142" y="1110"/>
                    <a:pt x="1084" y="1139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876400">
              <a:off x="7081200" y="1095120"/>
              <a:ext cx="6508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228600" y="1219320"/>
            <a:ext cx="6095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out these shallow seas lived some of the first comple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s of life Including: invertebrates (shell fish), fish and pl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657600"/>
            <a:ext cx="9448920" cy="304920"/>
          </a:xfrm>
          <a:prstGeom prst="rect">
            <a:avLst/>
          </a:prstGeom>
          <a:gradFill rotWithShape="0">
            <a:gsLst>
              <a:gs pos="0">
                <a:srgbClr val="25405b"/>
              </a:gs>
              <a:gs pos="100000">
                <a:srgbClr val="69b4ff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455 -0.02222 -0.0691 -0.04444 -0.14028 -0.05 C -0.21163 -0.05555 -0.35642 -0.04074 -0.42778 -0.03333 C -0.49913 -0.02592 -0.51146 -0.00185 -0.56823 -0.00555 C -0.625 -0.00926 -0.68767 -0.05741 -0.76805 -0.05555 C -0.84861 -0.0537 -0.96892 0.00926 -1.05156 0.00556 C -1.13385 0.00185 -1.22726 -0.06389 -1.2625 -0.07778 E">
                                      <p:cBhvr>
                                        <p:cTn id="410" dur="15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455 -0.02222 -0.0691 -0.04444 -0.14028 -0.05 C -0.21163 -0.05555 -0.35642 -0.04074 -0.42778 -0.03333 C -0.49913 -0.02592 -0.51146 -0.00185 -0.56823 -0.00555 C -0.625 -0.00926 -0.68767 -0.05741 -0.76805 -0.05555 C -0.84861 -0.0537 -0.96892 0.00926 -1.05156 0.00556 C -1.13385 0.00185 -1.22726 -0.06389 -1.2625 -0.07778 E">
                                      <p:cBhvr>
                                        <p:cTn id="412" dur="15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455 -0.02222 -0.0691 -0.04444 -0.14028 -0.05 C -0.21163 -0.05555 -0.35642 -0.04074 -0.42778 -0.03333 C -0.49913 -0.02592 -0.51146 -0.00185 -0.56823 -0.00555 C -0.625 -0.00926 -0.68767 -0.05741 -0.76805 -0.05555 C -0.84861 -0.0537 -0.96892 0.00926 -1.05156 0.00556 C -1.13385 0.00185 -1.22726 -0.06389 -1.2625 -0.07778 E">
                                      <p:cBhvr>
                                        <p:cTn id="414" dur="15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C -0.06944 -0.03171 -0.13819 -0.06528 -0.19861 -0.08518 C -0.25902 -0.10509 -0.32066 -0.11666 -0.3625 -0.11967 C -0.40434 -0.12268 -0.42934 -0.10416 -0.45 -0.10301 C -0.47066 -0.10185 -0.4717 -0.11088 -0.48611 -0.11227 C -0.50052 -0.11366 -0.51336 -0.10926 -0.53611 -0.11111 C -0.55885 -0.11296 -0.58472 -0.12708 -0.62222 -0.12407 C -0.65972 -0.12106 -0.71666 -0.09954 -0.76111 -0.09375 C -0.80555 -0.08796 -0.85173 -0.08588 -0.88923 -0.08889 C -0.92673 -0.0919 -0.92882 -0.11389 -0.98611 -0.11227 C -1.0434 -0.11065 -1.18177 -0.08634 -1.23333 -0.07963 E">
                                      <p:cBhvr>
                                        <p:cTn id="416" dur="30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C -0.02674 -0.0081 -0.12431 -0.05069 -0.16059 -0.04838 C -0.19688 -0.04606 -0.20573 -0.000229999999999999 -0.21754 0.01459 C -0.22934 0.0294 -0.22257 0.03102 -0.23143 0.04051 C -0.24028 0.05 -0.2592 0.06459 -0.27032 0.07199 C -0.28143 0.0794 -0.28907 0.08241 -0.29861 0.08519 C -0.30816 0.08797 -0.30643 0.08889 -0.32778 0.08889 C -0.34913 0.08889 -0.40313 0.08773 -0.42726 0.08496 C -0.45139 0.08218 -0.46129 0.07871 -0.47309 0.07199 C -0.4849 0.06528 -0.48802 0.05857 -0.49809 0.04422 C -0.50816 0.02986 -0.50851 0.00209 -0.53334 -0.01481 C -0.55816 -0.03171 -0.61788 -0.0537 -0.6467 -0.05764 C -0.6757 -0.06157 -0.68663 -0.04745 -0.70782 -0.03912 C -0.729 -0.03078 -0.74983 -0.02152 -0.77361 -0.0074 C -0.7974 0.00672 -0.82431 0.04653 -0.85087 0.04607 C -0.87743 0.0456 -0.86511 0.01019 -0.93299 -0.00949 C -1.00087 -0.02916 -1.19045 -0.05902 -1.25834 -0.07222 E">
                                      <p:cBhvr>
                                        <p:cTn id="418" dur="35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-0.1401 -0.02963 -0.28003 -0.05903 -0.33194 -0.05741 C -0.38385 -0.05579 -0.30069 0.000229999999999999 -0.31111 0.00926 C -0.32153 0.01828 -0.36371 0.0074 -0.39444 -0.00371 C -0.42517 -0.01482 -0.47378 -0.05556 -0.49583 -0.05741 C -0.51788 -0.05926 -0.53038 -0.02894 -0.52639 -0.01482 C -0.52239 -0.000699999999999999 -0.45608 0.02708 -0.47222 0.02777 C -0.48837 0.02847 -0.58281 0.00069 -0.62361 -0.01111 C -0.66441 -0.02292 -0.69722 -0.04422 -0.71667 -0.0426 C -0.73611 -0.04098 -0.74514 -0.0176 -0.74028 -0.00185 C -0.73542 0.01389 -0.67969 0.04791 -0.6875 0.05185 C -0.69531 0.05578 -0.74236 0.03981 -0.7875 0.02222 C -0.83264 0.00463 -0.93073 -0.05533 -0.95833 -0.05371 C -0.98594 -0.05209 -0.94722 0.01782 -0.95278 0.03148 C -0.95833 0.04514 -0.92344 0.0456 -0.99167 0.02777 C -1.05989 0.00995 -1.30069 -0.05857 -1.3625 -0.07593 E">
                                      <p:cBhvr>
                                        <p:cTn id="420" dur="2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C -0.1401 -0.02963 -0.28003 -0.05903 -0.33194 -0.05741 C -0.38385 -0.05579 -0.30069 0.000229999999999999 -0.31111 0.00926 C -0.32153 0.01828 -0.36371 0.0074 -0.39444 -0.00371 C -0.42517 -0.01482 -0.47378 -0.05556 -0.49583 -0.05741 C -0.51788 -0.05926 -0.53038 -0.02894 -0.52639 -0.01482 C -0.52239 -0.000699999999999999 -0.45608 0.02708 -0.47222 0.02777 C -0.48837 0.02847 -0.58281 0.00069 -0.62361 -0.01111 C -0.66441 -0.02292 -0.69722 -0.04422 -0.71667 -0.0426 C -0.73611 -0.04098 -0.74514 -0.0176 -0.74028 -0.00185 C -0.73542 0.01389 -0.67969 0.04791 -0.6875 0.05185 C -0.69531 0.05578 -0.74236 0.03981 -0.7875 0.02222 C -0.83264 0.00463 -0.93073 -0.05533 -0.95833 -0.05371 C -0.98594 -0.05209 -0.94722 0.01782 -0.95278 0.03148 C -0.95833 0.04514 -0.92344 0.0456 -0.99167 0.02777 C -1.05989 0.00995 -1.30069 -0.05857 -1.3625 -0.07593 E">
                                      <p:cBhvr>
                                        <p:cTn id="422" dur="26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419720" y="1828800"/>
            <a:ext cx="1981080" cy="3962520"/>
          </a:xfrm>
          <a:custGeom>
            <a:avLst/>
            <a:gdLst/>
            <a:ahLst/>
            <a:rect l="l" t="t" r="r" b="b"/>
            <a:pathLst>
              <a:path w="1248" h="2496">
                <a:moveTo>
                  <a:pt x="67" y="1388"/>
                </a:moveTo>
                <a:cubicBezTo>
                  <a:pt x="68" y="1137"/>
                  <a:pt x="70" y="421"/>
                  <a:pt x="75" y="211"/>
                </a:cubicBezTo>
                <a:cubicBezTo>
                  <a:pt x="81" y="0"/>
                  <a:pt x="34" y="124"/>
                  <a:pt x="101" y="120"/>
                </a:cubicBezTo>
                <a:cubicBezTo>
                  <a:pt x="168" y="116"/>
                  <a:pt x="340" y="129"/>
                  <a:pt x="480" y="186"/>
                </a:cubicBezTo>
                <a:cubicBezTo>
                  <a:pt x="620" y="243"/>
                  <a:pt x="818" y="329"/>
                  <a:pt x="939" y="463"/>
                </a:cubicBezTo>
                <a:cubicBezTo>
                  <a:pt x="1060" y="597"/>
                  <a:pt x="1167" y="805"/>
                  <a:pt x="1207" y="991"/>
                </a:cubicBezTo>
                <a:cubicBezTo>
                  <a:pt x="1248" y="1177"/>
                  <a:pt x="1242" y="1400"/>
                  <a:pt x="1185" y="1583"/>
                </a:cubicBezTo>
                <a:cubicBezTo>
                  <a:pt x="1128" y="1766"/>
                  <a:pt x="991" y="1958"/>
                  <a:pt x="865" y="2086"/>
                </a:cubicBezTo>
                <a:cubicBezTo>
                  <a:pt x="739" y="2214"/>
                  <a:pt x="566" y="2298"/>
                  <a:pt x="432" y="2354"/>
                </a:cubicBezTo>
                <a:cubicBezTo>
                  <a:pt x="298" y="2411"/>
                  <a:pt x="126" y="2420"/>
                  <a:pt x="63" y="2424"/>
                </a:cubicBezTo>
                <a:cubicBezTo>
                  <a:pt x="0" y="2429"/>
                  <a:pt x="55" y="2496"/>
                  <a:pt x="55" y="2379"/>
                </a:cubicBezTo>
                <a:cubicBezTo>
                  <a:pt x="55" y="2262"/>
                  <a:pt x="64" y="1883"/>
                  <a:pt x="67" y="1718"/>
                </a:cubicBezTo>
                <a:cubicBezTo>
                  <a:pt x="70" y="1553"/>
                  <a:pt x="67" y="1641"/>
                  <a:pt x="67" y="138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666880" y="2654280"/>
            <a:ext cx="1963800" cy="3119400"/>
          </a:xfrm>
          <a:custGeom>
            <a:avLst/>
            <a:gdLst/>
            <a:ahLst/>
            <a:rect l="l" t="t" r="r" b="b"/>
            <a:pathLst>
              <a:path w="1237" h="1965">
                <a:moveTo>
                  <a:pt x="1162" y="1907"/>
                </a:moveTo>
                <a:cubicBezTo>
                  <a:pt x="1152" y="1965"/>
                  <a:pt x="1155" y="1916"/>
                  <a:pt x="1099" y="1907"/>
                </a:cubicBezTo>
                <a:cubicBezTo>
                  <a:pt x="1043" y="1898"/>
                  <a:pt x="914" y="1886"/>
                  <a:pt x="824" y="1856"/>
                </a:cubicBezTo>
                <a:cubicBezTo>
                  <a:pt x="734" y="1826"/>
                  <a:pt x="642" y="1774"/>
                  <a:pt x="561" y="1724"/>
                </a:cubicBezTo>
                <a:cubicBezTo>
                  <a:pt x="480" y="1674"/>
                  <a:pt x="396" y="1610"/>
                  <a:pt x="337" y="1553"/>
                </a:cubicBezTo>
                <a:cubicBezTo>
                  <a:pt x="278" y="1496"/>
                  <a:pt x="243" y="1438"/>
                  <a:pt x="205" y="1386"/>
                </a:cubicBezTo>
                <a:cubicBezTo>
                  <a:pt x="169" y="1335"/>
                  <a:pt x="146" y="1300"/>
                  <a:pt x="119" y="1243"/>
                </a:cubicBezTo>
                <a:cubicBezTo>
                  <a:pt x="93" y="1186"/>
                  <a:pt x="63" y="1130"/>
                  <a:pt x="45" y="1044"/>
                </a:cubicBezTo>
                <a:cubicBezTo>
                  <a:pt x="26" y="958"/>
                  <a:pt x="0" y="848"/>
                  <a:pt x="7" y="728"/>
                </a:cubicBezTo>
                <a:cubicBezTo>
                  <a:pt x="15" y="608"/>
                  <a:pt x="51" y="435"/>
                  <a:pt x="87" y="325"/>
                </a:cubicBezTo>
                <a:cubicBezTo>
                  <a:pt x="123" y="215"/>
                  <a:pt x="194" y="112"/>
                  <a:pt x="225" y="68"/>
                </a:cubicBezTo>
                <a:cubicBezTo>
                  <a:pt x="256" y="24"/>
                  <a:pt x="200" y="0"/>
                  <a:pt x="276" y="59"/>
                </a:cubicBezTo>
                <a:cubicBezTo>
                  <a:pt x="352" y="118"/>
                  <a:pt x="532" y="291"/>
                  <a:pt x="678" y="419"/>
                </a:cubicBezTo>
                <a:cubicBezTo>
                  <a:pt x="824" y="547"/>
                  <a:pt x="1073" y="758"/>
                  <a:pt x="1155" y="827"/>
                </a:cubicBezTo>
                <a:cubicBezTo>
                  <a:pt x="1237" y="896"/>
                  <a:pt x="1167" y="796"/>
                  <a:pt x="1170" y="833"/>
                </a:cubicBezTo>
                <a:cubicBezTo>
                  <a:pt x="1173" y="870"/>
                  <a:pt x="1175" y="927"/>
                  <a:pt x="1174" y="1048"/>
                </a:cubicBezTo>
                <a:cubicBezTo>
                  <a:pt x="1173" y="1169"/>
                  <a:pt x="1164" y="1417"/>
                  <a:pt x="1162" y="1560"/>
                </a:cubicBezTo>
                <a:cubicBezTo>
                  <a:pt x="1160" y="1703"/>
                  <a:pt x="1172" y="1849"/>
                  <a:pt x="1162" y="1907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33920" y="39625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am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b2b2b2"/>
                </a:solidFill>
                <a:latin typeface="Arial Black"/>
              </a:rPr>
              <a:t>Pale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43280" y="2174760"/>
            <a:ext cx="1768320" cy="1976400"/>
          </a:xfrm>
          <a:custGeom>
            <a:avLst/>
            <a:gdLst/>
            <a:ahLst/>
            <a:rect l="l" t="t" r="r" b="b"/>
            <a:pathLst>
              <a:path w="1114" h="1245">
                <a:moveTo>
                  <a:pt x="1033" y="1118"/>
                </a:moveTo>
                <a:cubicBezTo>
                  <a:pt x="909" y="1040"/>
                  <a:pt x="294" y="471"/>
                  <a:pt x="147" y="340"/>
                </a:cubicBezTo>
                <a:cubicBezTo>
                  <a:pt x="0" y="209"/>
                  <a:pt x="136" y="354"/>
                  <a:pt x="153" y="331"/>
                </a:cubicBezTo>
                <a:cubicBezTo>
                  <a:pt x="170" y="308"/>
                  <a:pt x="202" y="245"/>
                  <a:pt x="249" y="205"/>
                </a:cubicBezTo>
                <a:cubicBezTo>
                  <a:pt x="296" y="165"/>
                  <a:pt x="397" y="97"/>
                  <a:pt x="438" y="91"/>
                </a:cubicBezTo>
                <a:cubicBezTo>
                  <a:pt x="479" y="85"/>
                  <a:pt x="399" y="0"/>
                  <a:pt x="497" y="166"/>
                </a:cubicBezTo>
                <a:cubicBezTo>
                  <a:pt x="595" y="332"/>
                  <a:pt x="936" y="927"/>
                  <a:pt x="1025" y="1086"/>
                </a:cubicBezTo>
                <a:cubicBezTo>
                  <a:pt x="1114" y="1245"/>
                  <a:pt x="1031" y="1111"/>
                  <a:pt x="1033" y="1118"/>
                </a:cubicBezTo>
                <a:close/>
              </a:path>
            </a:pathLst>
          </a:custGeom>
          <a:solidFill>
            <a:srgbClr val="5f5f5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2876400">
            <a:off x="3276360" y="28954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e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495680" y="2057400"/>
            <a:ext cx="0" cy="1905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2286000" y="1600200"/>
            <a:ext cx="4495680" cy="4495680"/>
            <a:chOff x="2286000" y="1600200"/>
            <a:chExt cx="4495680" cy="449568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2286000" y="1600200"/>
              <a:ext cx="44956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4419720" y="1828800"/>
              <a:ext cx="1981080" cy="396252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66880" y="2654280"/>
              <a:ext cx="1963800" cy="311940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4495680" y="2057400"/>
              <a:ext cx="0" cy="1905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33920" y="3962520"/>
              <a:ext cx="1828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32120" y="2163600"/>
              <a:ext cx="1812960" cy="1854360"/>
            </a:xfrm>
            <a:custGeom>
              <a:avLst/>
              <a:gdLst/>
              <a:ahLst/>
              <a:rect l="l" t="t" r="r" b="b"/>
              <a:pathLst>
                <a:path w="1142" h="1168">
                  <a:moveTo>
                    <a:pt x="1084" y="1139"/>
                  </a:moveTo>
                  <a:cubicBezTo>
                    <a:pt x="1026" y="1168"/>
                    <a:pt x="308" y="480"/>
                    <a:pt x="154" y="347"/>
                  </a:cubicBezTo>
                  <a:cubicBezTo>
                    <a:pt x="0" y="214"/>
                    <a:pt x="143" y="361"/>
                    <a:pt x="160" y="338"/>
                  </a:cubicBezTo>
                  <a:cubicBezTo>
                    <a:pt x="177" y="315"/>
                    <a:pt x="209" y="252"/>
                    <a:pt x="256" y="212"/>
                  </a:cubicBezTo>
                  <a:cubicBezTo>
                    <a:pt x="303" y="172"/>
                    <a:pt x="404" y="104"/>
                    <a:pt x="445" y="98"/>
                  </a:cubicBezTo>
                  <a:cubicBezTo>
                    <a:pt x="486" y="92"/>
                    <a:pt x="398" y="0"/>
                    <a:pt x="504" y="173"/>
                  </a:cubicBezTo>
                  <a:cubicBezTo>
                    <a:pt x="610" y="346"/>
                    <a:pt x="1142" y="1110"/>
                    <a:pt x="1084" y="1139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2876400">
              <a:off x="3276360" y="2895480"/>
              <a:ext cx="1066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 flipH="1" flipV="1">
            <a:off x="5486400" y="4038120"/>
            <a:ext cx="838080" cy="7621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1218960" y="4038480"/>
            <a:ext cx="426708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5334120" y="3428640"/>
            <a:ext cx="1218960" cy="10666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219320" y="3429000"/>
            <a:ext cx="41148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5257800" y="2971800"/>
            <a:ext cx="1447920" cy="1371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219320" y="2971800"/>
            <a:ext cx="403848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0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losion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3124080"/>
            <a:ext cx="3505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6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fish &amp; invertebrate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2666880"/>
            <a:ext cx="388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3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land plant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480" y="2209680"/>
            <a:ext cx="388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2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ptile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410080" y="2514240"/>
            <a:ext cx="1524240" cy="16002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218960" y="2514600"/>
            <a:ext cx="419076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5638680" y="1905120"/>
            <a:ext cx="1524240" cy="213336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160020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5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ss Extinction 90% of al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219320" y="1905120"/>
            <a:ext cx="441936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b2b2b2"/>
                </a:solidFill>
                <a:latin typeface="Arial Black"/>
              </a:rPr>
              <a:t>Pale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8" dur="2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5.55556E-006 L 0.49167 0.44445 E">
                                      <p:cBhvr>
                                        <p:cTn id="450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are major geologic events of the </a:t>
            </a:r>
            <a:r>
              <a:rPr b="1" lang="en-US" sz="3200" spc="-1" strike="noStrike">
                <a:solidFill>
                  <a:srgbClr val="b2b2b2"/>
                </a:solidFill>
                <a:latin typeface="Arial Black"/>
              </a:rPr>
              <a:t>Paleozoic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6400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570 mya-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_____ of lif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536 mya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fish &amp; invertebrates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513 mya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land plant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322 mya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reptiles appe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45 mya-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Mass Extinction ___% of all lif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34320" y="1752480"/>
            <a:ext cx="175248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010280" y="205740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9144000" cy="4876920"/>
          </a:xfrm>
          <a:prstGeom prst="rect">
            <a:avLst/>
          </a:prstGeom>
          <a:gradFill rotWithShape="0">
            <a:gsLst>
              <a:gs pos="0">
                <a:srgbClr val="83afdb"/>
              </a:gs>
              <a:gs pos="100000">
                <a:srgbClr val="99ccff">
                  <a:alpha val="8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1295280" y="3429000"/>
            <a:ext cx="11960280" cy="914400"/>
          </a:xfrm>
          <a:custGeom>
            <a:avLst/>
            <a:gdLst/>
            <a:ahLst/>
            <a:rect l="l" t="t" r="r" b="b"/>
            <a:pathLst>
              <a:path w="7534" h="484">
                <a:moveTo>
                  <a:pt x="403" y="112"/>
                </a:moveTo>
                <a:cubicBezTo>
                  <a:pt x="555" y="121"/>
                  <a:pt x="912" y="191"/>
                  <a:pt x="1120" y="180"/>
                </a:cubicBezTo>
                <a:cubicBezTo>
                  <a:pt x="1328" y="169"/>
                  <a:pt x="1439" y="28"/>
                  <a:pt x="1648" y="44"/>
                </a:cubicBezTo>
                <a:cubicBezTo>
                  <a:pt x="1857" y="60"/>
                  <a:pt x="2192" y="253"/>
                  <a:pt x="2376" y="276"/>
                </a:cubicBezTo>
                <a:cubicBezTo>
                  <a:pt x="2560" y="299"/>
                  <a:pt x="2623" y="223"/>
                  <a:pt x="2752" y="180"/>
                </a:cubicBezTo>
                <a:cubicBezTo>
                  <a:pt x="2881" y="137"/>
                  <a:pt x="3028" y="39"/>
                  <a:pt x="3152" y="20"/>
                </a:cubicBezTo>
                <a:cubicBezTo>
                  <a:pt x="3276" y="1"/>
                  <a:pt x="3400" y="52"/>
                  <a:pt x="3496" y="68"/>
                </a:cubicBezTo>
                <a:cubicBezTo>
                  <a:pt x="3592" y="84"/>
                  <a:pt x="3578" y="86"/>
                  <a:pt x="3729" y="115"/>
                </a:cubicBezTo>
                <a:cubicBezTo>
                  <a:pt x="3880" y="144"/>
                  <a:pt x="4175" y="261"/>
                  <a:pt x="4400" y="244"/>
                </a:cubicBezTo>
                <a:cubicBezTo>
                  <a:pt x="4625" y="227"/>
                  <a:pt x="4824" y="24"/>
                  <a:pt x="5080" y="12"/>
                </a:cubicBezTo>
                <a:cubicBezTo>
                  <a:pt x="5336" y="0"/>
                  <a:pt x="5720" y="154"/>
                  <a:pt x="5938" y="174"/>
                </a:cubicBezTo>
                <a:cubicBezTo>
                  <a:pt x="6156" y="194"/>
                  <a:pt x="6204" y="156"/>
                  <a:pt x="6389" y="133"/>
                </a:cubicBezTo>
                <a:cubicBezTo>
                  <a:pt x="6574" y="110"/>
                  <a:pt x="6910" y="34"/>
                  <a:pt x="7048" y="36"/>
                </a:cubicBezTo>
                <a:cubicBezTo>
                  <a:pt x="7186" y="38"/>
                  <a:pt x="7152" y="113"/>
                  <a:pt x="7216" y="148"/>
                </a:cubicBezTo>
                <a:cubicBezTo>
                  <a:pt x="7280" y="183"/>
                  <a:pt x="7439" y="197"/>
                  <a:pt x="7432" y="244"/>
                </a:cubicBezTo>
                <a:cubicBezTo>
                  <a:pt x="7425" y="291"/>
                  <a:pt x="7534" y="395"/>
                  <a:pt x="7176" y="428"/>
                </a:cubicBezTo>
                <a:cubicBezTo>
                  <a:pt x="6818" y="461"/>
                  <a:pt x="5847" y="435"/>
                  <a:pt x="5285" y="443"/>
                </a:cubicBezTo>
                <a:cubicBezTo>
                  <a:pt x="4723" y="451"/>
                  <a:pt x="4356" y="474"/>
                  <a:pt x="3803" y="475"/>
                </a:cubicBezTo>
                <a:cubicBezTo>
                  <a:pt x="3250" y="476"/>
                  <a:pt x="2489" y="449"/>
                  <a:pt x="1966" y="447"/>
                </a:cubicBezTo>
                <a:cubicBezTo>
                  <a:pt x="1443" y="446"/>
                  <a:pt x="978" y="466"/>
                  <a:pt x="669" y="465"/>
                </a:cubicBezTo>
                <a:cubicBezTo>
                  <a:pt x="360" y="465"/>
                  <a:pt x="222" y="484"/>
                  <a:pt x="113" y="443"/>
                </a:cubicBezTo>
                <a:cubicBezTo>
                  <a:pt x="4" y="401"/>
                  <a:pt x="0" y="270"/>
                  <a:pt x="16" y="217"/>
                </a:cubicBezTo>
                <a:cubicBezTo>
                  <a:pt x="32" y="165"/>
                  <a:pt x="145" y="145"/>
                  <a:pt x="209" y="127"/>
                </a:cubicBezTo>
                <a:cubicBezTo>
                  <a:pt x="274" y="109"/>
                  <a:pt x="209" y="104"/>
                  <a:pt x="403" y="11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2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362320" y="0"/>
            <a:ext cx="1447560" cy="106668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0"/>
            <a:ext cx="2133360" cy="121752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380880"/>
            <a:ext cx="1447920" cy="106704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76920" y="380880"/>
            <a:ext cx="2133360" cy="121788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sozoic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-685800" y="3809880"/>
            <a:ext cx="10820520" cy="1143000"/>
          </a:xfrm>
          <a:custGeom>
            <a:avLst/>
            <a:gdLst/>
            <a:ahLst/>
            <a:rect l="l" t="t" r="r" b="b"/>
            <a:pathLst>
              <a:path w="6768" h="1488">
                <a:moveTo>
                  <a:pt x="400" y="29"/>
                </a:moveTo>
                <a:cubicBezTo>
                  <a:pt x="533" y="80"/>
                  <a:pt x="783" y="349"/>
                  <a:pt x="1008" y="392"/>
                </a:cubicBezTo>
                <a:cubicBezTo>
                  <a:pt x="1233" y="435"/>
                  <a:pt x="1520" y="293"/>
                  <a:pt x="1752" y="288"/>
                </a:cubicBezTo>
                <a:cubicBezTo>
                  <a:pt x="1984" y="283"/>
                  <a:pt x="2163" y="393"/>
                  <a:pt x="2400" y="360"/>
                </a:cubicBezTo>
                <a:cubicBezTo>
                  <a:pt x="2637" y="327"/>
                  <a:pt x="2889" y="81"/>
                  <a:pt x="3176" y="88"/>
                </a:cubicBezTo>
                <a:cubicBezTo>
                  <a:pt x="3463" y="95"/>
                  <a:pt x="3804" y="408"/>
                  <a:pt x="4120" y="400"/>
                </a:cubicBezTo>
                <a:cubicBezTo>
                  <a:pt x="4436" y="392"/>
                  <a:pt x="4776" y="61"/>
                  <a:pt x="5072" y="40"/>
                </a:cubicBezTo>
                <a:cubicBezTo>
                  <a:pt x="5368" y="19"/>
                  <a:pt x="5684" y="260"/>
                  <a:pt x="5896" y="272"/>
                </a:cubicBezTo>
                <a:cubicBezTo>
                  <a:pt x="6108" y="284"/>
                  <a:pt x="6228" y="133"/>
                  <a:pt x="6344" y="112"/>
                </a:cubicBezTo>
                <a:cubicBezTo>
                  <a:pt x="6460" y="91"/>
                  <a:pt x="6567" y="23"/>
                  <a:pt x="6592" y="147"/>
                </a:cubicBezTo>
                <a:cubicBezTo>
                  <a:pt x="6617" y="271"/>
                  <a:pt x="6501" y="662"/>
                  <a:pt x="6496" y="854"/>
                </a:cubicBezTo>
                <a:cubicBezTo>
                  <a:pt x="6491" y="1047"/>
                  <a:pt x="6768" y="1228"/>
                  <a:pt x="6560" y="1306"/>
                </a:cubicBezTo>
                <a:cubicBezTo>
                  <a:pt x="6352" y="1385"/>
                  <a:pt x="5712" y="1301"/>
                  <a:pt x="5248" y="1326"/>
                </a:cubicBezTo>
                <a:cubicBezTo>
                  <a:pt x="4784" y="1350"/>
                  <a:pt x="4325" y="1450"/>
                  <a:pt x="3776" y="1454"/>
                </a:cubicBezTo>
                <a:cubicBezTo>
                  <a:pt x="3227" y="1457"/>
                  <a:pt x="2471" y="1352"/>
                  <a:pt x="1952" y="1346"/>
                </a:cubicBezTo>
                <a:cubicBezTo>
                  <a:pt x="1433" y="1339"/>
                  <a:pt x="971" y="1418"/>
                  <a:pt x="664" y="1414"/>
                </a:cubicBezTo>
                <a:cubicBezTo>
                  <a:pt x="357" y="1411"/>
                  <a:pt x="220" y="1488"/>
                  <a:pt x="112" y="1326"/>
                </a:cubicBezTo>
                <a:cubicBezTo>
                  <a:pt x="4" y="1164"/>
                  <a:pt x="0" y="648"/>
                  <a:pt x="16" y="442"/>
                </a:cubicBezTo>
                <a:cubicBezTo>
                  <a:pt x="32" y="236"/>
                  <a:pt x="144" y="157"/>
                  <a:pt x="208" y="88"/>
                </a:cubicBezTo>
                <a:cubicBezTo>
                  <a:pt x="272" y="20"/>
                  <a:pt x="208" y="0"/>
                  <a:pt x="400" y="29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2c5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-609480" y="3886200"/>
            <a:ext cx="10534680" cy="3200400"/>
          </a:xfrm>
          <a:custGeom>
            <a:avLst/>
            <a:gdLst/>
            <a:ahLst/>
            <a:rect l="l" t="t" r="r" b="b"/>
            <a:pathLst>
              <a:path w="6636" h="2016">
                <a:moveTo>
                  <a:pt x="400" y="40"/>
                </a:moveTo>
                <a:cubicBezTo>
                  <a:pt x="592" y="80"/>
                  <a:pt x="1124" y="286"/>
                  <a:pt x="1360" y="359"/>
                </a:cubicBezTo>
                <a:cubicBezTo>
                  <a:pt x="1596" y="432"/>
                  <a:pt x="1612" y="464"/>
                  <a:pt x="1816" y="480"/>
                </a:cubicBezTo>
                <a:cubicBezTo>
                  <a:pt x="2020" y="496"/>
                  <a:pt x="2356" y="481"/>
                  <a:pt x="2584" y="456"/>
                </a:cubicBezTo>
                <a:cubicBezTo>
                  <a:pt x="2812" y="431"/>
                  <a:pt x="2985" y="356"/>
                  <a:pt x="3184" y="333"/>
                </a:cubicBezTo>
                <a:cubicBezTo>
                  <a:pt x="3383" y="310"/>
                  <a:pt x="3491" y="306"/>
                  <a:pt x="3776" y="319"/>
                </a:cubicBezTo>
                <a:cubicBezTo>
                  <a:pt x="4061" y="333"/>
                  <a:pt x="4531" y="432"/>
                  <a:pt x="4896" y="413"/>
                </a:cubicBezTo>
                <a:cubicBezTo>
                  <a:pt x="5261" y="393"/>
                  <a:pt x="5717" y="248"/>
                  <a:pt x="5968" y="200"/>
                </a:cubicBezTo>
                <a:cubicBezTo>
                  <a:pt x="6219" y="151"/>
                  <a:pt x="6296" y="120"/>
                  <a:pt x="6400" y="120"/>
                </a:cubicBezTo>
                <a:cubicBezTo>
                  <a:pt x="6504" y="120"/>
                  <a:pt x="6576" y="27"/>
                  <a:pt x="6592" y="200"/>
                </a:cubicBezTo>
                <a:cubicBezTo>
                  <a:pt x="6608" y="373"/>
                  <a:pt x="6501" y="897"/>
                  <a:pt x="6496" y="1158"/>
                </a:cubicBezTo>
                <a:cubicBezTo>
                  <a:pt x="6491" y="1419"/>
                  <a:pt x="6636" y="1634"/>
                  <a:pt x="6560" y="1770"/>
                </a:cubicBezTo>
                <a:cubicBezTo>
                  <a:pt x="6484" y="1906"/>
                  <a:pt x="6504" y="1943"/>
                  <a:pt x="6040" y="1976"/>
                </a:cubicBezTo>
                <a:cubicBezTo>
                  <a:pt x="5576" y="2009"/>
                  <a:pt x="4461" y="1974"/>
                  <a:pt x="3776" y="1969"/>
                </a:cubicBezTo>
                <a:cubicBezTo>
                  <a:pt x="3091" y="1964"/>
                  <a:pt x="2447" y="1953"/>
                  <a:pt x="1928" y="1944"/>
                </a:cubicBezTo>
                <a:cubicBezTo>
                  <a:pt x="1409" y="1935"/>
                  <a:pt x="967" y="1941"/>
                  <a:pt x="664" y="1916"/>
                </a:cubicBezTo>
                <a:cubicBezTo>
                  <a:pt x="361" y="1891"/>
                  <a:pt x="220" y="2016"/>
                  <a:pt x="112" y="1796"/>
                </a:cubicBezTo>
                <a:cubicBezTo>
                  <a:pt x="4" y="1577"/>
                  <a:pt x="0" y="878"/>
                  <a:pt x="16" y="599"/>
                </a:cubicBezTo>
                <a:cubicBezTo>
                  <a:pt x="32" y="319"/>
                  <a:pt x="144" y="213"/>
                  <a:pt x="208" y="120"/>
                </a:cubicBezTo>
                <a:cubicBezTo>
                  <a:pt x="272" y="27"/>
                  <a:pt x="208" y="0"/>
                  <a:pt x="400" y="40"/>
                </a:cubicBezTo>
                <a:close/>
              </a:path>
            </a:pathLst>
          </a:custGeom>
          <a:gradFill rotWithShape="0">
            <a:gsLst>
              <a:gs pos="0">
                <a:srgbClr val="122400"/>
              </a:gs>
              <a:gs pos="100000">
                <a:srgbClr val="33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67280" y="5181480"/>
            <a:ext cx="4010040" cy="703440"/>
          </a:xfrm>
          <a:custGeom>
            <a:avLst/>
            <a:gdLst/>
            <a:ahLst/>
            <a:rect l="l" t="t" r="r" b="b"/>
            <a:pathLst>
              <a:path w="2526" h="443">
                <a:moveTo>
                  <a:pt x="1418" y="12"/>
                </a:moveTo>
                <a:cubicBezTo>
                  <a:pt x="1274" y="12"/>
                  <a:pt x="1113" y="41"/>
                  <a:pt x="890" y="60"/>
                </a:cubicBezTo>
                <a:cubicBezTo>
                  <a:pt x="667" y="79"/>
                  <a:pt x="162" y="102"/>
                  <a:pt x="81" y="128"/>
                </a:cubicBezTo>
                <a:cubicBezTo>
                  <a:pt x="0" y="154"/>
                  <a:pt x="373" y="172"/>
                  <a:pt x="401" y="216"/>
                </a:cubicBezTo>
                <a:cubicBezTo>
                  <a:pt x="429" y="260"/>
                  <a:pt x="20" y="367"/>
                  <a:pt x="249" y="392"/>
                </a:cubicBezTo>
                <a:cubicBezTo>
                  <a:pt x="478" y="417"/>
                  <a:pt x="1427" y="365"/>
                  <a:pt x="1778" y="368"/>
                </a:cubicBezTo>
                <a:cubicBezTo>
                  <a:pt x="2129" y="371"/>
                  <a:pt x="2230" y="443"/>
                  <a:pt x="2354" y="408"/>
                </a:cubicBezTo>
                <a:cubicBezTo>
                  <a:pt x="2478" y="373"/>
                  <a:pt x="2518" y="218"/>
                  <a:pt x="2522" y="156"/>
                </a:cubicBezTo>
                <a:cubicBezTo>
                  <a:pt x="2526" y="94"/>
                  <a:pt x="2427" y="61"/>
                  <a:pt x="2378" y="36"/>
                </a:cubicBezTo>
                <a:cubicBezTo>
                  <a:pt x="2329" y="11"/>
                  <a:pt x="2282" y="8"/>
                  <a:pt x="2226" y="4"/>
                </a:cubicBezTo>
                <a:cubicBezTo>
                  <a:pt x="2170" y="0"/>
                  <a:pt x="2121" y="3"/>
                  <a:pt x="2042" y="12"/>
                </a:cubicBezTo>
                <a:cubicBezTo>
                  <a:pt x="1963" y="21"/>
                  <a:pt x="1858" y="60"/>
                  <a:pt x="1754" y="60"/>
                </a:cubicBezTo>
                <a:cubicBezTo>
                  <a:pt x="1650" y="60"/>
                  <a:pt x="1562" y="12"/>
                  <a:pt x="1418" y="1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9907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772400" y="3657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3505320" y="4038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3657600" y="3733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>
            <a:lum bright="-24000"/>
          </a:blip>
          <a:stretch/>
        </p:blipFill>
        <p:spPr>
          <a:xfrm>
            <a:off x="7162920" y="3733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6">
            <a:lum bright="-24000"/>
          </a:blip>
          <a:stretch/>
        </p:blipFill>
        <p:spPr>
          <a:xfrm>
            <a:off x="2133720" y="3809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7">
            <a:lum bright="-24000"/>
          </a:blip>
          <a:stretch/>
        </p:blipFill>
        <p:spPr>
          <a:xfrm>
            <a:off x="4724280" y="3809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8"/>
          <a:stretch/>
        </p:blipFill>
        <p:spPr>
          <a:xfrm>
            <a:off x="-1322280" y="3124080"/>
            <a:ext cx="1322280" cy="16542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9"/>
          <a:stretch/>
        </p:blipFill>
        <p:spPr>
          <a:xfrm>
            <a:off x="-457200" y="38098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0"/>
          <a:stretch/>
        </p:blipFill>
        <p:spPr>
          <a:xfrm rot="21420000">
            <a:off x="-2590560" y="4647960"/>
            <a:ext cx="1819440" cy="1455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1"/>
          <a:stretch/>
        </p:blipFill>
        <p:spPr>
          <a:xfrm>
            <a:off x="3886200" y="43434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85800" y="144792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sozoic Era was the age of rept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witnessed the evolution of the lar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 to have ever walked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2"/>
          <a:stretch/>
        </p:blipFill>
        <p:spPr>
          <a:xfrm>
            <a:off x="7543800" y="4495680"/>
            <a:ext cx="20574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382" name=""/>
          <p:cNvGrpSpPr/>
          <p:nvPr/>
        </p:nvGrpSpPr>
        <p:grpSpPr>
          <a:xfrm>
            <a:off x="6172200" y="380880"/>
            <a:ext cx="2971800" cy="2743200"/>
            <a:chOff x="6172200" y="380880"/>
            <a:chExt cx="2971800" cy="2743200"/>
          </a:xfrm>
        </p:grpSpPr>
        <p:pic>
          <p:nvPicPr>
            <p:cNvPr id="383" name="" descr=""/>
            <p:cNvPicPr/>
            <p:nvPr/>
          </p:nvPicPr>
          <p:blipFill>
            <a:blip r:embed="rId13"/>
            <a:stretch/>
          </p:blipFill>
          <p:spPr>
            <a:xfrm>
              <a:off x="6172200" y="380880"/>
              <a:ext cx="29718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7582680" y="520200"/>
              <a:ext cx="1309320" cy="241776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23840" y="1023840"/>
              <a:ext cx="1298160" cy="190332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29080" y="1822320"/>
              <a:ext cx="12088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40480" y="731160"/>
              <a:ext cx="1168920" cy="1206000"/>
            </a:xfrm>
            <a:custGeom>
              <a:avLst/>
              <a:gdLst/>
              <a:ahLst/>
              <a:rect l="l" t="t" r="r" b="b"/>
              <a:pathLst>
                <a:path w="1114" h="1245">
                  <a:moveTo>
                    <a:pt x="1033" y="1118"/>
                  </a:moveTo>
                  <a:cubicBezTo>
                    <a:pt x="909" y="1040"/>
                    <a:pt x="294" y="471"/>
                    <a:pt x="147" y="340"/>
                  </a:cubicBezTo>
                  <a:cubicBezTo>
                    <a:pt x="0" y="209"/>
                    <a:pt x="136" y="354"/>
                    <a:pt x="153" y="331"/>
                  </a:cubicBezTo>
                  <a:cubicBezTo>
                    <a:pt x="170" y="308"/>
                    <a:pt x="202" y="245"/>
                    <a:pt x="249" y="205"/>
                  </a:cubicBezTo>
                  <a:cubicBezTo>
                    <a:pt x="296" y="165"/>
                    <a:pt x="397" y="97"/>
                    <a:pt x="438" y="91"/>
                  </a:cubicBezTo>
                  <a:cubicBezTo>
                    <a:pt x="479" y="85"/>
                    <a:pt x="399" y="0"/>
                    <a:pt x="497" y="166"/>
                  </a:cubicBezTo>
                  <a:cubicBezTo>
                    <a:pt x="595" y="332"/>
                    <a:pt x="936" y="927"/>
                    <a:pt x="1025" y="1086"/>
                  </a:cubicBezTo>
                  <a:cubicBezTo>
                    <a:pt x="1114" y="1245"/>
                    <a:pt x="1031" y="1111"/>
                    <a:pt x="1033" y="1118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2876400">
              <a:off x="6853680" y="1163160"/>
              <a:ext cx="6508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03720" y="547200"/>
              <a:ext cx="764640" cy="1404720"/>
            </a:xfrm>
            <a:custGeom>
              <a:avLst/>
              <a:gdLst/>
              <a:ahLst/>
              <a:rect l="l" t="t" r="r" b="b"/>
              <a:pathLst>
                <a:path w="729" h="1450">
                  <a:moveTo>
                    <a:pt x="699" y="1304"/>
                  </a:moveTo>
                  <a:cubicBezTo>
                    <a:pt x="601" y="1144"/>
                    <a:pt x="198" y="439"/>
                    <a:pt x="99" y="264"/>
                  </a:cubicBezTo>
                  <a:cubicBezTo>
                    <a:pt x="0" y="89"/>
                    <a:pt x="82" y="269"/>
                    <a:pt x="107" y="256"/>
                  </a:cubicBezTo>
                  <a:cubicBezTo>
                    <a:pt x="132" y="243"/>
                    <a:pt x="190" y="205"/>
                    <a:pt x="247" y="184"/>
                  </a:cubicBezTo>
                  <a:cubicBezTo>
                    <a:pt x="304" y="163"/>
                    <a:pt x="410" y="127"/>
                    <a:pt x="447" y="128"/>
                  </a:cubicBezTo>
                  <a:cubicBezTo>
                    <a:pt x="484" y="129"/>
                    <a:pt x="430" y="0"/>
                    <a:pt x="471" y="189"/>
                  </a:cubicBezTo>
                  <a:cubicBezTo>
                    <a:pt x="512" y="378"/>
                    <a:pt x="653" y="1078"/>
                    <a:pt x="691" y="1264"/>
                  </a:cubicBezTo>
                  <a:cubicBezTo>
                    <a:pt x="729" y="1450"/>
                    <a:pt x="697" y="1296"/>
                    <a:pt x="699" y="1304"/>
                  </a:cubicBezTo>
                  <a:close/>
                </a:path>
              </a:pathLst>
            </a:custGeom>
            <a:solidFill>
              <a:srgbClr val="008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7632720" y="613080"/>
              <a:ext cx="0" cy="1208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3994200">
              <a:off x="7055280" y="1070640"/>
              <a:ext cx="6508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sozo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57200" y="2057400"/>
            <a:ext cx="4952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nosaurs would eventually go extin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ive rise to modern day bi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4"/>
          <a:stretch/>
        </p:blipFill>
        <p:spPr>
          <a:xfrm>
            <a:off x="6172200" y="51814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5"/>
          <a:stretch/>
        </p:blipFill>
        <p:spPr>
          <a:xfrm>
            <a:off x="6095880" y="52578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6"/>
          <a:stretch/>
        </p:blipFill>
        <p:spPr>
          <a:xfrm>
            <a:off x="5867280" y="5143680"/>
            <a:ext cx="457200" cy="34272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17"/>
          <a:stretch/>
        </p:blipFill>
        <p:spPr>
          <a:xfrm>
            <a:off x="6858000" y="541008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18"/>
          <a:stretch/>
        </p:blipFill>
        <p:spPr>
          <a:xfrm>
            <a:off x="6629400" y="5334120"/>
            <a:ext cx="762120" cy="5713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19"/>
          <a:stretch/>
        </p:blipFill>
        <p:spPr>
          <a:xfrm>
            <a:off x="-914400" y="5105520"/>
            <a:ext cx="1066680" cy="642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533520" y="2666880"/>
            <a:ext cx="4952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as we all know, these dinosaurs d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and left a world for other animals to inh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0.05174 0.01482 0.1073 0.01204 0.17136 0.02037 C 0.23542 0.02871 0.30851 0.04005 0.38473 0.04954 C 0.46094 0.05903 0.54931 0.07014 0.62917 0.07732 C 0.70903 0.08449 0.79723 0.09236 0.86372 0.09213 C 0.93021 0.0919 0.9783 0.07917 1.02778 0.07547 C 1.07709 0.07176 1.12657 0.07639 1.16111 0.06991 C 1.19566 0.06343 1.21945 0.04352 1.23473 0.03658 E">
                                      <p:cBhvr>
                                        <p:cTn id="526" dur="25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0.03473 C 0.10104 -0.03889 0.20225 -0.0426 0.25972 -0.04422 C 0.31718 -0.04584 0.30468 -0.04746 0.34427 -0.04422 C 0.3842 -0.04098 0.43454 -0.01227 0.49861 -0.02524 C 0.56267 -0.0382 0.65277 -0.1007 0.72829 -0.12269 C 0.80382 -0.14468 0.84722 -0.15672 0.95191 -0.15787 C 1.05659 -0.15903 1.27257 -0.13542 1.35694 -0.12963 E">
                                      <p:cBhvr>
                                        <p:cTn id="528" dur="29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9259E-006 C 0.06979 0.01852 0.30399 0.10764 0.41666 0.11088 C 0.52934 0.11412 0.596 0.03819 0.67639 0.02014 C 0.75677 0.00208 0.83246 0.00301 0.89861 0.00185 C 0.96475 0.00069 1.00503 0.01643 1.07361 0.01296 C 1.14219 0.00949 1.27031 -0.0132 1.30972 -0.01852 E">
                                      <p:cBhvr>
                                        <p:cTn id="530" dur="25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991040" y="1600200"/>
            <a:ext cx="4152960" cy="41529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7086600" y="3657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114800" y="762120"/>
            <a:ext cx="5867280" cy="5867280"/>
          </a:xfrm>
          <a:prstGeom prst="donut">
            <a:avLst>
              <a:gd name="adj" fmla="val 1757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81480" y="1828800"/>
            <a:ext cx="3733920" cy="3657600"/>
          </a:xfrm>
          <a:prstGeom prst="ellipse">
            <a:avLst/>
          </a:prstGeom>
          <a:blipFill rotWithShape="0">
            <a:blip r:embed="rId3">
              <a:alphaModFix amt="3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nosaur De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mounting evidence that a large meteorite impact slammed into earth 65 mya ending the Cenozoic 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mpact would have caused widespread devastation and f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-2133720" y="-1600200"/>
            <a:ext cx="25146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1.11111E-006 L 0.90416 0.53889 E">
                                      <p:cBhvr>
                                        <p:cTn id="551" dur="5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3" dur="5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8500"/>
                            </p:stCondLst>
                            <p:childTnLst>
                              <p:par>
                                <p:cTn id="5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95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4991040" y="1600200"/>
            <a:ext cx="4152960" cy="41529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7086600" y="3657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4114800" y="762120"/>
            <a:ext cx="5867280" cy="5867280"/>
          </a:xfrm>
          <a:prstGeom prst="donut">
            <a:avLst>
              <a:gd name="adj" fmla="val 1757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1828800"/>
            <a:ext cx="3733920" cy="3657600"/>
          </a:xfrm>
          <a:prstGeom prst="ellipse">
            <a:avLst/>
          </a:prstGeom>
          <a:blipFill rotWithShape="0">
            <a:blip r:embed="rId3">
              <a:alphaModFix amt="3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nosaur De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h and smoke from fires could have blocked out enough sunlight changing the global climate; decimating  and wiping out the cold blood rep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-2209680" y="-1600200"/>
            <a:ext cx="25146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6 -0.01667 L 0.89584 0.53889 E">
                                      <p:cBhvr>
                                        <p:cTn id="575" dur="5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5000" fill="hold"/>
                                        <p:tgtEl>
                                          <p:spTgt spid="413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60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6500"/>
                            </p:stCondLst>
                            <p:childTnLst>
                              <p:par>
                                <p:cTn id="5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750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419720" y="1828800"/>
            <a:ext cx="1981080" cy="3962520"/>
          </a:xfrm>
          <a:custGeom>
            <a:avLst/>
            <a:gdLst/>
            <a:ahLst/>
            <a:rect l="l" t="t" r="r" b="b"/>
            <a:pathLst>
              <a:path w="1248" h="2496">
                <a:moveTo>
                  <a:pt x="67" y="1388"/>
                </a:moveTo>
                <a:cubicBezTo>
                  <a:pt x="68" y="1137"/>
                  <a:pt x="70" y="421"/>
                  <a:pt x="75" y="211"/>
                </a:cubicBezTo>
                <a:cubicBezTo>
                  <a:pt x="81" y="0"/>
                  <a:pt x="34" y="124"/>
                  <a:pt x="101" y="120"/>
                </a:cubicBezTo>
                <a:cubicBezTo>
                  <a:pt x="168" y="116"/>
                  <a:pt x="340" y="129"/>
                  <a:pt x="480" y="186"/>
                </a:cubicBezTo>
                <a:cubicBezTo>
                  <a:pt x="620" y="243"/>
                  <a:pt x="818" y="329"/>
                  <a:pt x="939" y="463"/>
                </a:cubicBezTo>
                <a:cubicBezTo>
                  <a:pt x="1060" y="597"/>
                  <a:pt x="1167" y="805"/>
                  <a:pt x="1207" y="991"/>
                </a:cubicBezTo>
                <a:cubicBezTo>
                  <a:pt x="1248" y="1177"/>
                  <a:pt x="1242" y="1400"/>
                  <a:pt x="1185" y="1583"/>
                </a:cubicBezTo>
                <a:cubicBezTo>
                  <a:pt x="1128" y="1766"/>
                  <a:pt x="991" y="1958"/>
                  <a:pt x="865" y="2086"/>
                </a:cubicBezTo>
                <a:cubicBezTo>
                  <a:pt x="739" y="2214"/>
                  <a:pt x="566" y="2298"/>
                  <a:pt x="432" y="2354"/>
                </a:cubicBezTo>
                <a:cubicBezTo>
                  <a:pt x="298" y="2411"/>
                  <a:pt x="126" y="2420"/>
                  <a:pt x="63" y="2424"/>
                </a:cubicBezTo>
                <a:cubicBezTo>
                  <a:pt x="0" y="2429"/>
                  <a:pt x="55" y="2496"/>
                  <a:pt x="55" y="2379"/>
                </a:cubicBezTo>
                <a:cubicBezTo>
                  <a:pt x="55" y="2262"/>
                  <a:pt x="64" y="1883"/>
                  <a:pt x="67" y="1718"/>
                </a:cubicBezTo>
                <a:cubicBezTo>
                  <a:pt x="70" y="1553"/>
                  <a:pt x="67" y="1641"/>
                  <a:pt x="67" y="138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666880" y="2654280"/>
            <a:ext cx="1963800" cy="3119400"/>
          </a:xfrm>
          <a:custGeom>
            <a:avLst/>
            <a:gdLst/>
            <a:ahLst/>
            <a:rect l="l" t="t" r="r" b="b"/>
            <a:pathLst>
              <a:path w="1237" h="1965">
                <a:moveTo>
                  <a:pt x="1162" y="1907"/>
                </a:moveTo>
                <a:cubicBezTo>
                  <a:pt x="1152" y="1965"/>
                  <a:pt x="1155" y="1916"/>
                  <a:pt x="1099" y="1907"/>
                </a:cubicBezTo>
                <a:cubicBezTo>
                  <a:pt x="1043" y="1898"/>
                  <a:pt x="914" y="1886"/>
                  <a:pt x="824" y="1856"/>
                </a:cubicBezTo>
                <a:cubicBezTo>
                  <a:pt x="734" y="1826"/>
                  <a:pt x="642" y="1774"/>
                  <a:pt x="561" y="1724"/>
                </a:cubicBezTo>
                <a:cubicBezTo>
                  <a:pt x="480" y="1674"/>
                  <a:pt x="396" y="1610"/>
                  <a:pt x="337" y="1553"/>
                </a:cubicBezTo>
                <a:cubicBezTo>
                  <a:pt x="278" y="1496"/>
                  <a:pt x="243" y="1438"/>
                  <a:pt x="205" y="1386"/>
                </a:cubicBezTo>
                <a:cubicBezTo>
                  <a:pt x="169" y="1335"/>
                  <a:pt x="146" y="1300"/>
                  <a:pt x="119" y="1243"/>
                </a:cubicBezTo>
                <a:cubicBezTo>
                  <a:pt x="93" y="1186"/>
                  <a:pt x="63" y="1130"/>
                  <a:pt x="45" y="1044"/>
                </a:cubicBezTo>
                <a:cubicBezTo>
                  <a:pt x="26" y="958"/>
                  <a:pt x="0" y="848"/>
                  <a:pt x="7" y="728"/>
                </a:cubicBezTo>
                <a:cubicBezTo>
                  <a:pt x="15" y="608"/>
                  <a:pt x="51" y="435"/>
                  <a:pt x="87" y="325"/>
                </a:cubicBezTo>
                <a:cubicBezTo>
                  <a:pt x="123" y="215"/>
                  <a:pt x="194" y="112"/>
                  <a:pt x="225" y="68"/>
                </a:cubicBezTo>
                <a:cubicBezTo>
                  <a:pt x="256" y="24"/>
                  <a:pt x="200" y="0"/>
                  <a:pt x="276" y="59"/>
                </a:cubicBezTo>
                <a:cubicBezTo>
                  <a:pt x="352" y="118"/>
                  <a:pt x="532" y="291"/>
                  <a:pt x="678" y="419"/>
                </a:cubicBezTo>
                <a:cubicBezTo>
                  <a:pt x="824" y="547"/>
                  <a:pt x="1073" y="758"/>
                  <a:pt x="1155" y="827"/>
                </a:cubicBezTo>
                <a:cubicBezTo>
                  <a:pt x="1237" y="896"/>
                  <a:pt x="1167" y="796"/>
                  <a:pt x="1170" y="833"/>
                </a:cubicBezTo>
                <a:cubicBezTo>
                  <a:pt x="1173" y="870"/>
                  <a:pt x="1175" y="927"/>
                  <a:pt x="1174" y="1048"/>
                </a:cubicBezTo>
                <a:cubicBezTo>
                  <a:pt x="1173" y="1169"/>
                  <a:pt x="1164" y="1417"/>
                  <a:pt x="1162" y="1560"/>
                </a:cubicBezTo>
                <a:cubicBezTo>
                  <a:pt x="1160" y="1703"/>
                  <a:pt x="1172" y="1849"/>
                  <a:pt x="1162" y="1907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33920" y="39625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am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Mes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843280" y="2174760"/>
            <a:ext cx="1768320" cy="1976400"/>
          </a:xfrm>
          <a:custGeom>
            <a:avLst/>
            <a:gdLst/>
            <a:ahLst/>
            <a:rect l="l" t="t" r="r" b="b"/>
            <a:pathLst>
              <a:path w="1114" h="1245">
                <a:moveTo>
                  <a:pt x="1033" y="1118"/>
                </a:moveTo>
                <a:cubicBezTo>
                  <a:pt x="909" y="1040"/>
                  <a:pt x="294" y="471"/>
                  <a:pt x="147" y="340"/>
                </a:cubicBezTo>
                <a:cubicBezTo>
                  <a:pt x="0" y="209"/>
                  <a:pt x="136" y="354"/>
                  <a:pt x="153" y="331"/>
                </a:cubicBezTo>
                <a:cubicBezTo>
                  <a:pt x="170" y="308"/>
                  <a:pt x="202" y="245"/>
                  <a:pt x="249" y="205"/>
                </a:cubicBezTo>
                <a:cubicBezTo>
                  <a:pt x="296" y="165"/>
                  <a:pt x="397" y="97"/>
                  <a:pt x="438" y="91"/>
                </a:cubicBezTo>
                <a:cubicBezTo>
                  <a:pt x="479" y="85"/>
                  <a:pt x="399" y="0"/>
                  <a:pt x="497" y="166"/>
                </a:cubicBezTo>
                <a:cubicBezTo>
                  <a:pt x="595" y="332"/>
                  <a:pt x="936" y="927"/>
                  <a:pt x="1025" y="1086"/>
                </a:cubicBezTo>
                <a:cubicBezTo>
                  <a:pt x="1114" y="1245"/>
                  <a:pt x="1031" y="1111"/>
                  <a:pt x="1033" y="1118"/>
                </a:cubicBezTo>
                <a:close/>
              </a:path>
            </a:pathLst>
          </a:custGeom>
          <a:solidFill>
            <a:srgbClr val="5f5f5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2876400">
            <a:off x="3276360" y="28954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e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92640" y="1873080"/>
            <a:ext cx="1157040" cy="2302200"/>
          </a:xfrm>
          <a:custGeom>
            <a:avLst/>
            <a:gdLst/>
            <a:ahLst/>
            <a:rect l="l" t="t" r="r" b="b"/>
            <a:pathLst>
              <a:path w="729" h="1450">
                <a:moveTo>
                  <a:pt x="699" y="1304"/>
                </a:moveTo>
                <a:cubicBezTo>
                  <a:pt x="601" y="1144"/>
                  <a:pt x="198" y="439"/>
                  <a:pt x="99" y="264"/>
                </a:cubicBezTo>
                <a:cubicBezTo>
                  <a:pt x="0" y="89"/>
                  <a:pt x="82" y="269"/>
                  <a:pt x="107" y="256"/>
                </a:cubicBezTo>
                <a:cubicBezTo>
                  <a:pt x="132" y="243"/>
                  <a:pt x="190" y="205"/>
                  <a:pt x="247" y="184"/>
                </a:cubicBezTo>
                <a:cubicBezTo>
                  <a:pt x="304" y="163"/>
                  <a:pt x="410" y="127"/>
                  <a:pt x="447" y="128"/>
                </a:cubicBezTo>
                <a:cubicBezTo>
                  <a:pt x="484" y="129"/>
                  <a:pt x="430" y="0"/>
                  <a:pt x="471" y="189"/>
                </a:cubicBezTo>
                <a:cubicBezTo>
                  <a:pt x="512" y="378"/>
                  <a:pt x="653" y="1078"/>
                  <a:pt x="691" y="1264"/>
                </a:cubicBezTo>
                <a:cubicBezTo>
                  <a:pt x="729" y="1450"/>
                  <a:pt x="697" y="1296"/>
                  <a:pt x="699" y="1304"/>
                </a:cubicBezTo>
                <a:close/>
              </a:path>
            </a:pathLst>
          </a:custGeom>
          <a:solidFill>
            <a:srgbClr val="008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495680" y="1981080"/>
            <a:ext cx="0" cy="198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3994200">
            <a:off x="3581280" y="274320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pic: Geologic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y 1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know the major geologic events that have transformed our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know the geologic time scale and it’s major di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2286000" y="1600200"/>
            <a:ext cx="4495680" cy="4495680"/>
            <a:chOff x="2286000" y="1600200"/>
            <a:chExt cx="4495680" cy="4495680"/>
          </a:xfrm>
        </p:grpSpPr>
        <p:pic>
          <p:nvPicPr>
            <p:cNvPr id="425" name="" descr=""/>
            <p:cNvPicPr/>
            <p:nvPr/>
          </p:nvPicPr>
          <p:blipFill>
            <a:blip r:embed="rId1"/>
            <a:stretch/>
          </p:blipFill>
          <p:spPr>
            <a:xfrm>
              <a:off x="2286000" y="1600200"/>
              <a:ext cx="44956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4419720" y="1828800"/>
              <a:ext cx="1981080" cy="396252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66880" y="2654280"/>
              <a:ext cx="1963800" cy="311940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33920" y="3962520"/>
              <a:ext cx="1828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43280" y="2174760"/>
              <a:ext cx="1768320" cy="1976400"/>
            </a:xfrm>
            <a:custGeom>
              <a:avLst/>
              <a:gdLst/>
              <a:ahLst/>
              <a:rect l="l" t="t" r="r" b="b"/>
              <a:pathLst>
                <a:path w="1114" h="1245">
                  <a:moveTo>
                    <a:pt x="1033" y="1118"/>
                  </a:moveTo>
                  <a:cubicBezTo>
                    <a:pt x="909" y="1040"/>
                    <a:pt x="294" y="471"/>
                    <a:pt x="147" y="340"/>
                  </a:cubicBezTo>
                  <a:cubicBezTo>
                    <a:pt x="0" y="209"/>
                    <a:pt x="136" y="354"/>
                    <a:pt x="153" y="331"/>
                  </a:cubicBezTo>
                  <a:cubicBezTo>
                    <a:pt x="170" y="308"/>
                    <a:pt x="202" y="245"/>
                    <a:pt x="249" y="205"/>
                  </a:cubicBezTo>
                  <a:cubicBezTo>
                    <a:pt x="296" y="165"/>
                    <a:pt x="397" y="97"/>
                    <a:pt x="438" y="91"/>
                  </a:cubicBezTo>
                  <a:cubicBezTo>
                    <a:pt x="479" y="85"/>
                    <a:pt x="399" y="0"/>
                    <a:pt x="497" y="166"/>
                  </a:cubicBezTo>
                  <a:cubicBezTo>
                    <a:pt x="595" y="332"/>
                    <a:pt x="936" y="927"/>
                    <a:pt x="1025" y="1086"/>
                  </a:cubicBezTo>
                  <a:cubicBezTo>
                    <a:pt x="1114" y="1245"/>
                    <a:pt x="1031" y="1111"/>
                    <a:pt x="1033" y="1118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876400">
              <a:off x="3276360" y="2895480"/>
              <a:ext cx="1066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92640" y="1873080"/>
              <a:ext cx="1157040" cy="2302200"/>
            </a:xfrm>
            <a:custGeom>
              <a:avLst/>
              <a:gdLst/>
              <a:ahLst/>
              <a:rect l="l" t="t" r="r" b="b"/>
              <a:pathLst>
                <a:path w="729" h="1450">
                  <a:moveTo>
                    <a:pt x="699" y="1304"/>
                  </a:moveTo>
                  <a:cubicBezTo>
                    <a:pt x="601" y="1144"/>
                    <a:pt x="198" y="439"/>
                    <a:pt x="99" y="264"/>
                  </a:cubicBezTo>
                  <a:cubicBezTo>
                    <a:pt x="0" y="89"/>
                    <a:pt x="82" y="269"/>
                    <a:pt x="107" y="256"/>
                  </a:cubicBezTo>
                  <a:cubicBezTo>
                    <a:pt x="132" y="243"/>
                    <a:pt x="190" y="205"/>
                    <a:pt x="247" y="184"/>
                  </a:cubicBezTo>
                  <a:cubicBezTo>
                    <a:pt x="304" y="163"/>
                    <a:pt x="410" y="127"/>
                    <a:pt x="447" y="128"/>
                  </a:cubicBezTo>
                  <a:cubicBezTo>
                    <a:pt x="484" y="129"/>
                    <a:pt x="430" y="0"/>
                    <a:pt x="471" y="189"/>
                  </a:cubicBezTo>
                  <a:cubicBezTo>
                    <a:pt x="512" y="378"/>
                    <a:pt x="653" y="1078"/>
                    <a:pt x="691" y="1264"/>
                  </a:cubicBezTo>
                  <a:cubicBezTo>
                    <a:pt x="729" y="1450"/>
                    <a:pt x="697" y="1296"/>
                    <a:pt x="699" y="1304"/>
                  </a:cubicBezTo>
                  <a:close/>
                </a:path>
              </a:pathLst>
            </a:custGeom>
            <a:solidFill>
              <a:srgbClr val="008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495680" y="1981080"/>
              <a:ext cx="0" cy="198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3994200">
              <a:off x="3581280" y="2743200"/>
              <a:ext cx="1066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s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 flipH="1" flipV="1">
            <a:off x="6477120" y="3352680"/>
            <a:ext cx="457200" cy="609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362320" y="3352680"/>
            <a:ext cx="41148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6553080" y="2971800"/>
            <a:ext cx="609840" cy="9144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361960" y="2971800"/>
            <a:ext cx="419076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6705360" y="2590920"/>
            <a:ext cx="685800" cy="121896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2361960" y="2590920"/>
            <a:ext cx="43434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209680" y="28954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Mammal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76520" y="2666880"/>
            <a:ext cx="350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gea break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676520" y="220968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0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Bird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828800" y="182880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extinction 60% of all life peri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7543800" y="2133720"/>
            <a:ext cx="380880" cy="1371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361960" y="2133720"/>
            <a:ext cx="518148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362320" y="3352680"/>
            <a:ext cx="41148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209680" y="28954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Mammal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477120" y="3352680"/>
            <a:ext cx="457200" cy="609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362320" y="3352680"/>
            <a:ext cx="41148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209680" y="28954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Mammal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Mes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0.4625 0.43889 E">
                                      <p:cBhvr>
                                        <p:cTn id="60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1" dur="2000" fill="hold"/>
                                        <p:tgtEl>
                                          <p:spTgt spid="42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are major geologic events of the </a:t>
            </a:r>
            <a:r>
              <a:rPr b="1" lang="en-US" sz="3200" spc="-1" strike="noStrike">
                <a:solidFill>
                  <a:srgbClr val="008000"/>
                </a:solidFill>
                <a:latin typeface="Arial Black"/>
              </a:rPr>
              <a:t>Mesozoic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6553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tiles domi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 m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mall Mammals app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80 mya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gea breaks 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0 mya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Bi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5 mya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s extinction 60% of all life perishes including dinosaurs due  to large ______coll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34320" y="1752480"/>
            <a:ext cx="175248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205740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0"/>
            <a:ext cx="9144000" cy="4876920"/>
          </a:xfrm>
          <a:prstGeom prst="rect">
            <a:avLst/>
          </a:prstGeom>
          <a:gradFill rotWithShape="0">
            <a:gsLst>
              <a:gs pos="0">
                <a:srgbClr val="83afdb"/>
              </a:gs>
              <a:gs pos="100000">
                <a:srgbClr val="99ccff">
                  <a:alpha val="8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038480" y="2438280"/>
            <a:ext cx="838440" cy="45720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952880" y="2133720"/>
            <a:ext cx="762120" cy="45720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-533520" y="2819520"/>
            <a:ext cx="11122200" cy="1258920"/>
          </a:xfrm>
          <a:custGeom>
            <a:avLst/>
            <a:gdLst/>
            <a:ahLst/>
            <a:rect l="l" t="t" r="r" b="b"/>
            <a:pathLst>
              <a:path w="7006" h="1038">
                <a:moveTo>
                  <a:pt x="375" y="226"/>
                </a:moveTo>
                <a:cubicBezTo>
                  <a:pt x="480" y="264"/>
                  <a:pt x="688" y="499"/>
                  <a:pt x="824" y="485"/>
                </a:cubicBezTo>
                <a:cubicBezTo>
                  <a:pt x="960" y="471"/>
                  <a:pt x="1036" y="124"/>
                  <a:pt x="1192" y="141"/>
                </a:cubicBezTo>
                <a:cubicBezTo>
                  <a:pt x="1348" y="158"/>
                  <a:pt x="1603" y="566"/>
                  <a:pt x="1760" y="589"/>
                </a:cubicBezTo>
                <a:cubicBezTo>
                  <a:pt x="1917" y="612"/>
                  <a:pt x="2020" y="287"/>
                  <a:pt x="2136" y="278"/>
                </a:cubicBezTo>
                <a:cubicBezTo>
                  <a:pt x="2252" y="269"/>
                  <a:pt x="2386" y="517"/>
                  <a:pt x="2456" y="533"/>
                </a:cubicBezTo>
                <a:cubicBezTo>
                  <a:pt x="2526" y="549"/>
                  <a:pt x="2499" y="434"/>
                  <a:pt x="2559" y="375"/>
                </a:cubicBezTo>
                <a:cubicBezTo>
                  <a:pt x="2619" y="316"/>
                  <a:pt x="2703" y="148"/>
                  <a:pt x="2816" y="181"/>
                </a:cubicBezTo>
                <a:cubicBezTo>
                  <a:pt x="2929" y="214"/>
                  <a:pt x="3108" y="544"/>
                  <a:pt x="3240" y="573"/>
                </a:cubicBezTo>
                <a:cubicBezTo>
                  <a:pt x="3372" y="602"/>
                  <a:pt x="3475" y="361"/>
                  <a:pt x="3608" y="357"/>
                </a:cubicBezTo>
                <a:cubicBezTo>
                  <a:pt x="3741" y="353"/>
                  <a:pt x="3854" y="607"/>
                  <a:pt x="4040" y="549"/>
                </a:cubicBezTo>
                <a:cubicBezTo>
                  <a:pt x="4226" y="491"/>
                  <a:pt x="4476" y="16"/>
                  <a:pt x="4724" y="8"/>
                </a:cubicBezTo>
                <a:cubicBezTo>
                  <a:pt x="4972" y="0"/>
                  <a:pt x="5325" y="458"/>
                  <a:pt x="5528" y="502"/>
                </a:cubicBezTo>
                <a:cubicBezTo>
                  <a:pt x="5731" y="546"/>
                  <a:pt x="5770" y="345"/>
                  <a:pt x="5941" y="272"/>
                </a:cubicBezTo>
                <a:cubicBezTo>
                  <a:pt x="6112" y="199"/>
                  <a:pt x="6426" y="56"/>
                  <a:pt x="6554" y="61"/>
                </a:cubicBezTo>
                <a:cubicBezTo>
                  <a:pt x="6682" y="65"/>
                  <a:pt x="6651" y="229"/>
                  <a:pt x="6710" y="305"/>
                </a:cubicBezTo>
                <a:cubicBezTo>
                  <a:pt x="6770" y="381"/>
                  <a:pt x="6918" y="412"/>
                  <a:pt x="6911" y="514"/>
                </a:cubicBezTo>
                <a:cubicBezTo>
                  <a:pt x="6905" y="617"/>
                  <a:pt x="7006" y="844"/>
                  <a:pt x="6673" y="916"/>
                </a:cubicBezTo>
                <a:cubicBezTo>
                  <a:pt x="6340" y="988"/>
                  <a:pt x="5437" y="931"/>
                  <a:pt x="4915" y="949"/>
                </a:cubicBezTo>
                <a:cubicBezTo>
                  <a:pt x="4392" y="966"/>
                  <a:pt x="4070" y="1006"/>
                  <a:pt x="3536" y="1018"/>
                </a:cubicBezTo>
                <a:cubicBezTo>
                  <a:pt x="3002" y="1030"/>
                  <a:pt x="2198" y="1025"/>
                  <a:pt x="1712" y="1021"/>
                </a:cubicBezTo>
                <a:cubicBezTo>
                  <a:pt x="1226" y="1017"/>
                  <a:pt x="890" y="1009"/>
                  <a:pt x="622" y="997"/>
                </a:cubicBezTo>
                <a:cubicBezTo>
                  <a:pt x="354" y="985"/>
                  <a:pt x="206" y="1038"/>
                  <a:pt x="105" y="949"/>
                </a:cubicBezTo>
                <a:cubicBezTo>
                  <a:pt x="4" y="857"/>
                  <a:pt x="0" y="571"/>
                  <a:pt x="15" y="455"/>
                </a:cubicBezTo>
                <a:cubicBezTo>
                  <a:pt x="30" y="342"/>
                  <a:pt x="135" y="298"/>
                  <a:pt x="194" y="259"/>
                </a:cubicBezTo>
                <a:cubicBezTo>
                  <a:pt x="255" y="220"/>
                  <a:pt x="194" y="209"/>
                  <a:pt x="375" y="22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4117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-1295280" y="3352680"/>
            <a:ext cx="11960280" cy="914400"/>
          </a:xfrm>
          <a:custGeom>
            <a:avLst/>
            <a:gdLst/>
            <a:ahLst/>
            <a:rect l="l" t="t" r="r" b="b"/>
            <a:pathLst>
              <a:path w="7534" h="484">
                <a:moveTo>
                  <a:pt x="403" y="112"/>
                </a:moveTo>
                <a:cubicBezTo>
                  <a:pt x="555" y="121"/>
                  <a:pt x="912" y="191"/>
                  <a:pt x="1120" y="180"/>
                </a:cubicBezTo>
                <a:cubicBezTo>
                  <a:pt x="1328" y="169"/>
                  <a:pt x="1439" y="28"/>
                  <a:pt x="1648" y="44"/>
                </a:cubicBezTo>
                <a:cubicBezTo>
                  <a:pt x="1857" y="60"/>
                  <a:pt x="2192" y="253"/>
                  <a:pt x="2376" y="276"/>
                </a:cubicBezTo>
                <a:cubicBezTo>
                  <a:pt x="2560" y="299"/>
                  <a:pt x="2623" y="223"/>
                  <a:pt x="2752" y="180"/>
                </a:cubicBezTo>
                <a:cubicBezTo>
                  <a:pt x="2881" y="137"/>
                  <a:pt x="3028" y="39"/>
                  <a:pt x="3152" y="20"/>
                </a:cubicBezTo>
                <a:cubicBezTo>
                  <a:pt x="3276" y="1"/>
                  <a:pt x="3400" y="52"/>
                  <a:pt x="3496" y="68"/>
                </a:cubicBezTo>
                <a:cubicBezTo>
                  <a:pt x="3592" y="84"/>
                  <a:pt x="3578" y="86"/>
                  <a:pt x="3729" y="115"/>
                </a:cubicBezTo>
                <a:cubicBezTo>
                  <a:pt x="3880" y="144"/>
                  <a:pt x="4175" y="261"/>
                  <a:pt x="4400" y="244"/>
                </a:cubicBezTo>
                <a:cubicBezTo>
                  <a:pt x="4625" y="227"/>
                  <a:pt x="4824" y="24"/>
                  <a:pt x="5080" y="12"/>
                </a:cubicBezTo>
                <a:cubicBezTo>
                  <a:pt x="5336" y="0"/>
                  <a:pt x="5720" y="154"/>
                  <a:pt x="5938" y="174"/>
                </a:cubicBezTo>
                <a:cubicBezTo>
                  <a:pt x="6156" y="194"/>
                  <a:pt x="6204" y="156"/>
                  <a:pt x="6389" y="133"/>
                </a:cubicBezTo>
                <a:cubicBezTo>
                  <a:pt x="6574" y="110"/>
                  <a:pt x="6910" y="34"/>
                  <a:pt x="7048" y="36"/>
                </a:cubicBezTo>
                <a:cubicBezTo>
                  <a:pt x="7186" y="38"/>
                  <a:pt x="7152" y="113"/>
                  <a:pt x="7216" y="148"/>
                </a:cubicBezTo>
                <a:cubicBezTo>
                  <a:pt x="7280" y="183"/>
                  <a:pt x="7439" y="197"/>
                  <a:pt x="7432" y="244"/>
                </a:cubicBezTo>
                <a:cubicBezTo>
                  <a:pt x="7425" y="291"/>
                  <a:pt x="7534" y="395"/>
                  <a:pt x="7176" y="428"/>
                </a:cubicBezTo>
                <a:cubicBezTo>
                  <a:pt x="6818" y="461"/>
                  <a:pt x="5847" y="435"/>
                  <a:pt x="5285" y="443"/>
                </a:cubicBezTo>
                <a:cubicBezTo>
                  <a:pt x="4723" y="451"/>
                  <a:pt x="4356" y="474"/>
                  <a:pt x="3803" y="475"/>
                </a:cubicBezTo>
                <a:cubicBezTo>
                  <a:pt x="3250" y="476"/>
                  <a:pt x="2489" y="449"/>
                  <a:pt x="1966" y="447"/>
                </a:cubicBezTo>
                <a:cubicBezTo>
                  <a:pt x="1443" y="446"/>
                  <a:pt x="978" y="466"/>
                  <a:pt x="669" y="465"/>
                </a:cubicBezTo>
                <a:cubicBezTo>
                  <a:pt x="360" y="465"/>
                  <a:pt x="222" y="484"/>
                  <a:pt x="113" y="443"/>
                </a:cubicBezTo>
                <a:cubicBezTo>
                  <a:pt x="4" y="401"/>
                  <a:pt x="0" y="270"/>
                  <a:pt x="16" y="217"/>
                </a:cubicBezTo>
                <a:cubicBezTo>
                  <a:pt x="32" y="165"/>
                  <a:pt x="145" y="145"/>
                  <a:pt x="209" y="127"/>
                </a:cubicBezTo>
                <a:cubicBezTo>
                  <a:pt x="274" y="109"/>
                  <a:pt x="209" y="104"/>
                  <a:pt x="403" y="112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362320" y="0"/>
            <a:ext cx="1447560" cy="106668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90720" y="0"/>
            <a:ext cx="2133360" cy="121752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867280" y="380880"/>
            <a:ext cx="1447920" cy="106704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876920" y="380880"/>
            <a:ext cx="2133360" cy="121788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enozoic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-666720" y="3929040"/>
            <a:ext cx="10591920" cy="3157560"/>
          </a:xfrm>
          <a:custGeom>
            <a:avLst/>
            <a:gdLst/>
            <a:ahLst/>
            <a:rect l="l" t="t" r="r" b="b"/>
            <a:pathLst>
              <a:path w="6672" h="1989">
                <a:moveTo>
                  <a:pt x="460" y="301"/>
                </a:moveTo>
                <a:cubicBezTo>
                  <a:pt x="681" y="305"/>
                  <a:pt x="1149" y="325"/>
                  <a:pt x="1396" y="332"/>
                </a:cubicBezTo>
                <a:cubicBezTo>
                  <a:pt x="1643" y="339"/>
                  <a:pt x="1736" y="325"/>
                  <a:pt x="1940" y="341"/>
                </a:cubicBezTo>
                <a:cubicBezTo>
                  <a:pt x="2144" y="357"/>
                  <a:pt x="2401" y="416"/>
                  <a:pt x="2620" y="429"/>
                </a:cubicBezTo>
                <a:cubicBezTo>
                  <a:pt x="2839" y="442"/>
                  <a:pt x="3053" y="432"/>
                  <a:pt x="3252" y="421"/>
                </a:cubicBezTo>
                <a:cubicBezTo>
                  <a:pt x="3451" y="410"/>
                  <a:pt x="3532" y="371"/>
                  <a:pt x="3812" y="365"/>
                </a:cubicBezTo>
                <a:cubicBezTo>
                  <a:pt x="4092" y="359"/>
                  <a:pt x="4568" y="397"/>
                  <a:pt x="4932" y="386"/>
                </a:cubicBezTo>
                <a:cubicBezTo>
                  <a:pt x="5296" y="375"/>
                  <a:pt x="5745" y="350"/>
                  <a:pt x="5996" y="301"/>
                </a:cubicBezTo>
                <a:cubicBezTo>
                  <a:pt x="6247" y="252"/>
                  <a:pt x="6331" y="114"/>
                  <a:pt x="6436" y="93"/>
                </a:cubicBezTo>
                <a:cubicBezTo>
                  <a:pt x="6541" y="72"/>
                  <a:pt x="6612" y="0"/>
                  <a:pt x="6628" y="173"/>
                </a:cubicBezTo>
                <a:cubicBezTo>
                  <a:pt x="6644" y="346"/>
                  <a:pt x="6537" y="870"/>
                  <a:pt x="6532" y="1131"/>
                </a:cubicBezTo>
                <a:cubicBezTo>
                  <a:pt x="6527" y="1392"/>
                  <a:pt x="6672" y="1607"/>
                  <a:pt x="6596" y="1743"/>
                </a:cubicBezTo>
                <a:cubicBezTo>
                  <a:pt x="6520" y="1879"/>
                  <a:pt x="6540" y="1916"/>
                  <a:pt x="6076" y="1949"/>
                </a:cubicBezTo>
                <a:cubicBezTo>
                  <a:pt x="5612" y="1982"/>
                  <a:pt x="4497" y="1947"/>
                  <a:pt x="3812" y="1942"/>
                </a:cubicBezTo>
                <a:cubicBezTo>
                  <a:pt x="3127" y="1937"/>
                  <a:pt x="2483" y="1926"/>
                  <a:pt x="1964" y="1917"/>
                </a:cubicBezTo>
                <a:cubicBezTo>
                  <a:pt x="1445" y="1908"/>
                  <a:pt x="1003" y="1914"/>
                  <a:pt x="700" y="1889"/>
                </a:cubicBezTo>
                <a:cubicBezTo>
                  <a:pt x="397" y="1864"/>
                  <a:pt x="256" y="1989"/>
                  <a:pt x="148" y="1769"/>
                </a:cubicBezTo>
                <a:cubicBezTo>
                  <a:pt x="40" y="1550"/>
                  <a:pt x="65" y="815"/>
                  <a:pt x="52" y="572"/>
                </a:cubicBezTo>
                <a:cubicBezTo>
                  <a:pt x="39" y="329"/>
                  <a:pt x="0" y="354"/>
                  <a:pt x="68" y="309"/>
                </a:cubicBezTo>
                <a:cubicBezTo>
                  <a:pt x="136" y="264"/>
                  <a:pt x="239" y="297"/>
                  <a:pt x="460" y="301"/>
                </a:cubicBezTo>
                <a:close/>
              </a:path>
            </a:pathLst>
          </a:custGeom>
          <a:gradFill rotWithShape="0">
            <a:gsLst>
              <a:gs pos="0">
                <a:srgbClr val="122400"/>
              </a:gs>
              <a:gs pos="100000">
                <a:srgbClr val="33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-152280" y="5486400"/>
            <a:ext cx="5715000" cy="13716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5257800" y="5486400"/>
            <a:ext cx="5715000" cy="13716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-152280" y="4876920"/>
            <a:ext cx="5715000" cy="6094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5257800" y="4876920"/>
            <a:ext cx="5715000" cy="6094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 flipV="1">
            <a:off x="-228240" y="4570920"/>
            <a:ext cx="10591920" cy="29718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-685800" y="3809880"/>
            <a:ext cx="10820520" cy="1371600"/>
          </a:xfrm>
          <a:custGeom>
            <a:avLst/>
            <a:gdLst/>
            <a:ahLst/>
            <a:rect l="l" t="t" r="r" b="b"/>
            <a:pathLst>
              <a:path w="6816" h="864">
                <a:moveTo>
                  <a:pt x="403" y="17"/>
                </a:moveTo>
                <a:cubicBezTo>
                  <a:pt x="537" y="47"/>
                  <a:pt x="789" y="203"/>
                  <a:pt x="1015" y="228"/>
                </a:cubicBezTo>
                <a:cubicBezTo>
                  <a:pt x="1242" y="252"/>
                  <a:pt x="1531" y="170"/>
                  <a:pt x="1764" y="167"/>
                </a:cubicBezTo>
                <a:cubicBezTo>
                  <a:pt x="1998" y="164"/>
                  <a:pt x="2178" y="228"/>
                  <a:pt x="2417" y="209"/>
                </a:cubicBezTo>
                <a:cubicBezTo>
                  <a:pt x="2656" y="190"/>
                  <a:pt x="2909" y="47"/>
                  <a:pt x="3199" y="52"/>
                </a:cubicBezTo>
                <a:cubicBezTo>
                  <a:pt x="3488" y="55"/>
                  <a:pt x="3831" y="236"/>
                  <a:pt x="4149" y="233"/>
                </a:cubicBezTo>
                <a:cubicBezTo>
                  <a:pt x="4467" y="228"/>
                  <a:pt x="4810" y="36"/>
                  <a:pt x="5108" y="23"/>
                </a:cubicBezTo>
                <a:cubicBezTo>
                  <a:pt x="5406" y="11"/>
                  <a:pt x="5724" y="151"/>
                  <a:pt x="5938" y="158"/>
                </a:cubicBezTo>
                <a:cubicBezTo>
                  <a:pt x="6151" y="164"/>
                  <a:pt x="6272" y="77"/>
                  <a:pt x="6389" y="65"/>
                </a:cubicBezTo>
                <a:cubicBezTo>
                  <a:pt x="6506" y="53"/>
                  <a:pt x="6596" y="17"/>
                  <a:pt x="6639" y="85"/>
                </a:cubicBezTo>
                <a:cubicBezTo>
                  <a:pt x="6682" y="153"/>
                  <a:pt x="6653" y="360"/>
                  <a:pt x="6648" y="472"/>
                </a:cubicBezTo>
                <a:cubicBezTo>
                  <a:pt x="6643" y="584"/>
                  <a:pt x="6816" y="723"/>
                  <a:pt x="6607" y="758"/>
                </a:cubicBezTo>
                <a:cubicBezTo>
                  <a:pt x="6398" y="793"/>
                  <a:pt x="5860" y="677"/>
                  <a:pt x="5392" y="680"/>
                </a:cubicBezTo>
                <a:cubicBezTo>
                  <a:pt x="4924" y="683"/>
                  <a:pt x="4353" y="783"/>
                  <a:pt x="3800" y="778"/>
                </a:cubicBezTo>
                <a:cubicBezTo>
                  <a:pt x="3247" y="773"/>
                  <a:pt x="2594" y="641"/>
                  <a:pt x="2072" y="648"/>
                </a:cubicBezTo>
                <a:cubicBezTo>
                  <a:pt x="1550" y="655"/>
                  <a:pt x="996" y="801"/>
                  <a:pt x="669" y="821"/>
                </a:cubicBezTo>
                <a:cubicBezTo>
                  <a:pt x="342" y="841"/>
                  <a:pt x="222" y="864"/>
                  <a:pt x="113" y="770"/>
                </a:cubicBezTo>
                <a:cubicBezTo>
                  <a:pt x="4" y="676"/>
                  <a:pt x="0" y="377"/>
                  <a:pt x="16" y="257"/>
                </a:cubicBezTo>
                <a:cubicBezTo>
                  <a:pt x="32" y="137"/>
                  <a:pt x="145" y="91"/>
                  <a:pt x="209" y="52"/>
                </a:cubicBezTo>
                <a:cubicBezTo>
                  <a:pt x="274" y="12"/>
                  <a:pt x="209" y="0"/>
                  <a:pt x="403" y="17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2c5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1905120" y="45720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6"/>
          <a:stretch/>
        </p:blipFill>
        <p:spPr>
          <a:xfrm flipH="1">
            <a:off x="5412960" y="4495680"/>
            <a:ext cx="1019160" cy="10670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7"/>
          <a:stretch/>
        </p:blipFill>
        <p:spPr>
          <a:xfrm flipH="1">
            <a:off x="3885840" y="4419720"/>
            <a:ext cx="654120" cy="9144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8"/>
          <a:stretch/>
        </p:blipFill>
        <p:spPr>
          <a:xfrm flipH="1">
            <a:off x="9144000" y="4572000"/>
            <a:ext cx="822240" cy="838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9"/>
          <a:stretch/>
        </p:blipFill>
        <p:spPr>
          <a:xfrm flipH="1">
            <a:off x="1066680" y="4444920"/>
            <a:ext cx="1067040" cy="8892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600200" y="2209680"/>
            <a:ext cx="1219320" cy="45576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133720" y="99072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inosaurs gone, Mammals would inh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th and dominate the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2120" y="1676520"/>
            <a:ext cx="6629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mammals thrive such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ses, Mammoths, and Pr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38080" y="2362320"/>
            <a:ext cx="6705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ind would evolve and inhab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th expanding it’s populati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" y="28954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Ice Ages came in went ca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tinction of many large mammal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858000" y="0"/>
            <a:ext cx="2286000" cy="2209680"/>
            <a:chOff x="6858000" y="0"/>
            <a:chExt cx="2286000" cy="2209680"/>
          </a:xfrm>
        </p:grpSpPr>
        <p:pic>
          <p:nvPicPr>
            <p:cNvPr id="484" name="" descr=""/>
            <p:cNvPicPr/>
            <p:nvPr/>
          </p:nvPicPr>
          <p:blipFill>
            <a:blip r:embed="rId10"/>
            <a:stretch/>
          </p:blipFill>
          <p:spPr>
            <a:xfrm>
              <a:off x="6858000" y="0"/>
              <a:ext cx="22860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7943040" y="112320"/>
              <a:ext cx="1007280" cy="194760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051680" y="518040"/>
              <a:ext cx="998640" cy="153324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94200" y="1161000"/>
              <a:ext cx="92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41320" y="282240"/>
              <a:ext cx="898920" cy="971280"/>
            </a:xfrm>
            <a:custGeom>
              <a:avLst/>
              <a:gdLst/>
              <a:ahLst/>
              <a:rect l="l" t="t" r="r" b="b"/>
              <a:pathLst>
                <a:path w="1114" h="1245">
                  <a:moveTo>
                    <a:pt x="1033" y="1118"/>
                  </a:moveTo>
                  <a:cubicBezTo>
                    <a:pt x="909" y="1040"/>
                    <a:pt x="294" y="471"/>
                    <a:pt x="147" y="340"/>
                  </a:cubicBezTo>
                  <a:cubicBezTo>
                    <a:pt x="0" y="209"/>
                    <a:pt x="136" y="354"/>
                    <a:pt x="153" y="331"/>
                  </a:cubicBezTo>
                  <a:cubicBezTo>
                    <a:pt x="170" y="308"/>
                    <a:pt x="202" y="245"/>
                    <a:pt x="249" y="205"/>
                  </a:cubicBezTo>
                  <a:cubicBezTo>
                    <a:pt x="296" y="165"/>
                    <a:pt x="397" y="97"/>
                    <a:pt x="438" y="91"/>
                  </a:cubicBezTo>
                  <a:cubicBezTo>
                    <a:pt x="479" y="85"/>
                    <a:pt x="399" y="0"/>
                    <a:pt x="497" y="166"/>
                  </a:cubicBezTo>
                  <a:cubicBezTo>
                    <a:pt x="595" y="332"/>
                    <a:pt x="936" y="927"/>
                    <a:pt x="1025" y="1086"/>
                  </a:cubicBezTo>
                  <a:cubicBezTo>
                    <a:pt x="1114" y="1245"/>
                    <a:pt x="1031" y="1111"/>
                    <a:pt x="1033" y="1118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876400">
              <a:off x="7370640" y="633600"/>
              <a:ext cx="5241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420680" y="133920"/>
              <a:ext cx="588240" cy="1131480"/>
            </a:xfrm>
            <a:custGeom>
              <a:avLst/>
              <a:gdLst/>
              <a:ahLst/>
              <a:rect l="l" t="t" r="r" b="b"/>
              <a:pathLst>
                <a:path w="729" h="1450">
                  <a:moveTo>
                    <a:pt x="699" y="1304"/>
                  </a:moveTo>
                  <a:cubicBezTo>
                    <a:pt x="601" y="1144"/>
                    <a:pt x="198" y="439"/>
                    <a:pt x="99" y="264"/>
                  </a:cubicBezTo>
                  <a:cubicBezTo>
                    <a:pt x="0" y="89"/>
                    <a:pt x="82" y="269"/>
                    <a:pt x="107" y="256"/>
                  </a:cubicBezTo>
                  <a:cubicBezTo>
                    <a:pt x="132" y="243"/>
                    <a:pt x="190" y="205"/>
                    <a:pt x="247" y="184"/>
                  </a:cubicBezTo>
                  <a:cubicBezTo>
                    <a:pt x="304" y="163"/>
                    <a:pt x="410" y="127"/>
                    <a:pt x="447" y="128"/>
                  </a:cubicBezTo>
                  <a:cubicBezTo>
                    <a:pt x="484" y="129"/>
                    <a:pt x="430" y="0"/>
                    <a:pt x="471" y="189"/>
                  </a:cubicBezTo>
                  <a:cubicBezTo>
                    <a:pt x="512" y="378"/>
                    <a:pt x="653" y="1078"/>
                    <a:pt x="691" y="1264"/>
                  </a:cubicBezTo>
                  <a:cubicBezTo>
                    <a:pt x="729" y="1450"/>
                    <a:pt x="697" y="1296"/>
                    <a:pt x="699" y="1304"/>
                  </a:cubicBezTo>
                  <a:close/>
                </a:path>
              </a:pathLst>
            </a:custGeom>
            <a:solidFill>
              <a:srgbClr val="008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3994200">
              <a:off x="7525800" y="559080"/>
              <a:ext cx="5241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sozo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775640" y="131040"/>
              <a:ext cx="237240" cy="1139040"/>
            </a:xfrm>
            <a:custGeom>
              <a:avLst/>
              <a:gdLst/>
              <a:ahLst/>
              <a:rect l="l" t="t" r="r" b="b"/>
              <a:pathLst>
                <a:path w="294" h="1460">
                  <a:moveTo>
                    <a:pt x="251" y="1264"/>
                  </a:moveTo>
                  <a:cubicBezTo>
                    <a:pt x="213" y="1095"/>
                    <a:pt x="78" y="421"/>
                    <a:pt x="39" y="230"/>
                  </a:cubicBezTo>
                  <a:cubicBezTo>
                    <a:pt x="0" y="39"/>
                    <a:pt x="9" y="142"/>
                    <a:pt x="18" y="119"/>
                  </a:cubicBezTo>
                  <a:cubicBezTo>
                    <a:pt x="27" y="96"/>
                    <a:pt x="68" y="100"/>
                    <a:pt x="93" y="95"/>
                  </a:cubicBezTo>
                  <a:cubicBezTo>
                    <a:pt x="118" y="90"/>
                    <a:pt x="139" y="87"/>
                    <a:pt x="168" y="86"/>
                  </a:cubicBezTo>
                  <a:cubicBezTo>
                    <a:pt x="197" y="85"/>
                    <a:pt x="250" y="72"/>
                    <a:pt x="269" y="90"/>
                  </a:cubicBezTo>
                  <a:cubicBezTo>
                    <a:pt x="288" y="108"/>
                    <a:pt x="281" y="0"/>
                    <a:pt x="281" y="192"/>
                  </a:cubicBezTo>
                  <a:cubicBezTo>
                    <a:pt x="281" y="384"/>
                    <a:pt x="272" y="1065"/>
                    <a:pt x="267" y="1244"/>
                  </a:cubicBezTo>
                  <a:cubicBezTo>
                    <a:pt x="262" y="1423"/>
                    <a:pt x="294" y="1460"/>
                    <a:pt x="251" y="1264"/>
                  </a:cubicBezTo>
                  <a:close/>
                </a:path>
              </a:pathLst>
            </a:custGeom>
            <a:solidFill>
              <a:srgbClr val="0066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7981560" y="186840"/>
              <a:ext cx="0" cy="973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4927200">
              <a:off x="7623720" y="464760"/>
              <a:ext cx="5990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ozo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4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6.33673E-006 C -0.03664 0.01273 -0.07327 0.02568 -0.10782 0.03123 C -0.14237 0.03678 -0.17865 0.01874 -0.20782 0.03285 C -0.23698 0.04695 -0.25226 0.09367 -0.28316 0.11587 C -0.31407 0.13807 -0.35313 0.16051 -0.39358 0.16606 C -0.43403 0.17161 -0.48369 0.15126 -0.52605 0.14871 C -0.56841 0.14617 -0.59306 0.14201 -0.64809 0.15056 C -0.70313 0.15912 -0.78056 0.17392 -0.85591 0.20075 C -0.93125 0.22757 -1.05938 0.29302 -1.1 0.31152 E">
                                      <p:cBhvr>
                                        <p:cTn id="709" dur="15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1" dur="1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4419720" y="1828800"/>
            <a:ext cx="1981080" cy="3962520"/>
          </a:xfrm>
          <a:custGeom>
            <a:avLst/>
            <a:gdLst/>
            <a:ahLst/>
            <a:rect l="l" t="t" r="r" b="b"/>
            <a:pathLst>
              <a:path w="1248" h="2496">
                <a:moveTo>
                  <a:pt x="67" y="1388"/>
                </a:moveTo>
                <a:cubicBezTo>
                  <a:pt x="68" y="1137"/>
                  <a:pt x="70" y="421"/>
                  <a:pt x="75" y="211"/>
                </a:cubicBezTo>
                <a:cubicBezTo>
                  <a:pt x="81" y="0"/>
                  <a:pt x="34" y="124"/>
                  <a:pt x="101" y="120"/>
                </a:cubicBezTo>
                <a:cubicBezTo>
                  <a:pt x="168" y="116"/>
                  <a:pt x="340" y="129"/>
                  <a:pt x="480" y="186"/>
                </a:cubicBezTo>
                <a:cubicBezTo>
                  <a:pt x="620" y="243"/>
                  <a:pt x="818" y="329"/>
                  <a:pt x="939" y="463"/>
                </a:cubicBezTo>
                <a:cubicBezTo>
                  <a:pt x="1060" y="597"/>
                  <a:pt x="1167" y="805"/>
                  <a:pt x="1207" y="991"/>
                </a:cubicBezTo>
                <a:cubicBezTo>
                  <a:pt x="1248" y="1177"/>
                  <a:pt x="1242" y="1400"/>
                  <a:pt x="1185" y="1583"/>
                </a:cubicBezTo>
                <a:cubicBezTo>
                  <a:pt x="1128" y="1766"/>
                  <a:pt x="991" y="1958"/>
                  <a:pt x="865" y="2086"/>
                </a:cubicBezTo>
                <a:cubicBezTo>
                  <a:pt x="739" y="2214"/>
                  <a:pt x="566" y="2298"/>
                  <a:pt x="432" y="2354"/>
                </a:cubicBezTo>
                <a:cubicBezTo>
                  <a:pt x="298" y="2411"/>
                  <a:pt x="126" y="2420"/>
                  <a:pt x="63" y="2424"/>
                </a:cubicBezTo>
                <a:cubicBezTo>
                  <a:pt x="0" y="2429"/>
                  <a:pt x="55" y="2496"/>
                  <a:pt x="55" y="2379"/>
                </a:cubicBezTo>
                <a:cubicBezTo>
                  <a:pt x="55" y="2262"/>
                  <a:pt x="64" y="1883"/>
                  <a:pt x="67" y="1718"/>
                </a:cubicBezTo>
                <a:cubicBezTo>
                  <a:pt x="70" y="1553"/>
                  <a:pt x="67" y="1641"/>
                  <a:pt x="67" y="138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666880" y="2654280"/>
            <a:ext cx="1963800" cy="3119400"/>
          </a:xfrm>
          <a:custGeom>
            <a:avLst/>
            <a:gdLst/>
            <a:ahLst/>
            <a:rect l="l" t="t" r="r" b="b"/>
            <a:pathLst>
              <a:path w="1237" h="1965">
                <a:moveTo>
                  <a:pt x="1162" y="1907"/>
                </a:moveTo>
                <a:cubicBezTo>
                  <a:pt x="1152" y="1965"/>
                  <a:pt x="1155" y="1916"/>
                  <a:pt x="1099" y="1907"/>
                </a:cubicBezTo>
                <a:cubicBezTo>
                  <a:pt x="1043" y="1898"/>
                  <a:pt x="914" y="1886"/>
                  <a:pt x="824" y="1856"/>
                </a:cubicBezTo>
                <a:cubicBezTo>
                  <a:pt x="734" y="1826"/>
                  <a:pt x="642" y="1774"/>
                  <a:pt x="561" y="1724"/>
                </a:cubicBezTo>
                <a:cubicBezTo>
                  <a:pt x="480" y="1674"/>
                  <a:pt x="396" y="1610"/>
                  <a:pt x="337" y="1553"/>
                </a:cubicBezTo>
                <a:cubicBezTo>
                  <a:pt x="278" y="1496"/>
                  <a:pt x="243" y="1438"/>
                  <a:pt x="205" y="1386"/>
                </a:cubicBezTo>
                <a:cubicBezTo>
                  <a:pt x="169" y="1335"/>
                  <a:pt x="146" y="1300"/>
                  <a:pt x="119" y="1243"/>
                </a:cubicBezTo>
                <a:cubicBezTo>
                  <a:pt x="93" y="1186"/>
                  <a:pt x="63" y="1130"/>
                  <a:pt x="45" y="1044"/>
                </a:cubicBezTo>
                <a:cubicBezTo>
                  <a:pt x="26" y="958"/>
                  <a:pt x="0" y="848"/>
                  <a:pt x="7" y="728"/>
                </a:cubicBezTo>
                <a:cubicBezTo>
                  <a:pt x="15" y="608"/>
                  <a:pt x="51" y="435"/>
                  <a:pt x="87" y="325"/>
                </a:cubicBezTo>
                <a:cubicBezTo>
                  <a:pt x="123" y="215"/>
                  <a:pt x="194" y="112"/>
                  <a:pt x="225" y="68"/>
                </a:cubicBezTo>
                <a:cubicBezTo>
                  <a:pt x="256" y="24"/>
                  <a:pt x="200" y="0"/>
                  <a:pt x="276" y="59"/>
                </a:cubicBezTo>
                <a:cubicBezTo>
                  <a:pt x="352" y="118"/>
                  <a:pt x="532" y="291"/>
                  <a:pt x="678" y="419"/>
                </a:cubicBezTo>
                <a:cubicBezTo>
                  <a:pt x="824" y="547"/>
                  <a:pt x="1073" y="758"/>
                  <a:pt x="1155" y="827"/>
                </a:cubicBezTo>
                <a:cubicBezTo>
                  <a:pt x="1237" y="896"/>
                  <a:pt x="1167" y="796"/>
                  <a:pt x="1170" y="833"/>
                </a:cubicBezTo>
                <a:cubicBezTo>
                  <a:pt x="1173" y="870"/>
                  <a:pt x="1175" y="927"/>
                  <a:pt x="1174" y="1048"/>
                </a:cubicBezTo>
                <a:cubicBezTo>
                  <a:pt x="1173" y="1169"/>
                  <a:pt x="1164" y="1417"/>
                  <a:pt x="1162" y="1560"/>
                </a:cubicBezTo>
                <a:cubicBezTo>
                  <a:pt x="1160" y="1703"/>
                  <a:pt x="1172" y="1849"/>
                  <a:pt x="1162" y="1907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733920" y="39625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am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843280" y="2174760"/>
            <a:ext cx="1768320" cy="1976400"/>
          </a:xfrm>
          <a:custGeom>
            <a:avLst/>
            <a:gdLst/>
            <a:ahLst/>
            <a:rect l="l" t="t" r="r" b="b"/>
            <a:pathLst>
              <a:path w="1114" h="1245">
                <a:moveTo>
                  <a:pt x="1033" y="1118"/>
                </a:moveTo>
                <a:cubicBezTo>
                  <a:pt x="909" y="1040"/>
                  <a:pt x="294" y="471"/>
                  <a:pt x="147" y="340"/>
                </a:cubicBezTo>
                <a:cubicBezTo>
                  <a:pt x="0" y="209"/>
                  <a:pt x="136" y="354"/>
                  <a:pt x="153" y="331"/>
                </a:cubicBezTo>
                <a:cubicBezTo>
                  <a:pt x="170" y="308"/>
                  <a:pt x="202" y="245"/>
                  <a:pt x="249" y="205"/>
                </a:cubicBezTo>
                <a:cubicBezTo>
                  <a:pt x="296" y="165"/>
                  <a:pt x="397" y="97"/>
                  <a:pt x="438" y="91"/>
                </a:cubicBezTo>
                <a:cubicBezTo>
                  <a:pt x="479" y="85"/>
                  <a:pt x="399" y="0"/>
                  <a:pt x="497" y="166"/>
                </a:cubicBezTo>
                <a:cubicBezTo>
                  <a:pt x="595" y="332"/>
                  <a:pt x="936" y="927"/>
                  <a:pt x="1025" y="1086"/>
                </a:cubicBezTo>
                <a:cubicBezTo>
                  <a:pt x="1114" y="1245"/>
                  <a:pt x="1031" y="1111"/>
                  <a:pt x="1033" y="1118"/>
                </a:cubicBezTo>
                <a:close/>
              </a:path>
            </a:pathLst>
          </a:custGeom>
          <a:solidFill>
            <a:srgbClr val="5f5f5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2876400">
            <a:off x="3276360" y="28954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e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392640" y="1873080"/>
            <a:ext cx="1157040" cy="2302200"/>
          </a:xfrm>
          <a:custGeom>
            <a:avLst/>
            <a:gdLst/>
            <a:ahLst/>
            <a:rect l="l" t="t" r="r" b="b"/>
            <a:pathLst>
              <a:path w="729" h="1450">
                <a:moveTo>
                  <a:pt x="699" y="1304"/>
                </a:moveTo>
                <a:cubicBezTo>
                  <a:pt x="601" y="1144"/>
                  <a:pt x="198" y="439"/>
                  <a:pt x="99" y="264"/>
                </a:cubicBezTo>
                <a:cubicBezTo>
                  <a:pt x="0" y="89"/>
                  <a:pt x="82" y="269"/>
                  <a:pt x="107" y="256"/>
                </a:cubicBezTo>
                <a:cubicBezTo>
                  <a:pt x="132" y="243"/>
                  <a:pt x="190" y="205"/>
                  <a:pt x="247" y="184"/>
                </a:cubicBezTo>
                <a:cubicBezTo>
                  <a:pt x="304" y="163"/>
                  <a:pt x="410" y="127"/>
                  <a:pt x="447" y="128"/>
                </a:cubicBezTo>
                <a:cubicBezTo>
                  <a:pt x="484" y="129"/>
                  <a:pt x="430" y="0"/>
                  <a:pt x="471" y="189"/>
                </a:cubicBezTo>
                <a:cubicBezTo>
                  <a:pt x="512" y="378"/>
                  <a:pt x="653" y="1078"/>
                  <a:pt x="691" y="1264"/>
                </a:cubicBezTo>
                <a:cubicBezTo>
                  <a:pt x="729" y="1450"/>
                  <a:pt x="697" y="1296"/>
                  <a:pt x="699" y="1304"/>
                </a:cubicBezTo>
                <a:close/>
              </a:path>
            </a:pathLst>
          </a:custGeom>
          <a:solidFill>
            <a:srgbClr val="008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3994200">
            <a:off x="3581280" y="274320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91040" y="1866960"/>
            <a:ext cx="466560" cy="2317680"/>
          </a:xfrm>
          <a:custGeom>
            <a:avLst/>
            <a:gdLst/>
            <a:ahLst/>
            <a:rect l="l" t="t" r="r" b="b"/>
            <a:pathLst>
              <a:path w="294" h="1460">
                <a:moveTo>
                  <a:pt x="251" y="1264"/>
                </a:moveTo>
                <a:cubicBezTo>
                  <a:pt x="213" y="1095"/>
                  <a:pt x="78" y="421"/>
                  <a:pt x="39" y="230"/>
                </a:cubicBezTo>
                <a:cubicBezTo>
                  <a:pt x="0" y="39"/>
                  <a:pt x="9" y="142"/>
                  <a:pt x="18" y="119"/>
                </a:cubicBezTo>
                <a:cubicBezTo>
                  <a:pt x="27" y="96"/>
                  <a:pt x="68" y="100"/>
                  <a:pt x="93" y="95"/>
                </a:cubicBezTo>
                <a:cubicBezTo>
                  <a:pt x="118" y="90"/>
                  <a:pt x="139" y="87"/>
                  <a:pt x="168" y="86"/>
                </a:cubicBezTo>
                <a:cubicBezTo>
                  <a:pt x="197" y="85"/>
                  <a:pt x="250" y="72"/>
                  <a:pt x="269" y="90"/>
                </a:cubicBezTo>
                <a:cubicBezTo>
                  <a:pt x="288" y="108"/>
                  <a:pt x="281" y="0"/>
                  <a:pt x="281" y="192"/>
                </a:cubicBezTo>
                <a:cubicBezTo>
                  <a:pt x="281" y="384"/>
                  <a:pt x="272" y="1065"/>
                  <a:pt x="267" y="1244"/>
                </a:cubicBezTo>
                <a:cubicBezTo>
                  <a:pt x="262" y="1423"/>
                  <a:pt x="294" y="1460"/>
                  <a:pt x="251" y="1264"/>
                </a:cubicBezTo>
                <a:close/>
              </a:path>
            </a:pathLst>
          </a:custGeom>
          <a:solidFill>
            <a:srgbClr val="00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495680" y="1981080"/>
            <a:ext cx="0" cy="198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4927200">
            <a:off x="3772080" y="2552400"/>
            <a:ext cx="121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0066ff"/>
                </a:solidFill>
                <a:latin typeface="Arial Black"/>
              </a:rPr>
              <a:t>Cen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0066ff"/>
                </a:solidFill>
                <a:latin typeface="Arial Black"/>
              </a:rPr>
              <a:t>Cen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286000" y="1600200"/>
            <a:ext cx="4495680" cy="4495680"/>
            <a:chOff x="2286000" y="1600200"/>
            <a:chExt cx="4495680" cy="4495680"/>
          </a:xfrm>
        </p:grpSpPr>
        <p:pic>
          <p:nvPicPr>
            <p:cNvPr id="509" name="" descr=""/>
            <p:cNvPicPr/>
            <p:nvPr/>
          </p:nvPicPr>
          <p:blipFill>
            <a:blip r:embed="rId1"/>
            <a:stretch/>
          </p:blipFill>
          <p:spPr>
            <a:xfrm>
              <a:off x="2286000" y="1600200"/>
              <a:ext cx="44956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4419720" y="1828800"/>
              <a:ext cx="1981080" cy="396252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66880" y="2654280"/>
              <a:ext cx="1963800" cy="311940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33920" y="3962520"/>
              <a:ext cx="1828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43280" y="2174760"/>
              <a:ext cx="1768320" cy="1976400"/>
            </a:xfrm>
            <a:custGeom>
              <a:avLst/>
              <a:gdLst/>
              <a:ahLst/>
              <a:rect l="l" t="t" r="r" b="b"/>
              <a:pathLst>
                <a:path w="1114" h="1245">
                  <a:moveTo>
                    <a:pt x="1033" y="1118"/>
                  </a:moveTo>
                  <a:cubicBezTo>
                    <a:pt x="909" y="1040"/>
                    <a:pt x="294" y="471"/>
                    <a:pt x="147" y="340"/>
                  </a:cubicBezTo>
                  <a:cubicBezTo>
                    <a:pt x="0" y="209"/>
                    <a:pt x="136" y="354"/>
                    <a:pt x="153" y="331"/>
                  </a:cubicBezTo>
                  <a:cubicBezTo>
                    <a:pt x="170" y="308"/>
                    <a:pt x="202" y="245"/>
                    <a:pt x="249" y="205"/>
                  </a:cubicBezTo>
                  <a:cubicBezTo>
                    <a:pt x="296" y="165"/>
                    <a:pt x="397" y="97"/>
                    <a:pt x="438" y="91"/>
                  </a:cubicBezTo>
                  <a:cubicBezTo>
                    <a:pt x="479" y="85"/>
                    <a:pt x="399" y="0"/>
                    <a:pt x="497" y="166"/>
                  </a:cubicBezTo>
                  <a:cubicBezTo>
                    <a:pt x="595" y="332"/>
                    <a:pt x="936" y="927"/>
                    <a:pt x="1025" y="1086"/>
                  </a:cubicBezTo>
                  <a:cubicBezTo>
                    <a:pt x="1114" y="1245"/>
                    <a:pt x="1031" y="1111"/>
                    <a:pt x="1033" y="1118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2876400">
              <a:off x="3276360" y="2895480"/>
              <a:ext cx="1066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92640" y="1873080"/>
              <a:ext cx="1157040" cy="2302200"/>
            </a:xfrm>
            <a:custGeom>
              <a:avLst/>
              <a:gdLst/>
              <a:ahLst/>
              <a:rect l="l" t="t" r="r" b="b"/>
              <a:pathLst>
                <a:path w="729" h="1450">
                  <a:moveTo>
                    <a:pt x="699" y="1304"/>
                  </a:moveTo>
                  <a:cubicBezTo>
                    <a:pt x="601" y="1144"/>
                    <a:pt x="198" y="439"/>
                    <a:pt x="99" y="264"/>
                  </a:cubicBezTo>
                  <a:cubicBezTo>
                    <a:pt x="0" y="89"/>
                    <a:pt x="82" y="269"/>
                    <a:pt x="107" y="256"/>
                  </a:cubicBezTo>
                  <a:cubicBezTo>
                    <a:pt x="132" y="243"/>
                    <a:pt x="190" y="205"/>
                    <a:pt x="247" y="184"/>
                  </a:cubicBezTo>
                  <a:cubicBezTo>
                    <a:pt x="304" y="163"/>
                    <a:pt x="410" y="127"/>
                    <a:pt x="447" y="128"/>
                  </a:cubicBezTo>
                  <a:cubicBezTo>
                    <a:pt x="484" y="129"/>
                    <a:pt x="430" y="0"/>
                    <a:pt x="471" y="189"/>
                  </a:cubicBezTo>
                  <a:cubicBezTo>
                    <a:pt x="512" y="378"/>
                    <a:pt x="653" y="1078"/>
                    <a:pt x="691" y="1264"/>
                  </a:cubicBezTo>
                  <a:cubicBezTo>
                    <a:pt x="729" y="1450"/>
                    <a:pt x="697" y="1296"/>
                    <a:pt x="699" y="1304"/>
                  </a:cubicBezTo>
                  <a:close/>
                </a:path>
              </a:pathLst>
            </a:custGeom>
            <a:solidFill>
              <a:srgbClr val="008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3994200">
              <a:off x="3581280" y="2743200"/>
              <a:ext cx="1066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s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91040" y="1866960"/>
              <a:ext cx="466560" cy="2317680"/>
            </a:xfrm>
            <a:custGeom>
              <a:avLst/>
              <a:gdLst/>
              <a:ahLst/>
              <a:rect l="l" t="t" r="r" b="b"/>
              <a:pathLst>
                <a:path w="294" h="1460">
                  <a:moveTo>
                    <a:pt x="251" y="1264"/>
                  </a:moveTo>
                  <a:cubicBezTo>
                    <a:pt x="213" y="1095"/>
                    <a:pt x="78" y="421"/>
                    <a:pt x="39" y="230"/>
                  </a:cubicBezTo>
                  <a:cubicBezTo>
                    <a:pt x="0" y="39"/>
                    <a:pt x="9" y="142"/>
                    <a:pt x="18" y="119"/>
                  </a:cubicBezTo>
                  <a:cubicBezTo>
                    <a:pt x="27" y="96"/>
                    <a:pt x="68" y="100"/>
                    <a:pt x="93" y="95"/>
                  </a:cubicBezTo>
                  <a:cubicBezTo>
                    <a:pt x="118" y="90"/>
                    <a:pt x="139" y="87"/>
                    <a:pt x="168" y="86"/>
                  </a:cubicBezTo>
                  <a:cubicBezTo>
                    <a:pt x="197" y="85"/>
                    <a:pt x="250" y="72"/>
                    <a:pt x="269" y="90"/>
                  </a:cubicBezTo>
                  <a:cubicBezTo>
                    <a:pt x="288" y="108"/>
                    <a:pt x="281" y="0"/>
                    <a:pt x="281" y="192"/>
                  </a:cubicBezTo>
                  <a:cubicBezTo>
                    <a:pt x="281" y="384"/>
                    <a:pt x="272" y="1065"/>
                    <a:pt x="267" y="1244"/>
                  </a:cubicBezTo>
                  <a:cubicBezTo>
                    <a:pt x="262" y="1423"/>
                    <a:pt x="294" y="1460"/>
                    <a:pt x="251" y="1264"/>
                  </a:cubicBezTo>
                  <a:close/>
                </a:path>
              </a:pathLst>
            </a:custGeom>
            <a:solidFill>
              <a:srgbClr val="0066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4495680" y="1981080"/>
              <a:ext cx="0" cy="198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4927200">
              <a:off x="3772080" y="2552400"/>
              <a:ext cx="1218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n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 flipH="1" flipV="1">
            <a:off x="7924680" y="2514600"/>
            <a:ext cx="152640" cy="8380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3580920" y="2514600"/>
            <a:ext cx="43434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657600" y="220968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e of the largest Ice ages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8458200" y="2133360"/>
            <a:ext cx="76320" cy="10666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580920" y="2133720"/>
            <a:ext cx="487692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95480" y="18288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Human Ancestors appea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12952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,000 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n human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8610480" y="1676160"/>
            <a:ext cx="0" cy="15238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3581280" y="1676520"/>
            <a:ext cx="50292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7" dur="2000" fill="hold"/>
                                        <p:tgtEl>
                                          <p:spTgt spid="50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7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3.33333E-006 L 0.45834 0.42222 E">
                                      <p:cBhvr>
                                        <p:cTn id="729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are major geologic events of the </a:t>
            </a:r>
            <a:r>
              <a:rPr b="1" lang="en-US" sz="4000" spc="-1" strike="noStrike">
                <a:solidFill>
                  <a:srgbClr val="0066ff"/>
                </a:solidFill>
                <a:latin typeface="Arial Black"/>
              </a:rPr>
              <a:t>Cen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mmals domi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5 m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jor ice age ev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 mya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ancestors appe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00,000ya-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st modern 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our writing this down!!!!!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o not writ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2286000"/>
            <a:ext cx="1752840" cy="3124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86600" y="259092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iz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 the events in ord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s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you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mmals dominate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extinction 90% of all life wipe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tiles dominate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sio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toplankton create oxygen rich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extinction 65% of all life wiped out including dinosa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pic: Relative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y 2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how scientists use relative dating techniques to put geologic events in or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how to apply the laws of geolog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he law horizontality, law of superposition, law of cross-cutting relationship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ickwri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2-3 sentences answer one of the questions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scientists know which fossils are older and which fossils are youn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you have a full trash can, where would you find the old trash??? Where would you find the new trash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-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lative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5562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our last notes, we learned the history of the earth, when reptiles first appeared, when dinosaurs went extinct, when mammals dominated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how do we know the order of all these eve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way scientist’s have figured out Earth’s History is by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Relative 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 rot="16200000">
            <a:off x="7467480" y="22935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 rot="16200000">
            <a:off x="4781520" y="8629560"/>
            <a:ext cx="4152960" cy="1067040"/>
          </a:xfrm>
          <a:prstGeom prst="rect">
            <a:avLst/>
          </a:prstGeom>
          <a:solidFill>
            <a:srgbClr val="80000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cam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 rot="16200000">
            <a:off x="7356600" y="7502400"/>
            <a:ext cx="1247760" cy="11779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 rot="16200000">
            <a:off x="7043760" y="9415080"/>
            <a:ext cx="1476360" cy="9334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8534520" y="762012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Water and Atmosphe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534520" y="1188720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Plants, fish, and invertebrat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534520" y="16002000"/>
            <a:ext cx="609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Repti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4781520" y="12820680"/>
            <a:ext cx="4152960" cy="1067040"/>
          </a:xfrm>
          <a:prstGeom prst="rect">
            <a:avLst/>
          </a:prstGeom>
          <a:solidFill>
            <a:srgbClr val="80808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le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16200000">
            <a:off x="4781520" y="17011440"/>
            <a:ext cx="4152960" cy="1067040"/>
          </a:xfrm>
          <a:prstGeom prst="rect">
            <a:avLst/>
          </a:prstGeom>
          <a:solidFill>
            <a:srgbClr val="00800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s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16200000">
            <a:off x="4781520" y="21202560"/>
            <a:ext cx="4152960" cy="1067040"/>
          </a:xfrm>
          <a:prstGeom prst="rect">
            <a:avLst/>
          </a:prstGeom>
          <a:solidFill>
            <a:srgbClr val="0066ff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en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 rot="16200000">
            <a:off x="7687440" y="13191120"/>
            <a:ext cx="911160" cy="11984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5"/>
          <a:stretch/>
        </p:blipFill>
        <p:spPr>
          <a:xfrm rot="17314200">
            <a:off x="7436160" y="12451320"/>
            <a:ext cx="1257480" cy="5857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6"/>
          <a:stretch/>
        </p:blipFill>
        <p:spPr>
          <a:xfrm rot="17623200">
            <a:off x="7329960" y="11567520"/>
            <a:ext cx="1067040" cy="6397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7"/>
          <a:stretch/>
        </p:blipFill>
        <p:spPr>
          <a:xfrm rot="16200000">
            <a:off x="7687080" y="13953240"/>
            <a:ext cx="911520" cy="11984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8"/>
          <a:stretch/>
        </p:blipFill>
        <p:spPr>
          <a:xfrm rot="16200000">
            <a:off x="7520760" y="15872400"/>
            <a:ext cx="1266840" cy="7635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9"/>
          <a:stretch/>
        </p:blipFill>
        <p:spPr>
          <a:xfrm rot="16200000">
            <a:off x="7057080" y="16793280"/>
            <a:ext cx="1819440" cy="145584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10"/>
          <a:stretch/>
        </p:blipFill>
        <p:spPr>
          <a:xfrm rot="16200000">
            <a:off x="7532640" y="18146520"/>
            <a:ext cx="1131840" cy="141444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8534520" y="19964520"/>
            <a:ext cx="609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Mamma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1"/>
          <a:stretch/>
        </p:blipFill>
        <p:spPr>
          <a:xfrm rot="16200000">
            <a:off x="7195320" y="19898640"/>
            <a:ext cx="1828800" cy="10461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12"/>
          <a:stretch/>
        </p:blipFill>
        <p:spPr>
          <a:xfrm rot="16200000">
            <a:off x="7275240" y="21327840"/>
            <a:ext cx="1524240" cy="123516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13"/>
          <a:stretch/>
        </p:blipFill>
        <p:spPr>
          <a:xfrm rot="16200000">
            <a:off x="7562880" y="22155120"/>
            <a:ext cx="1047600" cy="12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781" dur="35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783" dur="35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785" dur="35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787" dur="35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789" dur="35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791" dur="35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793" dur="35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795" dur="35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797" dur="35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799" dur="35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01" dur="35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03" dur="35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05" dur="35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07" dur="35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09" dur="35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11" dur="35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13" dur="35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15" dur="35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17" dur="35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19" dur="35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821" dur="35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ickwri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2-3 sentences answer one of the questions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think a mass extinction is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know what a mass extinction is, what do you think causes them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ing the age of the earth 4.6 BYO, When do you think life first appeared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-380880" y="2133720"/>
            <a:ext cx="784836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lative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ve Dating is the concept of dating rocks by putting geologic event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does not give an exact age of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8854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124080" y="37972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3808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23616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46483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8854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801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31240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46476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808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38854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rot="192600">
            <a:off x="3885840" y="47113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371600" y="47116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133720" y="5931000"/>
            <a:ext cx="220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-304920" y="2108160"/>
            <a:ext cx="7739280" cy="2036880"/>
          </a:xfrm>
          <a:custGeom>
            <a:avLst/>
            <a:gdLst/>
            <a:ahLst/>
            <a:rect l="l" t="t" r="r" b="b"/>
            <a:pathLst>
              <a:path w="4875" h="1283">
                <a:moveTo>
                  <a:pt x="4513" y="1188"/>
                </a:moveTo>
                <a:cubicBezTo>
                  <a:pt x="4204" y="1241"/>
                  <a:pt x="4132" y="1186"/>
                  <a:pt x="3903" y="1127"/>
                </a:cubicBezTo>
                <a:cubicBezTo>
                  <a:pt x="3425" y="1140"/>
                  <a:pt x="2964" y="1157"/>
                  <a:pt x="2480" y="1161"/>
                </a:cubicBezTo>
                <a:cubicBezTo>
                  <a:pt x="2438" y="1190"/>
                  <a:pt x="2482" y="1165"/>
                  <a:pt x="2399" y="1182"/>
                </a:cubicBezTo>
                <a:cubicBezTo>
                  <a:pt x="2378" y="1186"/>
                  <a:pt x="2359" y="1196"/>
                  <a:pt x="2338" y="1202"/>
                </a:cubicBezTo>
                <a:cubicBezTo>
                  <a:pt x="2295" y="1214"/>
                  <a:pt x="2340" y="1203"/>
                  <a:pt x="2283" y="1229"/>
                </a:cubicBezTo>
                <a:cubicBezTo>
                  <a:pt x="2224" y="1256"/>
                  <a:pt x="2156" y="1267"/>
                  <a:pt x="2094" y="1283"/>
                </a:cubicBezTo>
                <a:cubicBezTo>
                  <a:pt x="1913" y="1281"/>
                  <a:pt x="1733" y="1282"/>
                  <a:pt x="1552" y="1276"/>
                </a:cubicBezTo>
                <a:cubicBezTo>
                  <a:pt x="1523" y="1275"/>
                  <a:pt x="1475" y="1230"/>
                  <a:pt x="1443" y="1222"/>
                </a:cubicBezTo>
                <a:cubicBezTo>
                  <a:pt x="1389" y="1209"/>
                  <a:pt x="1335" y="1202"/>
                  <a:pt x="1280" y="1188"/>
                </a:cubicBezTo>
                <a:cubicBezTo>
                  <a:pt x="1002" y="1117"/>
                  <a:pt x="707" y="1184"/>
                  <a:pt x="420" y="1182"/>
                </a:cubicBezTo>
                <a:cubicBezTo>
                  <a:pt x="315" y="1155"/>
                  <a:pt x="277" y="1046"/>
                  <a:pt x="189" y="992"/>
                </a:cubicBezTo>
                <a:cubicBezTo>
                  <a:pt x="167" y="957"/>
                  <a:pt x="183" y="975"/>
                  <a:pt x="135" y="944"/>
                </a:cubicBezTo>
                <a:cubicBezTo>
                  <a:pt x="128" y="940"/>
                  <a:pt x="115" y="931"/>
                  <a:pt x="115" y="931"/>
                </a:cubicBezTo>
                <a:cubicBezTo>
                  <a:pt x="110" y="924"/>
                  <a:pt x="107" y="916"/>
                  <a:pt x="101" y="910"/>
                </a:cubicBezTo>
                <a:cubicBezTo>
                  <a:pt x="89" y="899"/>
                  <a:pt x="61" y="883"/>
                  <a:pt x="61" y="883"/>
                </a:cubicBezTo>
                <a:cubicBezTo>
                  <a:pt x="36" y="847"/>
                  <a:pt x="13" y="825"/>
                  <a:pt x="0" y="782"/>
                </a:cubicBezTo>
                <a:cubicBezTo>
                  <a:pt x="2" y="750"/>
                  <a:pt x="1" y="718"/>
                  <a:pt x="6" y="687"/>
                </a:cubicBezTo>
                <a:cubicBezTo>
                  <a:pt x="13" y="646"/>
                  <a:pt x="94" y="611"/>
                  <a:pt x="128" y="599"/>
                </a:cubicBezTo>
                <a:cubicBezTo>
                  <a:pt x="169" y="558"/>
                  <a:pt x="126" y="593"/>
                  <a:pt x="176" y="572"/>
                </a:cubicBezTo>
                <a:cubicBezTo>
                  <a:pt x="200" y="562"/>
                  <a:pt x="195" y="552"/>
                  <a:pt x="217" y="538"/>
                </a:cubicBezTo>
                <a:cubicBezTo>
                  <a:pt x="282" y="495"/>
                  <a:pt x="379" y="482"/>
                  <a:pt x="454" y="470"/>
                </a:cubicBezTo>
                <a:cubicBezTo>
                  <a:pt x="587" y="449"/>
                  <a:pt x="717" y="413"/>
                  <a:pt x="854" y="409"/>
                </a:cubicBezTo>
                <a:cubicBezTo>
                  <a:pt x="1003" y="405"/>
                  <a:pt x="1152" y="404"/>
                  <a:pt x="1301" y="402"/>
                </a:cubicBezTo>
                <a:cubicBezTo>
                  <a:pt x="1337" y="379"/>
                  <a:pt x="1400" y="363"/>
                  <a:pt x="1443" y="348"/>
                </a:cubicBezTo>
                <a:cubicBezTo>
                  <a:pt x="1451" y="345"/>
                  <a:pt x="1482" y="339"/>
                  <a:pt x="1491" y="334"/>
                </a:cubicBezTo>
                <a:cubicBezTo>
                  <a:pt x="1555" y="298"/>
                  <a:pt x="1506" y="313"/>
                  <a:pt x="1558" y="301"/>
                </a:cubicBezTo>
                <a:cubicBezTo>
                  <a:pt x="1615" y="266"/>
                  <a:pt x="1667" y="236"/>
                  <a:pt x="1734" y="226"/>
                </a:cubicBezTo>
                <a:cubicBezTo>
                  <a:pt x="1808" y="189"/>
                  <a:pt x="1885" y="142"/>
                  <a:pt x="1965" y="118"/>
                </a:cubicBezTo>
                <a:cubicBezTo>
                  <a:pt x="1988" y="102"/>
                  <a:pt x="2005" y="97"/>
                  <a:pt x="2033" y="91"/>
                </a:cubicBezTo>
                <a:cubicBezTo>
                  <a:pt x="2074" y="62"/>
                  <a:pt x="2118" y="62"/>
                  <a:pt x="2168" y="57"/>
                </a:cubicBezTo>
                <a:cubicBezTo>
                  <a:pt x="2446" y="0"/>
                  <a:pt x="2757" y="71"/>
                  <a:pt x="3041" y="65"/>
                </a:cubicBezTo>
                <a:cubicBezTo>
                  <a:pt x="3178" y="37"/>
                  <a:pt x="3512" y="49"/>
                  <a:pt x="3601" y="50"/>
                </a:cubicBezTo>
                <a:cubicBezTo>
                  <a:pt x="3712" y="58"/>
                  <a:pt x="3805" y="42"/>
                  <a:pt x="3917" y="50"/>
                </a:cubicBezTo>
                <a:cubicBezTo>
                  <a:pt x="3943" y="59"/>
                  <a:pt x="3998" y="70"/>
                  <a:pt x="3998" y="70"/>
                </a:cubicBezTo>
                <a:cubicBezTo>
                  <a:pt x="4031" y="93"/>
                  <a:pt x="4069" y="97"/>
                  <a:pt x="4106" y="111"/>
                </a:cubicBezTo>
                <a:cubicBezTo>
                  <a:pt x="4177" y="137"/>
                  <a:pt x="4240" y="163"/>
                  <a:pt x="4316" y="172"/>
                </a:cubicBezTo>
                <a:cubicBezTo>
                  <a:pt x="4364" y="184"/>
                  <a:pt x="4404" y="214"/>
                  <a:pt x="4452" y="226"/>
                </a:cubicBezTo>
                <a:cubicBezTo>
                  <a:pt x="4496" y="257"/>
                  <a:pt x="4559" y="260"/>
                  <a:pt x="4608" y="287"/>
                </a:cubicBezTo>
                <a:cubicBezTo>
                  <a:pt x="4639" y="304"/>
                  <a:pt x="4670" y="338"/>
                  <a:pt x="4696" y="362"/>
                </a:cubicBezTo>
                <a:cubicBezTo>
                  <a:pt x="4722" y="386"/>
                  <a:pt x="4745" y="411"/>
                  <a:pt x="4770" y="436"/>
                </a:cubicBezTo>
                <a:cubicBezTo>
                  <a:pt x="4781" y="447"/>
                  <a:pt x="4793" y="459"/>
                  <a:pt x="4804" y="470"/>
                </a:cubicBezTo>
                <a:cubicBezTo>
                  <a:pt x="4813" y="479"/>
                  <a:pt x="4831" y="497"/>
                  <a:pt x="4831" y="497"/>
                </a:cubicBezTo>
                <a:cubicBezTo>
                  <a:pt x="4836" y="511"/>
                  <a:pt x="4840" y="524"/>
                  <a:pt x="4845" y="538"/>
                </a:cubicBezTo>
                <a:cubicBezTo>
                  <a:pt x="4847" y="545"/>
                  <a:pt x="4852" y="558"/>
                  <a:pt x="4852" y="558"/>
                </a:cubicBezTo>
                <a:cubicBezTo>
                  <a:pt x="4856" y="601"/>
                  <a:pt x="4870" y="644"/>
                  <a:pt x="4872" y="687"/>
                </a:cubicBezTo>
                <a:cubicBezTo>
                  <a:pt x="4875" y="756"/>
                  <a:pt x="4862" y="823"/>
                  <a:pt x="4852" y="890"/>
                </a:cubicBezTo>
                <a:cubicBezTo>
                  <a:pt x="4847" y="925"/>
                  <a:pt x="4856" y="979"/>
                  <a:pt x="4818" y="992"/>
                </a:cubicBezTo>
                <a:cubicBezTo>
                  <a:pt x="4804" y="1031"/>
                  <a:pt x="4748" y="1045"/>
                  <a:pt x="4709" y="1053"/>
                </a:cubicBezTo>
                <a:cubicBezTo>
                  <a:pt x="4656" y="1091"/>
                  <a:pt x="4681" y="1081"/>
                  <a:pt x="4642" y="1093"/>
                </a:cubicBezTo>
                <a:cubicBezTo>
                  <a:pt x="4608" y="1115"/>
                  <a:pt x="4571" y="1121"/>
                  <a:pt x="4533" y="1134"/>
                </a:cubicBezTo>
                <a:cubicBezTo>
                  <a:pt x="4521" y="1152"/>
                  <a:pt x="4513" y="1166"/>
                  <a:pt x="4513" y="11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94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08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943600" y="6705720"/>
            <a:ext cx="609480" cy="68580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 rot="21553200">
            <a:off x="5409720" y="6703920"/>
            <a:ext cx="760680" cy="685800"/>
          </a:xfrm>
          <a:prstGeom prst="triangle">
            <a:avLst>
              <a:gd name="adj" fmla="val 72514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54100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3044400">
            <a:off x="3260520" y="4727520"/>
            <a:ext cx="22338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31240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3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3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3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3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3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3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3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3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3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3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3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5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6500"/>
                            </p:stCondLst>
                            <p:childTnLst>
                              <p:par>
                                <p:cTn id="87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87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880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901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903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905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907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909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911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913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915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917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3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5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3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3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-380880" y="2133720"/>
            <a:ext cx="784836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is Relative Da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ncept of dating rocks by putting geologic events in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38854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3124080" y="37972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3808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3616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6483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8854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801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31240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6476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808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38854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192600">
            <a:off x="3885840" y="47113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371600" y="47116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5931000"/>
            <a:ext cx="220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31240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-304920" y="2108160"/>
            <a:ext cx="7739280" cy="2036880"/>
          </a:xfrm>
          <a:custGeom>
            <a:avLst/>
            <a:gdLst/>
            <a:ahLst/>
            <a:rect l="l" t="t" r="r" b="b"/>
            <a:pathLst>
              <a:path w="4875" h="1283">
                <a:moveTo>
                  <a:pt x="4513" y="1188"/>
                </a:moveTo>
                <a:cubicBezTo>
                  <a:pt x="4204" y="1241"/>
                  <a:pt x="4132" y="1186"/>
                  <a:pt x="3903" y="1127"/>
                </a:cubicBezTo>
                <a:cubicBezTo>
                  <a:pt x="3425" y="1140"/>
                  <a:pt x="2964" y="1157"/>
                  <a:pt x="2480" y="1161"/>
                </a:cubicBezTo>
                <a:cubicBezTo>
                  <a:pt x="2438" y="1190"/>
                  <a:pt x="2482" y="1165"/>
                  <a:pt x="2399" y="1182"/>
                </a:cubicBezTo>
                <a:cubicBezTo>
                  <a:pt x="2378" y="1186"/>
                  <a:pt x="2359" y="1196"/>
                  <a:pt x="2338" y="1202"/>
                </a:cubicBezTo>
                <a:cubicBezTo>
                  <a:pt x="2295" y="1214"/>
                  <a:pt x="2340" y="1203"/>
                  <a:pt x="2283" y="1229"/>
                </a:cubicBezTo>
                <a:cubicBezTo>
                  <a:pt x="2224" y="1256"/>
                  <a:pt x="2156" y="1267"/>
                  <a:pt x="2094" y="1283"/>
                </a:cubicBezTo>
                <a:cubicBezTo>
                  <a:pt x="1913" y="1281"/>
                  <a:pt x="1733" y="1282"/>
                  <a:pt x="1552" y="1276"/>
                </a:cubicBezTo>
                <a:cubicBezTo>
                  <a:pt x="1523" y="1275"/>
                  <a:pt x="1475" y="1230"/>
                  <a:pt x="1443" y="1222"/>
                </a:cubicBezTo>
                <a:cubicBezTo>
                  <a:pt x="1389" y="1209"/>
                  <a:pt x="1335" y="1202"/>
                  <a:pt x="1280" y="1188"/>
                </a:cubicBezTo>
                <a:cubicBezTo>
                  <a:pt x="1002" y="1117"/>
                  <a:pt x="707" y="1184"/>
                  <a:pt x="420" y="1182"/>
                </a:cubicBezTo>
                <a:cubicBezTo>
                  <a:pt x="315" y="1155"/>
                  <a:pt x="277" y="1046"/>
                  <a:pt x="189" y="992"/>
                </a:cubicBezTo>
                <a:cubicBezTo>
                  <a:pt x="167" y="957"/>
                  <a:pt x="183" y="975"/>
                  <a:pt x="135" y="944"/>
                </a:cubicBezTo>
                <a:cubicBezTo>
                  <a:pt x="128" y="940"/>
                  <a:pt x="115" y="931"/>
                  <a:pt x="115" y="931"/>
                </a:cubicBezTo>
                <a:cubicBezTo>
                  <a:pt x="110" y="924"/>
                  <a:pt x="107" y="916"/>
                  <a:pt x="101" y="910"/>
                </a:cubicBezTo>
                <a:cubicBezTo>
                  <a:pt x="89" y="899"/>
                  <a:pt x="61" y="883"/>
                  <a:pt x="61" y="883"/>
                </a:cubicBezTo>
                <a:cubicBezTo>
                  <a:pt x="36" y="847"/>
                  <a:pt x="13" y="825"/>
                  <a:pt x="0" y="782"/>
                </a:cubicBezTo>
                <a:cubicBezTo>
                  <a:pt x="2" y="750"/>
                  <a:pt x="1" y="718"/>
                  <a:pt x="6" y="687"/>
                </a:cubicBezTo>
                <a:cubicBezTo>
                  <a:pt x="13" y="646"/>
                  <a:pt x="94" y="611"/>
                  <a:pt x="128" y="599"/>
                </a:cubicBezTo>
                <a:cubicBezTo>
                  <a:pt x="169" y="558"/>
                  <a:pt x="126" y="593"/>
                  <a:pt x="176" y="572"/>
                </a:cubicBezTo>
                <a:cubicBezTo>
                  <a:pt x="200" y="562"/>
                  <a:pt x="195" y="552"/>
                  <a:pt x="217" y="538"/>
                </a:cubicBezTo>
                <a:cubicBezTo>
                  <a:pt x="282" y="495"/>
                  <a:pt x="379" y="482"/>
                  <a:pt x="454" y="470"/>
                </a:cubicBezTo>
                <a:cubicBezTo>
                  <a:pt x="587" y="449"/>
                  <a:pt x="717" y="413"/>
                  <a:pt x="854" y="409"/>
                </a:cubicBezTo>
                <a:cubicBezTo>
                  <a:pt x="1003" y="405"/>
                  <a:pt x="1152" y="404"/>
                  <a:pt x="1301" y="402"/>
                </a:cubicBezTo>
                <a:cubicBezTo>
                  <a:pt x="1337" y="379"/>
                  <a:pt x="1400" y="363"/>
                  <a:pt x="1443" y="348"/>
                </a:cubicBezTo>
                <a:cubicBezTo>
                  <a:pt x="1451" y="345"/>
                  <a:pt x="1482" y="339"/>
                  <a:pt x="1491" y="334"/>
                </a:cubicBezTo>
                <a:cubicBezTo>
                  <a:pt x="1555" y="298"/>
                  <a:pt x="1506" y="313"/>
                  <a:pt x="1558" y="301"/>
                </a:cubicBezTo>
                <a:cubicBezTo>
                  <a:pt x="1615" y="266"/>
                  <a:pt x="1667" y="236"/>
                  <a:pt x="1734" y="226"/>
                </a:cubicBezTo>
                <a:cubicBezTo>
                  <a:pt x="1808" y="189"/>
                  <a:pt x="1885" y="142"/>
                  <a:pt x="1965" y="118"/>
                </a:cubicBezTo>
                <a:cubicBezTo>
                  <a:pt x="1988" y="102"/>
                  <a:pt x="2005" y="97"/>
                  <a:pt x="2033" y="91"/>
                </a:cubicBezTo>
                <a:cubicBezTo>
                  <a:pt x="2074" y="62"/>
                  <a:pt x="2118" y="62"/>
                  <a:pt x="2168" y="57"/>
                </a:cubicBezTo>
                <a:cubicBezTo>
                  <a:pt x="2446" y="0"/>
                  <a:pt x="2734" y="48"/>
                  <a:pt x="3018" y="42"/>
                </a:cubicBezTo>
                <a:cubicBezTo>
                  <a:pt x="3155" y="14"/>
                  <a:pt x="3505" y="33"/>
                  <a:pt x="3594" y="34"/>
                </a:cubicBezTo>
                <a:cubicBezTo>
                  <a:pt x="3705" y="42"/>
                  <a:pt x="3805" y="42"/>
                  <a:pt x="3917" y="50"/>
                </a:cubicBezTo>
                <a:cubicBezTo>
                  <a:pt x="3943" y="59"/>
                  <a:pt x="3998" y="70"/>
                  <a:pt x="3998" y="70"/>
                </a:cubicBezTo>
                <a:cubicBezTo>
                  <a:pt x="4031" y="93"/>
                  <a:pt x="4069" y="97"/>
                  <a:pt x="4106" y="111"/>
                </a:cubicBezTo>
                <a:cubicBezTo>
                  <a:pt x="4177" y="137"/>
                  <a:pt x="4240" y="163"/>
                  <a:pt x="4316" y="172"/>
                </a:cubicBezTo>
                <a:cubicBezTo>
                  <a:pt x="4364" y="184"/>
                  <a:pt x="4404" y="214"/>
                  <a:pt x="4452" y="226"/>
                </a:cubicBezTo>
                <a:cubicBezTo>
                  <a:pt x="4496" y="257"/>
                  <a:pt x="4559" y="260"/>
                  <a:pt x="4608" y="287"/>
                </a:cubicBezTo>
                <a:cubicBezTo>
                  <a:pt x="4639" y="304"/>
                  <a:pt x="4670" y="338"/>
                  <a:pt x="4696" y="362"/>
                </a:cubicBezTo>
                <a:cubicBezTo>
                  <a:pt x="4722" y="386"/>
                  <a:pt x="4745" y="411"/>
                  <a:pt x="4770" y="436"/>
                </a:cubicBezTo>
                <a:cubicBezTo>
                  <a:pt x="4781" y="447"/>
                  <a:pt x="4793" y="459"/>
                  <a:pt x="4804" y="470"/>
                </a:cubicBezTo>
                <a:cubicBezTo>
                  <a:pt x="4813" y="479"/>
                  <a:pt x="4831" y="497"/>
                  <a:pt x="4831" y="497"/>
                </a:cubicBezTo>
                <a:cubicBezTo>
                  <a:pt x="4836" y="511"/>
                  <a:pt x="4840" y="524"/>
                  <a:pt x="4845" y="538"/>
                </a:cubicBezTo>
                <a:cubicBezTo>
                  <a:pt x="4847" y="545"/>
                  <a:pt x="4852" y="558"/>
                  <a:pt x="4852" y="558"/>
                </a:cubicBezTo>
                <a:cubicBezTo>
                  <a:pt x="4856" y="601"/>
                  <a:pt x="4870" y="644"/>
                  <a:pt x="4872" y="687"/>
                </a:cubicBezTo>
                <a:cubicBezTo>
                  <a:pt x="4875" y="756"/>
                  <a:pt x="4862" y="823"/>
                  <a:pt x="4852" y="890"/>
                </a:cubicBezTo>
                <a:cubicBezTo>
                  <a:pt x="4847" y="925"/>
                  <a:pt x="4856" y="979"/>
                  <a:pt x="4818" y="992"/>
                </a:cubicBezTo>
                <a:cubicBezTo>
                  <a:pt x="4804" y="1031"/>
                  <a:pt x="4748" y="1045"/>
                  <a:pt x="4709" y="1053"/>
                </a:cubicBezTo>
                <a:cubicBezTo>
                  <a:pt x="4656" y="1091"/>
                  <a:pt x="4681" y="1081"/>
                  <a:pt x="4642" y="1093"/>
                </a:cubicBezTo>
                <a:cubicBezTo>
                  <a:pt x="4608" y="1115"/>
                  <a:pt x="4571" y="1121"/>
                  <a:pt x="4533" y="1134"/>
                </a:cubicBezTo>
                <a:cubicBezTo>
                  <a:pt x="4521" y="1152"/>
                  <a:pt x="4513" y="1166"/>
                  <a:pt x="4513" y="11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794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08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943600" y="6705720"/>
            <a:ext cx="609480" cy="68580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 rot="21553200">
            <a:off x="5409720" y="6703920"/>
            <a:ext cx="760680" cy="685800"/>
          </a:xfrm>
          <a:prstGeom prst="triangle">
            <a:avLst>
              <a:gd name="adj" fmla="val 72514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54100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08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808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rot="3044400">
            <a:off x="3260520" y="4727520"/>
            <a:ext cx="22338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467480" y="266688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394400" y="2057400"/>
            <a:ext cx="174960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3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3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3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3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000"/>
                            </p:stCondLst>
                            <p:childTnLst>
                              <p:par>
                                <p:cTn id="9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3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3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3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3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60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3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3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3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9000"/>
                            </p:stCondLst>
                            <p:childTnLst>
                              <p:par>
                                <p:cTn id="9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9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8000"/>
                            </p:stCondLst>
                            <p:childTnLst>
                              <p:par>
                                <p:cTn id="9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04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06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0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10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12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14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16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1018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1020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3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3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3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3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w of Superpos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266360" y="3594240"/>
            <a:ext cx="270684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3504600" y="3581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762120" y="3581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2742480" y="3581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029200" y="4572000"/>
            <a:ext cx="19447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4267080" y="457200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62120" y="4572000"/>
            <a:ext cx="35049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3504600" y="45720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028480" y="556272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761400" y="5562720"/>
            <a:ext cx="426708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4267080" y="556200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5790600" y="5562720"/>
            <a:ext cx="11826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layers of deposited sedimentary rock, the oldest rock layers are at the bottom and the rock layers become younger toward the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fore, older fossils would be ath the bottom and younger fossils would be closer to the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3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3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3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3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3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3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3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3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3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3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3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01800" y="561600"/>
            <a:ext cx="73404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w of Super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nciple of Superposition: States that the oldest rock layers are at the bottom and the rock layers become younger toward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5410080" y="335268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4648320" cy="293688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 rot="10800000">
            <a:off x="4343040" y="4465440"/>
            <a:ext cx="1066680" cy="8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w of Superpos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Old rocks formed on the bottom and young rocks are at the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SEDIANIM.GIF (205851 bytes)"/>
          <p:cNvPicPr/>
          <p:nvPr/>
        </p:nvPicPr>
        <p:blipFill>
          <a:blip r:embed="rId1"/>
          <a:stretch/>
        </p:blipFill>
        <p:spPr>
          <a:xfrm>
            <a:off x="-152280" y="1219320"/>
            <a:ext cx="4441680" cy="56386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 rot="20732400">
            <a:off x="3428640" y="2057040"/>
            <a:ext cx="3505320" cy="1905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r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at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 rot="20580000">
            <a:off x="2590560" y="3428640"/>
            <a:ext cx="1122120" cy="42084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 rot="20732400">
            <a:off x="4114440" y="4495320"/>
            <a:ext cx="3505320" cy="1905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ld rocks 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the bot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 rot="20419800">
            <a:off x="3276360" y="5791320"/>
            <a:ext cx="1122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-380880" y="3276720"/>
            <a:ext cx="784836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What is the Law of Superposition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266360" y="3594240"/>
            <a:ext cx="270684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504600" y="3581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762120" y="3581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742480" y="3581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029200" y="4572000"/>
            <a:ext cx="19447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4267080" y="457200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762120" y="4572000"/>
            <a:ext cx="35049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3504600" y="45720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028480" y="556272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761400" y="5562720"/>
            <a:ext cx="426708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4267080" y="556200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5790600" y="5562720"/>
            <a:ext cx="11826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layers of deposited sedimentary rock, the oldest rock layers are at the ____ and the rock layers become younger toward the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467480" y="365760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543800" y="3048120"/>
            <a:ext cx="144792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3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3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3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3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3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3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3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3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3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3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3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3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w of Horizon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 flipH="1">
            <a:off x="728280" y="1295280"/>
            <a:ext cx="5148360" cy="494352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3198960" y="4821120"/>
            <a:ext cx="2433600" cy="192240"/>
          </a:xfrm>
          <a:custGeom>
            <a:avLst/>
            <a:gdLst/>
            <a:ahLst/>
            <a:rect l="l" t="t" r="r" b="b"/>
            <a:pathLst>
              <a:path w="1669" h="147">
                <a:moveTo>
                  <a:pt x="180" y="112"/>
                </a:moveTo>
                <a:cubicBezTo>
                  <a:pt x="410" y="146"/>
                  <a:pt x="0" y="130"/>
                  <a:pt x="567" y="147"/>
                </a:cubicBezTo>
                <a:cubicBezTo>
                  <a:pt x="736" y="144"/>
                  <a:pt x="905" y="144"/>
                  <a:pt x="1074" y="138"/>
                </a:cubicBezTo>
                <a:cubicBezTo>
                  <a:pt x="1106" y="137"/>
                  <a:pt x="1155" y="113"/>
                  <a:pt x="1186" y="104"/>
                </a:cubicBezTo>
                <a:cubicBezTo>
                  <a:pt x="1204" y="99"/>
                  <a:pt x="1221" y="92"/>
                  <a:pt x="1238" y="86"/>
                </a:cubicBezTo>
                <a:cubicBezTo>
                  <a:pt x="1246" y="83"/>
                  <a:pt x="1263" y="78"/>
                  <a:pt x="1263" y="78"/>
                </a:cubicBezTo>
                <a:cubicBezTo>
                  <a:pt x="1295" y="48"/>
                  <a:pt x="1612" y="37"/>
                  <a:pt x="1650" y="35"/>
                </a:cubicBezTo>
                <a:cubicBezTo>
                  <a:pt x="1656" y="26"/>
                  <a:pt x="1669" y="19"/>
                  <a:pt x="1667" y="9"/>
                </a:cubicBezTo>
                <a:cubicBezTo>
                  <a:pt x="1665" y="0"/>
                  <a:pt x="1651" y="0"/>
                  <a:pt x="1642" y="0"/>
                </a:cubicBezTo>
                <a:cubicBezTo>
                  <a:pt x="1579" y="0"/>
                  <a:pt x="1516" y="6"/>
                  <a:pt x="1453" y="9"/>
                </a:cubicBezTo>
                <a:cubicBezTo>
                  <a:pt x="1390" y="31"/>
                  <a:pt x="1390" y="19"/>
                  <a:pt x="1306" y="18"/>
                </a:cubicBezTo>
                <a:cubicBezTo>
                  <a:pt x="902" y="13"/>
                  <a:pt x="498" y="12"/>
                  <a:pt x="94" y="9"/>
                </a:cubicBezTo>
                <a:cubicBezTo>
                  <a:pt x="100" y="18"/>
                  <a:pt x="102" y="29"/>
                  <a:pt x="111" y="35"/>
                </a:cubicBezTo>
                <a:cubicBezTo>
                  <a:pt x="121" y="42"/>
                  <a:pt x="137" y="36"/>
                  <a:pt x="146" y="43"/>
                </a:cubicBezTo>
                <a:cubicBezTo>
                  <a:pt x="160" y="54"/>
                  <a:pt x="151" y="81"/>
                  <a:pt x="163" y="95"/>
                </a:cubicBezTo>
                <a:cubicBezTo>
                  <a:pt x="178" y="114"/>
                  <a:pt x="203" y="112"/>
                  <a:pt x="180" y="112"/>
                </a:cubicBezTo>
                <a:close/>
              </a:path>
            </a:pathLst>
          </a:custGeom>
          <a:solidFill>
            <a:srgbClr val="996633"/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336840" y="4668840"/>
            <a:ext cx="23338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193920" y="4530600"/>
            <a:ext cx="3054600" cy="416160"/>
          </a:xfrm>
          <a:custGeom>
            <a:avLst/>
            <a:gdLst/>
            <a:ahLst/>
            <a:rect l="l" t="t" r="r" b="b"/>
            <a:pathLst>
              <a:path w="2049" h="241">
                <a:moveTo>
                  <a:pt x="1765" y="25"/>
                </a:moveTo>
                <a:cubicBezTo>
                  <a:pt x="1433" y="3"/>
                  <a:pt x="1099" y="19"/>
                  <a:pt x="767" y="0"/>
                </a:cubicBezTo>
                <a:cubicBezTo>
                  <a:pt x="494" y="15"/>
                  <a:pt x="384" y="20"/>
                  <a:pt x="37" y="25"/>
                </a:cubicBezTo>
                <a:cubicBezTo>
                  <a:pt x="0" y="62"/>
                  <a:pt x="22" y="67"/>
                  <a:pt x="62" y="77"/>
                </a:cubicBezTo>
                <a:cubicBezTo>
                  <a:pt x="69" y="97"/>
                  <a:pt x="67" y="121"/>
                  <a:pt x="80" y="137"/>
                </a:cubicBezTo>
                <a:cubicBezTo>
                  <a:pt x="85" y="144"/>
                  <a:pt x="96" y="145"/>
                  <a:pt x="105" y="146"/>
                </a:cubicBezTo>
                <a:cubicBezTo>
                  <a:pt x="165" y="151"/>
                  <a:pt x="226" y="151"/>
                  <a:pt x="286" y="154"/>
                </a:cubicBezTo>
                <a:cubicBezTo>
                  <a:pt x="2049" y="143"/>
                  <a:pt x="1099" y="241"/>
                  <a:pt x="1575" y="129"/>
                </a:cubicBezTo>
                <a:cubicBezTo>
                  <a:pt x="1616" y="135"/>
                  <a:pt x="1686" y="150"/>
                  <a:pt x="1722" y="129"/>
                </a:cubicBezTo>
                <a:cubicBezTo>
                  <a:pt x="1737" y="120"/>
                  <a:pt x="1725" y="94"/>
                  <a:pt x="1730" y="77"/>
                </a:cubicBezTo>
                <a:cubicBezTo>
                  <a:pt x="1731" y="73"/>
                  <a:pt x="1763" y="28"/>
                  <a:pt x="1765" y="25"/>
                </a:cubicBezTo>
                <a:close/>
              </a:path>
            </a:pathLst>
          </a:custGeom>
          <a:solidFill>
            <a:srgbClr val="cc9900"/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048120" y="4343400"/>
            <a:ext cx="2743200" cy="228600"/>
          </a:xfrm>
          <a:custGeom>
            <a:avLst/>
            <a:gdLst/>
            <a:ahLst/>
            <a:rect l="l" t="t" r="r" b="b"/>
            <a:pathLst>
              <a:path w="1853" h="151">
                <a:moveTo>
                  <a:pt x="117" y="151"/>
                </a:moveTo>
                <a:cubicBezTo>
                  <a:pt x="640" y="145"/>
                  <a:pt x="1158" y="142"/>
                  <a:pt x="1681" y="134"/>
                </a:cubicBezTo>
                <a:cubicBezTo>
                  <a:pt x="1690" y="131"/>
                  <a:pt x="1698" y="126"/>
                  <a:pt x="1707" y="125"/>
                </a:cubicBezTo>
                <a:cubicBezTo>
                  <a:pt x="1750" y="120"/>
                  <a:pt x="1794" y="126"/>
                  <a:pt x="1836" y="116"/>
                </a:cubicBezTo>
                <a:cubicBezTo>
                  <a:pt x="1838" y="116"/>
                  <a:pt x="1853" y="66"/>
                  <a:pt x="1853" y="65"/>
                </a:cubicBezTo>
                <a:cubicBezTo>
                  <a:pt x="1848" y="48"/>
                  <a:pt x="1846" y="22"/>
                  <a:pt x="1819" y="22"/>
                </a:cubicBezTo>
                <a:cubicBezTo>
                  <a:pt x="1220" y="16"/>
                  <a:pt x="621" y="34"/>
                  <a:pt x="22" y="39"/>
                </a:cubicBezTo>
                <a:cubicBezTo>
                  <a:pt x="49" y="118"/>
                  <a:pt x="0" y="0"/>
                  <a:pt x="74" y="74"/>
                </a:cubicBezTo>
                <a:cubicBezTo>
                  <a:pt x="102" y="102"/>
                  <a:pt x="74" y="151"/>
                  <a:pt x="117" y="151"/>
                </a:cubicBezTo>
                <a:close/>
              </a:path>
            </a:pathLst>
          </a:custGeom>
          <a:solidFill>
            <a:srgbClr val="663300"/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rot="19534200">
            <a:off x="5181480" y="1295280"/>
            <a:ext cx="419112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Horizontality: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Rocks fall i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place forming fla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horizontal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 rot="19273200">
            <a:off x="4191120" y="3124080"/>
            <a:ext cx="1544400" cy="14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457200" y="2362320"/>
            <a:ext cx="739152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w of Horizon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s are originally deposited in flat horizontal layers. If the rocks are folded or are laying at a steep angle, they must have been disturbed or tilted after they were originally deposit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 rot="10800">
            <a:off x="990000" y="3581280"/>
            <a:ext cx="59436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 rot="10800">
            <a:off x="990000" y="4572000"/>
            <a:ext cx="594360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 rot="10800">
            <a:off x="990000" y="5562720"/>
            <a:ext cx="59277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 rot="20721000">
            <a:off x="989640" y="3581280"/>
            <a:ext cx="594360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rot="20721000">
            <a:off x="989640" y="4572000"/>
            <a:ext cx="594360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 rot="20721000">
            <a:off x="989640" y="5562360"/>
            <a:ext cx="59277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324480" y="2666880"/>
            <a:ext cx="152424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3048120"/>
            <a:ext cx="10666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3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3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3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2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5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9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3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3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7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3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3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7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3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3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27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9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228600" y="2362320"/>
            <a:ext cx="762012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the Law of Horizonta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s are originally deposited in ____ horizontal layers. If the rocks are folded or at an angle, they must have been disturbed _____they were originally deposit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rot="10800">
            <a:off x="990000" y="3581280"/>
            <a:ext cx="59436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 rot="10800">
            <a:off x="990000" y="4572000"/>
            <a:ext cx="594360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 rot="10800">
            <a:off x="990000" y="5562720"/>
            <a:ext cx="59277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rot="20721000">
            <a:off x="989640" y="3581280"/>
            <a:ext cx="594360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rot="20721000">
            <a:off x="989640" y="4572000"/>
            <a:ext cx="594360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 rot="20721000">
            <a:off x="989640" y="5562360"/>
            <a:ext cx="59277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324480" y="2743200"/>
            <a:ext cx="152424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28600" y="3505320"/>
            <a:ext cx="1523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467480" y="3505320"/>
            <a:ext cx="14479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91520" y="3200400"/>
            <a:ext cx="1596960" cy="2819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3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3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3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7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0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3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9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9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9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9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-380880" y="3276720"/>
            <a:ext cx="952488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conform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layers of rock as pages of a history bo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remove pages, the book is in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conformity is when layers of rock are mi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762120" y="3581280"/>
            <a:ext cx="350496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762120" y="4572000"/>
            <a:ext cx="35049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762120" y="5562720"/>
            <a:ext cx="35049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5485680" y="5334120"/>
            <a:ext cx="35053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5485680" y="4343400"/>
            <a:ext cx="350532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 rot="10800000">
            <a:off x="4343040" y="4465440"/>
            <a:ext cx="1066680" cy="84924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5486400" y="5251320"/>
            <a:ext cx="3510000" cy="168480"/>
          </a:xfrm>
          <a:custGeom>
            <a:avLst/>
            <a:gdLst/>
            <a:ahLst/>
            <a:rect l="l" t="t" r="r" b="b"/>
            <a:pathLst>
              <a:path w="2211" h="106">
                <a:moveTo>
                  <a:pt x="0" y="52"/>
                </a:moveTo>
                <a:cubicBezTo>
                  <a:pt x="84" y="56"/>
                  <a:pt x="170" y="59"/>
                  <a:pt x="240" y="52"/>
                </a:cubicBezTo>
                <a:cubicBezTo>
                  <a:pt x="310" y="45"/>
                  <a:pt x="356" y="0"/>
                  <a:pt x="420" y="8"/>
                </a:cubicBezTo>
                <a:cubicBezTo>
                  <a:pt x="484" y="16"/>
                  <a:pt x="557" y="95"/>
                  <a:pt x="624" y="100"/>
                </a:cubicBezTo>
                <a:cubicBezTo>
                  <a:pt x="691" y="105"/>
                  <a:pt x="753" y="39"/>
                  <a:pt x="825" y="39"/>
                </a:cubicBezTo>
                <a:cubicBezTo>
                  <a:pt x="897" y="39"/>
                  <a:pt x="985" y="101"/>
                  <a:pt x="1056" y="100"/>
                </a:cubicBezTo>
                <a:cubicBezTo>
                  <a:pt x="1127" y="99"/>
                  <a:pt x="1192" y="37"/>
                  <a:pt x="1253" y="31"/>
                </a:cubicBezTo>
                <a:cubicBezTo>
                  <a:pt x="1314" y="25"/>
                  <a:pt x="1377" y="51"/>
                  <a:pt x="1424" y="62"/>
                </a:cubicBezTo>
                <a:cubicBezTo>
                  <a:pt x="1471" y="73"/>
                  <a:pt x="1484" y="106"/>
                  <a:pt x="1536" y="100"/>
                </a:cubicBezTo>
                <a:cubicBezTo>
                  <a:pt x="1588" y="94"/>
                  <a:pt x="1664" y="23"/>
                  <a:pt x="1736" y="23"/>
                </a:cubicBezTo>
                <a:cubicBezTo>
                  <a:pt x="1808" y="23"/>
                  <a:pt x="1889" y="100"/>
                  <a:pt x="1968" y="100"/>
                </a:cubicBezTo>
                <a:cubicBezTo>
                  <a:pt x="2047" y="100"/>
                  <a:pt x="2160" y="39"/>
                  <a:pt x="2211" y="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1143000"/>
            <a:ext cx="4953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ological time scale is the geologic history of the planet from formation to the pres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 starts with large divisions of time called eons and is subdivided into successively smaller units such ass eras and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ologic time scale  is based on dominant lifeforms, and mass extinction ev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ologic Time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46250" b="0"/>
          <a:stretch/>
        </p:blipFill>
        <p:spPr>
          <a:xfrm>
            <a:off x="6041880" y="914400"/>
            <a:ext cx="272124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35" repeatCount="3000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-228600" y="1523880"/>
            <a:ext cx="861048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nconformities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re’s how it work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4572000" y="3276720"/>
            <a:ext cx="220968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3809880" y="326376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066680" y="326376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3047400" y="32637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5333400" y="4254480"/>
            <a:ext cx="14475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4571280" y="42544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1065960" y="4254480"/>
            <a:ext cx="35053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 flipV="1">
            <a:off x="3809880" y="42544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5333400" y="52452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1066680" y="5245200"/>
            <a:ext cx="426744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4571280" y="524448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523880"/>
            <a:ext cx="7739280" cy="2971800"/>
          </a:xfrm>
          <a:custGeom>
            <a:avLst/>
            <a:gdLst/>
            <a:ahLst/>
            <a:rect l="l" t="t" r="r" b="b"/>
            <a:pathLst>
              <a:path w="4875" h="1315">
                <a:moveTo>
                  <a:pt x="4513" y="1220"/>
                </a:moveTo>
                <a:cubicBezTo>
                  <a:pt x="4204" y="1273"/>
                  <a:pt x="4132" y="1218"/>
                  <a:pt x="3903" y="1159"/>
                </a:cubicBezTo>
                <a:cubicBezTo>
                  <a:pt x="3425" y="1172"/>
                  <a:pt x="2964" y="1189"/>
                  <a:pt x="2480" y="1193"/>
                </a:cubicBezTo>
                <a:cubicBezTo>
                  <a:pt x="2438" y="1222"/>
                  <a:pt x="2482" y="1197"/>
                  <a:pt x="2399" y="1214"/>
                </a:cubicBezTo>
                <a:cubicBezTo>
                  <a:pt x="2378" y="1218"/>
                  <a:pt x="2359" y="1228"/>
                  <a:pt x="2338" y="1234"/>
                </a:cubicBezTo>
                <a:cubicBezTo>
                  <a:pt x="2295" y="1246"/>
                  <a:pt x="2340" y="1235"/>
                  <a:pt x="2283" y="1261"/>
                </a:cubicBezTo>
                <a:cubicBezTo>
                  <a:pt x="2224" y="1288"/>
                  <a:pt x="2156" y="1299"/>
                  <a:pt x="2094" y="1315"/>
                </a:cubicBezTo>
                <a:cubicBezTo>
                  <a:pt x="1913" y="1313"/>
                  <a:pt x="1733" y="1314"/>
                  <a:pt x="1552" y="1308"/>
                </a:cubicBezTo>
                <a:cubicBezTo>
                  <a:pt x="1523" y="1307"/>
                  <a:pt x="1475" y="1262"/>
                  <a:pt x="1443" y="1254"/>
                </a:cubicBezTo>
                <a:cubicBezTo>
                  <a:pt x="1389" y="1241"/>
                  <a:pt x="1335" y="1234"/>
                  <a:pt x="1280" y="1220"/>
                </a:cubicBezTo>
                <a:cubicBezTo>
                  <a:pt x="1002" y="1149"/>
                  <a:pt x="707" y="1216"/>
                  <a:pt x="420" y="1214"/>
                </a:cubicBezTo>
                <a:cubicBezTo>
                  <a:pt x="315" y="1187"/>
                  <a:pt x="277" y="1078"/>
                  <a:pt x="189" y="1024"/>
                </a:cubicBezTo>
                <a:cubicBezTo>
                  <a:pt x="167" y="989"/>
                  <a:pt x="183" y="1007"/>
                  <a:pt x="135" y="976"/>
                </a:cubicBezTo>
                <a:cubicBezTo>
                  <a:pt x="128" y="972"/>
                  <a:pt x="115" y="963"/>
                  <a:pt x="115" y="963"/>
                </a:cubicBezTo>
                <a:cubicBezTo>
                  <a:pt x="110" y="956"/>
                  <a:pt x="107" y="948"/>
                  <a:pt x="101" y="942"/>
                </a:cubicBezTo>
                <a:cubicBezTo>
                  <a:pt x="89" y="931"/>
                  <a:pt x="61" y="915"/>
                  <a:pt x="61" y="915"/>
                </a:cubicBezTo>
                <a:cubicBezTo>
                  <a:pt x="36" y="879"/>
                  <a:pt x="13" y="857"/>
                  <a:pt x="0" y="814"/>
                </a:cubicBezTo>
                <a:cubicBezTo>
                  <a:pt x="2" y="782"/>
                  <a:pt x="1" y="750"/>
                  <a:pt x="6" y="719"/>
                </a:cubicBezTo>
                <a:cubicBezTo>
                  <a:pt x="13" y="678"/>
                  <a:pt x="94" y="643"/>
                  <a:pt x="128" y="631"/>
                </a:cubicBezTo>
                <a:cubicBezTo>
                  <a:pt x="169" y="590"/>
                  <a:pt x="126" y="625"/>
                  <a:pt x="176" y="604"/>
                </a:cubicBezTo>
                <a:cubicBezTo>
                  <a:pt x="200" y="594"/>
                  <a:pt x="195" y="584"/>
                  <a:pt x="217" y="570"/>
                </a:cubicBezTo>
                <a:cubicBezTo>
                  <a:pt x="282" y="527"/>
                  <a:pt x="379" y="514"/>
                  <a:pt x="454" y="502"/>
                </a:cubicBezTo>
                <a:cubicBezTo>
                  <a:pt x="587" y="481"/>
                  <a:pt x="717" y="445"/>
                  <a:pt x="854" y="441"/>
                </a:cubicBezTo>
                <a:cubicBezTo>
                  <a:pt x="1003" y="437"/>
                  <a:pt x="1152" y="436"/>
                  <a:pt x="1301" y="434"/>
                </a:cubicBezTo>
                <a:cubicBezTo>
                  <a:pt x="1337" y="411"/>
                  <a:pt x="1400" y="395"/>
                  <a:pt x="1443" y="380"/>
                </a:cubicBezTo>
                <a:cubicBezTo>
                  <a:pt x="1451" y="377"/>
                  <a:pt x="1482" y="371"/>
                  <a:pt x="1491" y="366"/>
                </a:cubicBezTo>
                <a:cubicBezTo>
                  <a:pt x="1555" y="330"/>
                  <a:pt x="1506" y="345"/>
                  <a:pt x="1558" y="333"/>
                </a:cubicBezTo>
                <a:cubicBezTo>
                  <a:pt x="1615" y="298"/>
                  <a:pt x="1667" y="268"/>
                  <a:pt x="1734" y="258"/>
                </a:cubicBezTo>
                <a:cubicBezTo>
                  <a:pt x="1808" y="221"/>
                  <a:pt x="1885" y="174"/>
                  <a:pt x="1965" y="150"/>
                </a:cubicBezTo>
                <a:cubicBezTo>
                  <a:pt x="1988" y="134"/>
                  <a:pt x="2005" y="129"/>
                  <a:pt x="2033" y="123"/>
                </a:cubicBezTo>
                <a:cubicBezTo>
                  <a:pt x="2074" y="94"/>
                  <a:pt x="2118" y="94"/>
                  <a:pt x="2168" y="89"/>
                </a:cubicBezTo>
                <a:cubicBezTo>
                  <a:pt x="2446" y="32"/>
                  <a:pt x="2724" y="34"/>
                  <a:pt x="3008" y="28"/>
                </a:cubicBezTo>
                <a:cubicBezTo>
                  <a:pt x="3145" y="0"/>
                  <a:pt x="3502" y="33"/>
                  <a:pt x="3591" y="34"/>
                </a:cubicBezTo>
                <a:cubicBezTo>
                  <a:pt x="3702" y="42"/>
                  <a:pt x="3805" y="74"/>
                  <a:pt x="3917" y="82"/>
                </a:cubicBezTo>
                <a:cubicBezTo>
                  <a:pt x="3943" y="91"/>
                  <a:pt x="3998" y="102"/>
                  <a:pt x="3998" y="102"/>
                </a:cubicBezTo>
                <a:cubicBezTo>
                  <a:pt x="4031" y="125"/>
                  <a:pt x="4069" y="129"/>
                  <a:pt x="4106" y="143"/>
                </a:cubicBezTo>
                <a:cubicBezTo>
                  <a:pt x="4177" y="169"/>
                  <a:pt x="4240" y="195"/>
                  <a:pt x="4316" y="204"/>
                </a:cubicBezTo>
                <a:cubicBezTo>
                  <a:pt x="4364" y="216"/>
                  <a:pt x="4404" y="246"/>
                  <a:pt x="4452" y="258"/>
                </a:cubicBezTo>
                <a:cubicBezTo>
                  <a:pt x="4496" y="289"/>
                  <a:pt x="4559" y="292"/>
                  <a:pt x="4608" y="319"/>
                </a:cubicBezTo>
                <a:cubicBezTo>
                  <a:pt x="4639" y="336"/>
                  <a:pt x="4670" y="370"/>
                  <a:pt x="4696" y="394"/>
                </a:cubicBezTo>
                <a:cubicBezTo>
                  <a:pt x="4722" y="418"/>
                  <a:pt x="4745" y="443"/>
                  <a:pt x="4770" y="468"/>
                </a:cubicBezTo>
                <a:cubicBezTo>
                  <a:pt x="4781" y="479"/>
                  <a:pt x="4793" y="491"/>
                  <a:pt x="4804" y="502"/>
                </a:cubicBezTo>
                <a:cubicBezTo>
                  <a:pt x="4813" y="511"/>
                  <a:pt x="4831" y="529"/>
                  <a:pt x="4831" y="529"/>
                </a:cubicBezTo>
                <a:cubicBezTo>
                  <a:pt x="4836" y="543"/>
                  <a:pt x="4840" y="556"/>
                  <a:pt x="4845" y="570"/>
                </a:cubicBezTo>
                <a:cubicBezTo>
                  <a:pt x="4847" y="577"/>
                  <a:pt x="4852" y="590"/>
                  <a:pt x="4852" y="590"/>
                </a:cubicBezTo>
                <a:cubicBezTo>
                  <a:pt x="4856" y="633"/>
                  <a:pt x="4870" y="676"/>
                  <a:pt x="4872" y="719"/>
                </a:cubicBezTo>
                <a:cubicBezTo>
                  <a:pt x="4875" y="788"/>
                  <a:pt x="4862" y="855"/>
                  <a:pt x="4852" y="922"/>
                </a:cubicBezTo>
                <a:cubicBezTo>
                  <a:pt x="4847" y="957"/>
                  <a:pt x="4856" y="1011"/>
                  <a:pt x="4818" y="1024"/>
                </a:cubicBezTo>
                <a:cubicBezTo>
                  <a:pt x="4804" y="1063"/>
                  <a:pt x="4748" y="1077"/>
                  <a:pt x="4709" y="1085"/>
                </a:cubicBezTo>
                <a:cubicBezTo>
                  <a:pt x="4656" y="1123"/>
                  <a:pt x="4681" y="1113"/>
                  <a:pt x="4642" y="1125"/>
                </a:cubicBezTo>
                <a:cubicBezTo>
                  <a:pt x="4608" y="1147"/>
                  <a:pt x="4571" y="1153"/>
                  <a:pt x="4533" y="1166"/>
                </a:cubicBezTo>
                <a:cubicBezTo>
                  <a:pt x="4521" y="1184"/>
                  <a:pt x="4513" y="1198"/>
                  <a:pt x="4513" y="12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066680" y="3505320"/>
            <a:ext cx="5716800" cy="99036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066680" y="25146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6095160" y="5245200"/>
            <a:ext cx="6858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066680" y="33526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143000" y="4191120"/>
            <a:ext cx="569736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095880" y="4038480"/>
            <a:ext cx="396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nconfor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eathering and ero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 gap in geologic ti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3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3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3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3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3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3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3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3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3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3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3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3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3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7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3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3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3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-380880" y="3276720"/>
            <a:ext cx="952488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conform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conformity is a gap in rock layers due to erosion and weathering or a break in the depositing of sediments (missing rock lay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762120" y="3581280"/>
            <a:ext cx="350496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762120" y="4572000"/>
            <a:ext cx="35049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762120" y="5562720"/>
            <a:ext cx="35049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5485680" y="5334120"/>
            <a:ext cx="35053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5485680" y="4343400"/>
            <a:ext cx="350532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 rot="10800000">
            <a:off x="4343040" y="4465440"/>
            <a:ext cx="1066680" cy="84924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5486400" y="5251320"/>
            <a:ext cx="3510000" cy="168480"/>
          </a:xfrm>
          <a:custGeom>
            <a:avLst/>
            <a:gdLst/>
            <a:ahLst/>
            <a:rect l="l" t="t" r="r" b="b"/>
            <a:pathLst>
              <a:path w="2211" h="106">
                <a:moveTo>
                  <a:pt x="0" y="52"/>
                </a:moveTo>
                <a:cubicBezTo>
                  <a:pt x="84" y="56"/>
                  <a:pt x="170" y="59"/>
                  <a:pt x="240" y="52"/>
                </a:cubicBezTo>
                <a:cubicBezTo>
                  <a:pt x="310" y="45"/>
                  <a:pt x="356" y="0"/>
                  <a:pt x="420" y="8"/>
                </a:cubicBezTo>
                <a:cubicBezTo>
                  <a:pt x="484" y="16"/>
                  <a:pt x="557" y="95"/>
                  <a:pt x="624" y="100"/>
                </a:cubicBezTo>
                <a:cubicBezTo>
                  <a:pt x="691" y="105"/>
                  <a:pt x="753" y="39"/>
                  <a:pt x="825" y="39"/>
                </a:cubicBezTo>
                <a:cubicBezTo>
                  <a:pt x="897" y="39"/>
                  <a:pt x="985" y="101"/>
                  <a:pt x="1056" y="100"/>
                </a:cubicBezTo>
                <a:cubicBezTo>
                  <a:pt x="1127" y="99"/>
                  <a:pt x="1192" y="37"/>
                  <a:pt x="1253" y="31"/>
                </a:cubicBezTo>
                <a:cubicBezTo>
                  <a:pt x="1314" y="25"/>
                  <a:pt x="1377" y="51"/>
                  <a:pt x="1424" y="62"/>
                </a:cubicBezTo>
                <a:cubicBezTo>
                  <a:pt x="1471" y="73"/>
                  <a:pt x="1484" y="106"/>
                  <a:pt x="1536" y="100"/>
                </a:cubicBezTo>
                <a:cubicBezTo>
                  <a:pt x="1588" y="94"/>
                  <a:pt x="1664" y="23"/>
                  <a:pt x="1736" y="23"/>
                </a:cubicBezTo>
                <a:cubicBezTo>
                  <a:pt x="1808" y="23"/>
                  <a:pt x="1889" y="100"/>
                  <a:pt x="1968" y="100"/>
                </a:cubicBezTo>
                <a:cubicBezTo>
                  <a:pt x="2047" y="100"/>
                  <a:pt x="2160" y="39"/>
                  <a:pt x="2211" y="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-228600" y="3048120"/>
            <a:ext cx="93726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is an Unconform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conformity is a ____ in rock layers due to erosion and weathering or a break in the depositing of sediments (missing rock lay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762120" y="3581280"/>
            <a:ext cx="350496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762120" y="4572000"/>
            <a:ext cx="35049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762120" y="5562720"/>
            <a:ext cx="35049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5485680" y="5334120"/>
            <a:ext cx="35053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5485680" y="4343400"/>
            <a:ext cx="350532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 rot="10800000">
            <a:off x="4343040" y="4465440"/>
            <a:ext cx="1066680" cy="84924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7086600" y="160020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089840" y="1066680"/>
            <a:ext cx="1825560" cy="2667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486400" y="5251320"/>
            <a:ext cx="3510000" cy="168480"/>
          </a:xfrm>
          <a:custGeom>
            <a:avLst/>
            <a:gdLst/>
            <a:ahLst/>
            <a:rect l="l" t="t" r="r" b="b"/>
            <a:pathLst>
              <a:path w="2211" h="106">
                <a:moveTo>
                  <a:pt x="0" y="52"/>
                </a:moveTo>
                <a:cubicBezTo>
                  <a:pt x="84" y="56"/>
                  <a:pt x="170" y="59"/>
                  <a:pt x="240" y="52"/>
                </a:cubicBezTo>
                <a:cubicBezTo>
                  <a:pt x="310" y="45"/>
                  <a:pt x="356" y="0"/>
                  <a:pt x="420" y="8"/>
                </a:cubicBezTo>
                <a:cubicBezTo>
                  <a:pt x="484" y="16"/>
                  <a:pt x="557" y="95"/>
                  <a:pt x="624" y="100"/>
                </a:cubicBezTo>
                <a:cubicBezTo>
                  <a:pt x="691" y="105"/>
                  <a:pt x="753" y="39"/>
                  <a:pt x="825" y="39"/>
                </a:cubicBezTo>
                <a:cubicBezTo>
                  <a:pt x="897" y="39"/>
                  <a:pt x="985" y="101"/>
                  <a:pt x="1056" y="100"/>
                </a:cubicBezTo>
                <a:cubicBezTo>
                  <a:pt x="1127" y="99"/>
                  <a:pt x="1192" y="37"/>
                  <a:pt x="1253" y="31"/>
                </a:cubicBezTo>
                <a:cubicBezTo>
                  <a:pt x="1314" y="25"/>
                  <a:pt x="1377" y="51"/>
                  <a:pt x="1424" y="62"/>
                </a:cubicBezTo>
                <a:cubicBezTo>
                  <a:pt x="1471" y="73"/>
                  <a:pt x="1484" y="106"/>
                  <a:pt x="1536" y="100"/>
                </a:cubicBezTo>
                <a:cubicBezTo>
                  <a:pt x="1588" y="94"/>
                  <a:pt x="1664" y="23"/>
                  <a:pt x="1736" y="23"/>
                </a:cubicBezTo>
                <a:cubicBezTo>
                  <a:pt x="1808" y="23"/>
                  <a:pt x="1889" y="100"/>
                  <a:pt x="1968" y="100"/>
                </a:cubicBezTo>
                <a:cubicBezTo>
                  <a:pt x="2047" y="100"/>
                  <a:pt x="2160" y="39"/>
                  <a:pt x="2211" y="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-380880" y="2971800"/>
            <a:ext cx="952488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4648320" y="3822840"/>
            <a:ext cx="270648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3885480" y="38098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1143000" y="38098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3124080" y="38098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5410080" y="4800600"/>
            <a:ext cx="19447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647600" y="48006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1142280" y="4800600"/>
            <a:ext cx="35053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3885480" y="48006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410080" y="579132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1142280" y="5791320"/>
            <a:ext cx="426708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 flipV="1">
            <a:off x="4647600" y="57906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rot="192600">
            <a:off x="4647960" y="47239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133720" y="47242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895480" y="5943600"/>
            <a:ext cx="2206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3886200" y="38095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6718320"/>
            <a:ext cx="609480" cy="685800"/>
          </a:xfrm>
          <a:prstGeom prst="rect">
            <a:avLst/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 rot="21553200">
            <a:off x="6171840" y="6716880"/>
            <a:ext cx="760320" cy="685800"/>
          </a:xfrm>
          <a:prstGeom prst="triangle">
            <a:avLst>
              <a:gd name="adj" fmla="val 72514"/>
            </a:avLst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15000" y="68324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6171480" y="5791320"/>
            <a:ext cx="11826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rot="3044400">
            <a:off x="4022280" y="4739760"/>
            <a:ext cx="22338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w of Cross Cutting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w of cross cutting relationships states that a fault line or an igneous intrusion must be younger than the rock it cuts a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3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3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3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5" dur="3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3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3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3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3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4" dur="3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3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3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3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5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1" dur="5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6500"/>
                            </p:stCondLst>
                            <p:childTnLst>
                              <p:par>
                                <p:cTn id="14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4" dur="2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1445" dur="2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7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1448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9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469" dur="2000" fill="hold"/>
                                        <p:tgtEl>
                                          <p:spTgt spid="7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471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473" dur="2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475" dur="2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477" dur="2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479" dur="20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481" dur="20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1483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1485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-228600" y="3048120"/>
            <a:ext cx="93726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4648320" y="3822840"/>
            <a:ext cx="270648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3885480" y="38098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1143000" y="38098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3124080" y="38098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5410080" y="4800600"/>
            <a:ext cx="19447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4647600" y="48006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1142280" y="4800600"/>
            <a:ext cx="35053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3885480" y="48006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5410080" y="579132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1142280" y="5791320"/>
            <a:ext cx="426708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4647600" y="57906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rot="192600">
            <a:off x="4647960" y="47239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133720" y="47242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895480" y="5943600"/>
            <a:ext cx="2206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3886200" y="38095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553080" y="6515280"/>
            <a:ext cx="762120" cy="68580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 rot="21553200">
            <a:off x="6019560" y="6515280"/>
            <a:ext cx="760320" cy="685800"/>
          </a:xfrm>
          <a:prstGeom prst="triangle">
            <a:avLst>
              <a:gd name="adj" fmla="val 72514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715000" y="68324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6171480" y="5791320"/>
            <a:ext cx="11826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3044400">
            <a:off x="4022280" y="4739760"/>
            <a:ext cx="22338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at is the Law of Cross Cutting Relationship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632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ult line or an igneous intrusion must be _____ than the rock it cuts a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238880" y="1523880"/>
            <a:ext cx="167652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162920" y="1066680"/>
            <a:ext cx="1752480" cy="2438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0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3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3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8" dur="3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3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3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3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3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3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3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1" dur="3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3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3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1" dur="5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4" dur="5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3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7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538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540" dur="2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541" dur="2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9500"/>
                            </p:stCondLst>
                            <p:childTnLst>
                              <p:par>
                                <p:cTn id="15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0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558" dur="2000" fill="hold"/>
                                        <p:tgtEl>
                                          <p:spTgt spid="7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560" dur="20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562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564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566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568" dur="2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570" dur="2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1572" dur="2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1574" dur="2000" fill="hold"/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-380880" y="1447920"/>
            <a:ext cx="952488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e: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oldest rock and work your way to the you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45712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3809880" y="37972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10666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 flipV="1">
            <a:off x="30474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53341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45712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10659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H="1" flipV="1">
            <a:off x="38098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53334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10666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 flipV="1">
            <a:off x="45712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rot="192600">
            <a:off x="4571640" y="47113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057400" y="47116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819520" y="5931000"/>
            <a:ext cx="220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38098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80880" y="2057400"/>
            <a:ext cx="7739280" cy="2087640"/>
          </a:xfrm>
          <a:custGeom>
            <a:avLst/>
            <a:gdLst/>
            <a:ahLst/>
            <a:rect l="l" t="t" r="r" b="b"/>
            <a:pathLst>
              <a:path w="4875" h="1315">
                <a:moveTo>
                  <a:pt x="4513" y="1220"/>
                </a:moveTo>
                <a:cubicBezTo>
                  <a:pt x="4204" y="1273"/>
                  <a:pt x="4132" y="1218"/>
                  <a:pt x="3903" y="1159"/>
                </a:cubicBezTo>
                <a:cubicBezTo>
                  <a:pt x="3425" y="1172"/>
                  <a:pt x="2964" y="1189"/>
                  <a:pt x="2480" y="1193"/>
                </a:cubicBezTo>
                <a:cubicBezTo>
                  <a:pt x="2438" y="1222"/>
                  <a:pt x="2482" y="1197"/>
                  <a:pt x="2399" y="1214"/>
                </a:cubicBezTo>
                <a:cubicBezTo>
                  <a:pt x="2378" y="1218"/>
                  <a:pt x="2359" y="1228"/>
                  <a:pt x="2338" y="1234"/>
                </a:cubicBezTo>
                <a:cubicBezTo>
                  <a:pt x="2295" y="1246"/>
                  <a:pt x="2340" y="1235"/>
                  <a:pt x="2283" y="1261"/>
                </a:cubicBezTo>
                <a:cubicBezTo>
                  <a:pt x="2224" y="1288"/>
                  <a:pt x="2156" y="1299"/>
                  <a:pt x="2094" y="1315"/>
                </a:cubicBezTo>
                <a:cubicBezTo>
                  <a:pt x="1913" y="1313"/>
                  <a:pt x="1733" y="1314"/>
                  <a:pt x="1552" y="1308"/>
                </a:cubicBezTo>
                <a:cubicBezTo>
                  <a:pt x="1523" y="1307"/>
                  <a:pt x="1475" y="1262"/>
                  <a:pt x="1443" y="1254"/>
                </a:cubicBezTo>
                <a:cubicBezTo>
                  <a:pt x="1389" y="1241"/>
                  <a:pt x="1335" y="1234"/>
                  <a:pt x="1280" y="1220"/>
                </a:cubicBezTo>
                <a:cubicBezTo>
                  <a:pt x="1002" y="1149"/>
                  <a:pt x="707" y="1216"/>
                  <a:pt x="420" y="1214"/>
                </a:cubicBezTo>
                <a:cubicBezTo>
                  <a:pt x="315" y="1187"/>
                  <a:pt x="277" y="1078"/>
                  <a:pt x="189" y="1024"/>
                </a:cubicBezTo>
                <a:cubicBezTo>
                  <a:pt x="167" y="989"/>
                  <a:pt x="183" y="1007"/>
                  <a:pt x="135" y="976"/>
                </a:cubicBezTo>
                <a:cubicBezTo>
                  <a:pt x="128" y="972"/>
                  <a:pt x="115" y="963"/>
                  <a:pt x="115" y="963"/>
                </a:cubicBezTo>
                <a:cubicBezTo>
                  <a:pt x="110" y="956"/>
                  <a:pt x="107" y="948"/>
                  <a:pt x="101" y="942"/>
                </a:cubicBezTo>
                <a:cubicBezTo>
                  <a:pt x="89" y="931"/>
                  <a:pt x="61" y="915"/>
                  <a:pt x="61" y="915"/>
                </a:cubicBezTo>
                <a:cubicBezTo>
                  <a:pt x="36" y="879"/>
                  <a:pt x="13" y="857"/>
                  <a:pt x="0" y="814"/>
                </a:cubicBezTo>
                <a:cubicBezTo>
                  <a:pt x="2" y="782"/>
                  <a:pt x="1" y="750"/>
                  <a:pt x="6" y="719"/>
                </a:cubicBezTo>
                <a:cubicBezTo>
                  <a:pt x="13" y="678"/>
                  <a:pt x="94" y="643"/>
                  <a:pt x="128" y="631"/>
                </a:cubicBezTo>
                <a:cubicBezTo>
                  <a:pt x="169" y="590"/>
                  <a:pt x="126" y="625"/>
                  <a:pt x="176" y="604"/>
                </a:cubicBezTo>
                <a:cubicBezTo>
                  <a:pt x="200" y="594"/>
                  <a:pt x="195" y="584"/>
                  <a:pt x="217" y="570"/>
                </a:cubicBezTo>
                <a:cubicBezTo>
                  <a:pt x="282" y="527"/>
                  <a:pt x="379" y="514"/>
                  <a:pt x="454" y="502"/>
                </a:cubicBezTo>
                <a:cubicBezTo>
                  <a:pt x="587" y="481"/>
                  <a:pt x="717" y="445"/>
                  <a:pt x="854" y="441"/>
                </a:cubicBezTo>
                <a:cubicBezTo>
                  <a:pt x="1003" y="437"/>
                  <a:pt x="1152" y="436"/>
                  <a:pt x="1301" y="434"/>
                </a:cubicBezTo>
                <a:cubicBezTo>
                  <a:pt x="1337" y="411"/>
                  <a:pt x="1400" y="395"/>
                  <a:pt x="1443" y="380"/>
                </a:cubicBezTo>
                <a:cubicBezTo>
                  <a:pt x="1451" y="377"/>
                  <a:pt x="1482" y="371"/>
                  <a:pt x="1491" y="366"/>
                </a:cubicBezTo>
                <a:cubicBezTo>
                  <a:pt x="1555" y="330"/>
                  <a:pt x="1506" y="345"/>
                  <a:pt x="1558" y="333"/>
                </a:cubicBezTo>
                <a:cubicBezTo>
                  <a:pt x="1615" y="298"/>
                  <a:pt x="1667" y="268"/>
                  <a:pt x="1734" y="258"/>
                </a:cubicBezTo>
                <a:cubicBezTo>
                  <a:pt x="1808" y="221"/>
                  <a:pt x="1885" y="174"/>
                  <a:pt x="1965" y="150"/>
                </a:cubicBezTo>
                <a:cubicBezTo>
                  <a:pt x="1988" y="134"/>
                  <a:pt x="2005" y="129"/>
                  <a:pt x="2033" y="123"/>
                </a:cubicBezTo>
                <a:cubicBezTo>
                  <a:pt x="2074" y="94"/>
                  <a:pt x="2118" y="94"/>
                  <a:pt x="2168" y="89"/>
                </a:cubicBezTo>
                <a:cubicBezTo>
                  <a:pt x="2446" y="32"/>
                  <a:pt x="2724" y="34"/>
                  <a:pt x="3008" y="28"/>
                </a:cubicBezTo>
                <a:cubicBezTo>
                  <a:pt x="3145" y="0"/>
                  <a:pt x="3502" y="33"/>
                  <a:pt x="3591" y="34"/>
                </a:cubicBezTo>
                <a:cubicBezTo>
                  <a:pt x="3702" y="42"/>
                  <a:pt x="3805" y="74"/>
                  <a:pt x="3917" y="82"/>
                </a:cubicBezTo>
                <a:cubicBezTo>
                  <a:pt x="3943" y="91"/>
                  <a:pt x="3998" y="102"/>
                  <a:pt x="3998" y="102"/>
                </a:cubicBezTo>
                <a:cubicBezTo>
                  <a:pt x="4031" y="125"/>
                  <a:pt x="4069" y="129"/>
                  <a:pt x="4106" y="143"/>
                </a:cubicBezTo>
                <a:cubicBezTo>
                  <a:pt x="4177" y="169"/>
                  <a:pt x="4240" y="195"/>
                  <a:pt x="4316" y="204"/>
                </a:cubicBezTo>
                <a:cubicBezTo>
                  <a:pt x="4364" y="216"/>
                  <a:pt x="4404" y="246"/>
                  <a:pt x="4452" y="258"/>
                </a:cubicBezTo>
                <a:cubicBezTo>
                  <a:pt x="4496" y="289"/>
                  <a:pt x="4559" y="292"/>
                  <a:pt x="4608" y="319"/>
                </a:cubicBezTo>
                <a:cubicBezTo>
                  <a:pt x="4639" y="336"/>
                  <a:pt x="4670" y="370"/>
                  <a:pt x="4696" y="394"/>
                </a:cubicBezTo>
                <a:cubicBezTo>
                  <a:pt x="4722" y="418"/>
                  <a:pt x="4745" y="443"/>
                  <a:pt x="4770" y="468"/>
                </a:cubicBezTo>
                <a:cubicBezTo>
                  <a:pt x="4781" y="479"/>
                  <a:pt x="4793" y="491"/>
                  <a:pt x="4804" y="502"/>
                </a:cubicBezTo>
                <a:cubicBezTo>
                  <a:pt x="4813" y="511"/>
                  <a:pt x="4831" y="529"/>
                  <a:pt x="4831" y="529"/>
                </a:cubicBezTo>
                <a:cubicBezTo>
                  <a:pt x="4836" y="543"/>
                  <a:pt x="4840" y="556"/>
                  <a:pt x="4845" y="570"/>
                </a:cubicBezTo>
                <a:cubicBezTo>
                  <a:pt x="4847" y="577"/>
                  <a:pt x="4852" y="590"/>
                  <a:pt x="4852" y="590"/>
                </a:cubicBezTo>
                <a:cubicBezTo>
                  <a:pt x="4856" y="633"/>
                  <a:pt x="4870" y="676"/>
                  <a:pt x="4872" y="719"/>
                </a:cubicBezTo>
                <a:cubicBezTo>
                  <a:pt x="4875" y="788"/>
                  <a:pt x="4862" y="855"/>
                  <a:pt x="4852" y="922"/>
                </a:cubicBezTo>
                <a:cubicBezTo>
                  <a:pt x="4847" y="957"/>
                  <a:pt x="4856" y="1011"/>
                  <a:pt x="4818" y="1024"/>
                </a:cubicBezTo>
                <a:cubicBezTo>
                  <a:pt x="4804" y="1063"/>
                  <a:pt x="4748" y="1077"/>
                  <a:pt x="4709" y="1085"/>
                </a:cubicBezTo>
                <a:cubicBezTo>
                  <a:pt x="4656" y="1123"/>
                  <a:pt x="4681" y="1113"/>
                  <a:pt x="4642" y="1125"/>
                </a:cubicBezTo>
                <a:cubicBezTo>
                  <a:pt x="4608" y="1147"/>
                  <a:pt x="4571" y="1153"/>
                  <a:pt x="4533" y="1166"/>
                </a:cubicBezTo>
                <a:cubicBezTo>
                  <a:pt x="4521" y="1184"/>
                  <a:pt x="4513" y="1198"/>
                  <a:pt x="4513" y="12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0652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0666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629400" y="6705720"/>
            <a:ext cx="609480" cy="68580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 rot="21553200">
            <a:off x="6095520" y="6703920"/>
            <a:ext cx="760680" cy="685800"/>
          </a:xfrm>
          <a:prstGeom prst="triangle">
            <a:avLst>
              <a:gd name="adj" fmla="val 72514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60958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66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0666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rot="3044400">
            <a:off x="3946320" y="4727520"/>
            <a:ext cx="22338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772400" y="1600200"/>
            <a:ext cx="1371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3733920"/>
            <a:ext cx="46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57200" y="39625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153280" y="45720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153280" y="419112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153280" y="3809880"/>
            <a:ext cx="46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153280" y="34290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153280" y="304812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8153280" y="27432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8153280" y="236232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8153280" y="20574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45712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3809880" y="37972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10666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30474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53341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45712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0659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38098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53334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10666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45712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rot="192600">
            <a:off x="4571640" y="47113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57400" y="47116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9520" y="5931000"/>
            <a:ext cx="220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H="1" flipV="1">
            <a:off x="38098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0652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0666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934320" y="6705720"/>
            <a:ext cx="609480" cy="68580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 rot="21553200">
            <a:off x="6171840" y="6858000"/>
            <a:ext cx="760320" cy="685800"/>
          </a:xfrm>
          <a:prstGeom prst="triangle">
            <a:avLst>
              <a:gd name="adj" fmla="val 72514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6386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60958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0666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0666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rot="3044400">
            <a:off x="3946320" y="4727520"/>
            <a:ext cx="22338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3733920"/>
            <a:ext cx="46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57200" y="39625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781680" y="2209680"/>
            <a:ext cx="9144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5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8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1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4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7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0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3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6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9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2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5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8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1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4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7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0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3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6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9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2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5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8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1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4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7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0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3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3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3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5" dur="3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3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3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3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2" dur="3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5" dur="3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3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6" dur="3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3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2" dur="3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0" dur="5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3" dur="5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750" dur="2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752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754" dur="20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756" dur="2000" fill="hold"/>
                                        <p:tgtEl>
                                          <p:spTgt spid="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758" dur="20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760" dur="20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762" dur="2000" fill="hold"/>
                                        <p:tgtEl>
                                          <p:spTgt spid="7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1764" dur="2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1766" dur="20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1" dur="3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4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7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8" dur="3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1" dur="3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3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2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-380880" y="1447920"/>
            <a:ext cx="952488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e: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oldest rock and work your way to the you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5712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809880" y="37972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10666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 flipV="1">
            <a:off x="30474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53341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45712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10659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38098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53334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10666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 flipV="1">
            <a:off x="45712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rot="192600">
            <a:off x="4571640" y="47113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057400" y="47116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819520" y="5931000"/>
            <a:ext cx="220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 flipV="1">
            <a:off x="38098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80880" y="2057400"/>
            <a:ext cx="7739280" cy="2087640"/>
          </a:xfrm>
          <a:custGeom>
            <a:avLst/>
            <a:gdLst/>
            <a:ahLst/>
            <a:rect l="l" t="t" r="r" b="b"/>
            <a:pathLst>
              <a:path w="4875" h="1315">
                <a:moveTo>
                  <a:pt x="4513" y="1220"/>
                </a:moveTo>
                <a:cubicBezTo>
                  <a:pt x="4204" y="1273"/>
                  <a:pt x="4132" y="1218"/>
                  <a:pt x="3903" y="1159"/>
                </a:cubicBezTo>
                <a:cubicBezTo>
                  <a:pt x="3425" y="1172"/>
                  <a:pt x="2964" y="1189"/>
                  <a:pt x="2480" y="1193"/>
                </a:cubicBezTo>
                <a:cubicBezTo>
                  <a:pt x="2438" y="1222"/>
                  <a:pt x="2482" y="1197"/>
                  <a:pt x="2399" y="1214"/>
                </a:cubicBezTo>
                <a:cubicBezTo>
                  <a:pt x="2378" y="1218"/>
                  <a:pt x="2359" y="1228"/>
                  <a:pt x="2338" y="1234"/>
                </a:cubicBezTo>
                <a:cubicBezTo>
                  <a:pt x="2295" y="1246"/>
                  <a:pt x="2340" y="1235"/>
                  <a:pt x="2283" y="1261"/>
                </a:cubicBezTo>
                <a:cubicBezTo>
                  <a:pt x="2224" y="1288"/>
                  <a:pt x="2156" y="1299"/>
                  <a:pt x="2094" y="1315"/>
                </a:cubicBezTo>
                <a:cubicBezTo>
                  <a:pt x="1913" y="1313"/>
                  <a:pt x="1733" y="1314"/>
                  <a:pt x="1552" y="1308"/>
                </a:cubicBezTo>
                <a:cubicBezTo>
                  <a:pt x="1523" y="1307"/>
                  <a:pt x="1475" y="1262"/>
                  <a:pt x="1443" y="1254"/>
                </a:cubicBezTo>
                <a:cubicBezTo>
                  <a:pt x="1389" y="1241"/>
                  <a:pt x="1335" y="1234"/>
                  <a:pt x="1280" y="1220"/>
                </a:cubicBezTo>
                <a:cubicBezTo>
                  <a:pt x="1002" y="1149"/>
                  <a:pt x="707" y="1216"/>
                  <a:pt x="420" y="1214"/>
                </a:cubicBezTo>
                <a:cubicBezTo>
                  <a:pt x="315" y="1187"/>
                  <a:pt x="277" y="1078"/>
                  <a:pt x="189" y="1024"/>
                </a:cubicBezTo>
                <a:cubicBezTo>
                  <a:pt x="167" y="989"/>
                  <a:pt x="183" y="1007"/>
                  <a:pt x="135" y="976"/>
                </a:cubicBezTo>
                <a:cubicBezTo>
                  <a:pt x="128" y="972"/>
                  <a:pt x="115" y="963"/>
                  <a:pt x="115" y="963"/>
                </a:cubicBezTo>
                <a:cubicBezTo>
                  <a:pt x="110" y="956"/>
                  <a:pt x="107" y="948"/>
                  <a:pt x="101" y="942"/>
                </a:cubicBezTo>
                <a:cubicBezTo>
                  <a:pt x="89" y="931"/>
                  <a:pt x="61" y="915"/>
                  <a:pt x="61" y="915"/>
                </a:cubicBezTo>
                <a:cubicBezTo>
                  <a:pt x="36" y="879"/>
                  <a:pt x="13" y="857"/>
                  <a:pt x="0" y="814"/>
                </a:cubicBezTo>
                <a:cubicBezTo>
                  <a:pt x="2" y="782"/>
                  <a:pt x="1" y="750"/>
                  <a:pt x="6" y="719"/>
                </a:cubicBezTo>
                <a:cubicBezTo>
                  <a:pt x="13" y="678"/>
                  <a:pt x="94" y="643"/>
                  <a:pt x="128" y="631"/>
                </a:cubicBezTo>
                <a:cubicBezTo>
                  <a:pt x="169" y="590"/>
                  <a:pt x="126" y="625"/>
                  <a:pt x="176" y="604"/>
                </a:cubicBezTo>
                <a:cubicBezTo>
                  <a:pt x="200" y="594"/>
                  <a:pt x="195" y="584"/>
                  <a:pt x="217" y="570"/>
                </a:cubicBezTo>
                <a:cubicBezTo>
                  <a:pt x="282" y="527"/>
                  <a:pt x="379" y="514"/>
                  <a:pt x="454" y="502"/>
                </a:cubicBezTo>
                <a:cubicBezTo>
                  <a:pt x="587" y="481"/>
                  <a:pt x="717" y="445"/>
                  <a:pt x="854" y="441"/>
                </a:cubicBezTo>
                <a:cubicBezTo>
                  <a:pt x="1003" y="437"/>
                  <a:pt x="1152" y="436"/>
                  <a:pt x="1301" y="434"/>
                </a:cubicBezTo>
                <a:cubicBezTo>
                  <a:pt x="1337" y="411"/>
                  <a:pt x="1400" y="395"/>
                  <a:pt x="1443" y="380"/>
                </a:cubicBezTo>
                <a:cubicBezTo>
                  <a:pt x="1451" y="377"/>
                  <a:pt x="1482" y="371"/>
                  <a:pt x="1491" y="366"/>
                </a:cubicBezTo>
                <a:cubicBezTo>
                  <a:pt x="1555" y="330"/>
                  <a:pt x="1506" y="345"/>
                  <a:pt x="1558" y="333"/>
                </a:cubicBezTo>
                <a:cubicBezTo>
                  <a:pt x="1615" y="298"/>
                  <a:pt x="1667" y="268"/>
                  <a:pt x="1734" y="258"/>
                </a:cubicBezTo>
                <a:cubicBezTo>
                  <a:pt x="1808" y="221"/>
                  <a:pt x="1885" y="174"/>
                  <a:pt x="1965" y="150"/>
                </a:cubicBezTo>
                <a:cubicBezTo>
                  <a:pt x="1988" y="134"/>
                  <a:pt x="2005" y="129"/>
                  <a:pt x="2033" y="123"/>
                </a:cubicBezTo>
                <a:cubicBezTo>
                  <a:pt x="2074" y="94"/>
                  <a:pt x="2118" y="94"/>
                  <a:pt x="2168" y="89"/>
                </a:cubicBezTo>
                <a:cubicBezTo>
                  <a:pt x="2446" y="32"/>
                  <a:pt x="2724" y="34"/>
                  <a:pt x="3008" y="28"/>
                </a:cubicBezTo>
                <a:cubicBezTo>
                  <a:pt x="3145" y="0"/>
                  <a:pt x="3502" y="33"/>
                  <a:pt x="3591" y="34"/>
                </a:cubicBezTo>
                <a:cubicBezTo>
                  <a:pt x="3702" y="42"/>
                  <a:pt x="3805" y="74"/>
                  <a:pt x="3917" y="82"/>
                </a:cubicBezTo>
                <a:cubicBezTo>
                  <a:pt x="3943" y="91"/>
                  <a:pt x="3998" y="102"/>
                  <a:pt x="3998" y="102"/>
                </a:cubicBezTo>
                <a:cubicBezTo>
                  <a:pt x="4031" y="125"/>
                  <a:pt x="4069" y="129"/>
                  <a:pt x="4106" y="143"/>
                </a:cubicBezTo>
                <a:cubicBezTo>
                  <a:pt x="4177" y="169"/>
                  <a:pt x="4240" y="195"/>
                  <a:pt x="4316" y="204"/>
                </a:cubicBezTo>
                <a:cubicBezTo>
                  <a:pt x="4364" y="216"/>
                  <a:pt x="4404" y="246"/>
                  <a:pt x="4452" y="258"/>
                </a:cubicBezTo>
                <a:cubicBezTo>
                  <a:pt x="4496" y="289"/>
                  <a:pt x="4559" y="292"/>
                  <a:pt x="4608" y="319"/>
                </a:cubicBezTo>
                <a:cubicBezTo>
                  <a:pt x="4639" y="336"/>
                  <a:pt x="4670" y="370"/>
                  <a:pt x="4696" y="394"/>
                </a:cubicBezTo>
                <a:cubicBezTo>
                  <a:pt x="4722" y="418"/>
                  <a:pt x="4745" y="443"/>
                  <a:pt x="4770" y="468"/>
                </a:cubicBezTo>
                <a:cubicBezTo>
                  <a:pt x="4781" y="479"/>
                  <a:pt x="4793" y="491"/>
                  <a:pt x="4804" y="502"/>
                </a:cubicBezTo>
                <a:cubicBezTo>
                  <a:pt x="4813" y="511"/>
                  <a:pt x="4831" y="529"/>
                  <a:pt x="4831" y="529"/>
                </a:cubicBezTo>
                <a:cubicBezTo>
                  <a:pt x="4836" y="543"/>
                  <a:pt x="4840" y="556"/>
                  <a:pt x="4845" y="570"/>
                </a:cubicBezTo>
                <a:cubicBezTo>
                  <a:pt x="4847" y="577"/>
                  <a:pt x="4852" y="590"/>
                  <a:pt x="4852" y="590"/>
                </a:cubicBezTo>
                <a:cubicBezTo>
                  <a:pt x="4856" y="633"/>
                  <a:pt x="4870" y="676"/>
                  <a:pt x="4872" y="719"/>
                </a:cubicBezTo>
                <a:cubicBezTo>
                  <a:pt x="4875" y="788"/>
                  <a:pt x="4862" y="855"/>
                  <a:pt x="4852" y="922"/>
                </a:cubicBezTo>
                <a:cubicBezTo>
                  <a:pt x="4847" y="957"/>
                  <a:pt x="4856" y="1011"/>
                  <a:pt x="4818" y="1024"/>
                </a:cubicBezTo>
                <a:cubicBezTo>
                  <a:pt x="4804" y="1063"/>
                  <a:pt x="4748" y="1077"/>
                  <a:pt x="4709" y="1085"/>
                </a:cubicBezTo>
                <a:cubicBezTo>
                  <a:pt x="4656" y="1123"/>
                  <a:pt x="4681" y="1113"/>
                  <a:pt x="4642" y="1125"/>
                </a:cubicBezTo>
                <a:cubicBezTo>
                  <a:pt x="4608" y="1147"/>
                  <a:pt x="4571" y="1153"/>
                  <a:pt x="4533" y="1166"/>
                </a:cubicBezTo>
                <a:cubicBezTo>
                  <a:pt x="4521" y="1184"/>
                  <a:pt x="4513" y="1198"/>
                  <a:pt x="4513" y="12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0652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0666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29400" y="6705720"/>
            <a:ext cx="609480" cy="68580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 rot="21553200">
            <a:off x="6095520" y="6705720"/>
            <a:ext cx="760680" cy="685800"/>
          </a:xfrm>
          <a:prstGeom prst="triangle">
            <a:avLst>
              <a:gd name="adj" fmla="val 72514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6386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60958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0666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0666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rot="3044400">
            <a:off x="3946320" y="4727520"/>
            <a:ext cx="22338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772400" y="1219320"/>
            <a:ext cx="1371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3733920"/>
            <a:ext cx="46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57200" y="39625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153280" y="45720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8153280" y="419112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8153280" y="3809880"/>
            <a:ext cx="46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8153280" y="34290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8153280" y="304812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8153280" y="27432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153280" y="236232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8153280" y="20574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5712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3961800" y="396252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10666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 flipV="1">
            <a:off x="30474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3341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45712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10659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H="1" flipV="1">
            <a:off x="38098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53334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0666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45712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rot="192600">
            <a:off x="4571640" y="47113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057400" y="47116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819520" y="5931000"/>
            <a:ext cx="220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H="1" flipV="1">
            <a:off x="38098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652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0666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05720" y="6858000"/>
            <a:ext cx="609480" cy="685800"/>
          </a:xfrm>
          <a:prstGeom prst="rect">
            <a:avLst/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 rot="21553200">
            <a:off x="6171840" y="6858000"/>
            <a:ext cx="760320" cy="685800"/>
          </a:xfrm>
          <a:prstGeom prst="triangle">
            <a:avLst>
              <a:gd name="adj" fmla="val 72514"/>
            </a:avLst>
          </a:pr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6386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60958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0666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0666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rot="3044400">
            <a:off x="3565080" y="4282560"/>
            <a:ext cx="22338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3733920"/>
            <a:ext cx="46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57200" y="39625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781680" y="2209680"/>
            <a:ext cx="9144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809880" y="2273400"/>
            <a:ext cx="1981440" cy="4584600"/>
          </a:xfrm>
          <a:custGeom>
            <a:avLst/>
            <a:gdLst/>
            <a:ahLst/>
            <a:rect l="l" t="t" r="r" b="b"/>
            <a:pathLst>
              <a:path w="1248" h="2888">
                <a:moveTo>
                  <a:pt x="286" y="2873"/>
                </a:moveTo>
                <a:cubicBezTo>
                  <a:pt x="254" y="2826"/>
                  <a:pt x="329" y="2814"/>
                  <a:pt x="310" y="2763"/>
                </a:cubicBezTo>
                <a:cubicBezTo>
                  <a:pt x="339" y="2675"/>
                  <a:pt x="312" y="2650"/>
                  <a:pt x="384" y="2597"/>
                </a:cubicBezTo>
                <a:cubicBezTo>
                  <a:pt x="432" y="2562"/>
                  <a:pt x="477" y="2516"/>
                  <a:pt x="526" y="2484"/>
                </a:cubicBezTo>
                <a:cubicBezTo>
                  <a:pt x="568" y="2425"/>
                  <a:pt x="545" y="2444"/>
                  <a:pt x="586" y="2417"/>
                </a:cubicBezTo>
                <a:cubicBezTo>
                  <a:pt x="599" y="2375"/>
                  <a:pt x="631" y="2344"/>
                  <a:pt x="668" y="2320"/>
                </a:cubicBezTo>
                <a:cubicBezTo>
                  <a:pt x="690" y="2286"/>
                  <a:pt x="710" y="2251"/>
                  <a:pt x="728" y="2215"/>
                </a:cubicBezTo>
                <a:cubicBezTo>
                  <a:pt x="740" y="2163"/>
                  <a:pt x="758" y="2117"/>
                  <a:pt x="788" y="2073"/>
                </a:cubicBezTo>
                <a:cubicBezTo>
                  <a:pt x="802" y="2013"/>
                  <a:pt x="770" y="2050"/>
                  <a:pt x="800" y="1997"/>
                </a:cubicBezTo>
                <a:cubicBezTo>
                  <a:pt x="812" y="1976"/>
                  <a:pt x="820" y="1890"/>
                  <a:pt x="831" y="1868"/>
                </a:cubicBezTo>
                <a:cubicBezTo>
                  <a:pt x="848" y="1779"/>
                  <a:pt x="874" y="1851"/>
                  <a:pt x="874" y="1678"/>
                </a:cubicBezTo>
                <a:cubicBezTo>
                  <a:pt x="874" y="1544"/>
                  <a:pt x="898" y="1303"/>
                  <a:pt x="937" y="1175"/>
                </a:cubicBezTo>
                <a:cubicBezTo>
                  <a:pt x="940" y="1140"/>
                  <a:pt x="939" y="1105"/>
                  <a:pt x="945" y="1071"/>
                </a:cubicBezTo>
                <a:cubicBezTo>
                  <a:pt x="954" y="1017"/>
                  <a:pt x="988" y="961"/>
                  <a:pt x="1012" y="913"/>
                </a:cubicBezTo>
                <a:cubicBezTo>
                  <a:pt x="1027" y="884"/>
                  <a:pt x="1031" y="858"/>
                  <a:pt x="1049" y="831"/>
                </a:cubicBezTo>
                <a:cubicBezTo>
                  <a:pt x="1064" y="773"/>
                  <a:pt x="1046" y="829"/>
                  <a:pt x="1079" y="771"/>
                </a:cubicBezTo>
                <a:cubicBezTo>
                  <a:pt x="1096" y="742"/>
                  <a:pt x="1102" y="704"/>
                  <a:pt x="1117" y="674"/>
                </a:cubicBezTo>
                <a:cubicBezTo>
                  <a:pt x="1136" y="572"/>
                  <a:pt x="1158" y="465"/>
                  <a:pt x="1192" y="367"/>
                </a:cubicBezTo>
                <a:cubicBezTo>
                  <a:pt x="1198" y="331"/>
                  <a:pt x="1207" y="299"/>
                  <a:pt x="1214" y="263"/>
                </a:cubicBezTo>
                <a:cubicBezTo>
                  <a:pt x="1212" y="221"/>
                  <a:pt x="1248" y="79"/>
                  <a:pt x="1177" y="53"/>
                </a:cubicBezTo>
                <a:cubicBezTo>
                  <a:pt x="1105" y="56"/>
                  <a:pt x="1000" y="0"/>
                  <a:pt x="960" y="61"/>
                </a:cubicBezTo>
                <a:cubicBezTo>
                  <a:pt x="899" y="155"/>
                  <a:pt x="957" y="285"/>
                  <a:pt x="952" y="397"/>
                </a:cubicBezTo>
                <a:cubicBezTo>
                  <a:pt x="950" y="441"/>
                  <a:pt x="925" y="503"/>
                  <a:pt x="900" y="539"/>
                </a:cubicBezTo>
                <a:cubicBezTo>
                  <a:pt x="881" y="612"/>
                  <a:pt x="864" y="720"/>
                  <a:pt x="832" y="786"/>
                </a:cubicBezTo>
                <a:cubicBezTo>
                  <a:pt x="822" y="807"/>
                  <a:pt x="814" y="834"/>
                  <a:pt x="803" y="854"/>
                </a:cubicBezTo>
                <a:cubicBezTo>
                  <a:pt x="800" y="860"/>
                  <a:pt x="768" y="907"/>
                  <a:pt x="758" y="921"/>
                </a:cubicBezTo>
                <a:cubicBezTo>
                  <a:pt x="740" y="948"/>
                  <a:pt x="734" y="1002"/>
                  <a:pt x="728" y="1033"/>
                </a:cubicBezTo>
                <a:cubicBezTo>
                  <a:pt x="723" y="1107"/>
                  <a:pt x="688" y="1261"/>
                  <a:pt x="678" y="1341"/>
                </a:cubicBezTo>
                <a:cubicBezTo>
                  <a:pt x="668" y="1421"/>
                  <a:pt x="681" y="1436"/>
                  <a:pt x="666" y="1513"/>
                </a:cubicBezTo>
                <a:cubicBezTo>
                  <a:pt x="657" y="1539"/>
                  <a:pt x="598" y="1777"/>
                  <a:pt x="586" y="1801"/>
                </a:cubicBezTo>
                <a:cubicBezTo>
                  <a:pt x="561" y="1851"/>
                  <a:pt x="574" y="1905"/>
                  <a:pt x="526" y="1938"/>
                </a:cubicBezTo>
                <a:cubicBezTo>
                  <a:pt x="508" y="1965"/>
                  <a:pt x="493" y="1988"/>
                  <a:pt x="466" y="2006"/>
                </a:cubicBezTo>
                <a:cubicBezTo>
                  <a:pt x="456" y="2021"/>
                  <a:pt x="449" y="2038"/>
                  <a:pt x="436" y="2051"/>
                </a:cubicBezTo>
                <a:cubicBezTo>
                  <a:pt x="429" y="2058"/>
                  <a:pt x="420" y="2065"/>
                  <a:pt x="414" y="2073"/>
                </a:cubicBezTo>
                <a:cubicBezTo>
                  <a:pt x="387" y="2108"/>
                  <a:pt x="381" y="2132"/>
                  <a:pt x="346" y="2155"/>
                </a:cubicBezTo>
                <a:cubicBezTo>
                  <a:pt x="328" y="2191"/>
                  <a:pt x="302" y="2218"/>
                  <a:pt x="279" y="2252"/>
                </a:cubicBezTo>
                <a:cubicBezTo>
                  <a:pt x="258" y="2283"/>
                  <a:pt x="242" y="2321"/>
                  <a:pt x="212" y="2342"/>
                </a:cubicBezTo>
                <a:cubicBezTo>
                  <a:pt x="192" y="2372"/>
                  <a:pt x="167" y="2405"/>
                  <a:pt x="137" y="2425"/>
                </a:cubicBezTo>
                <a:cubicBezTo>
                  <a:pt x="116" y="2482"/>
                  <a:pt x="67" y="2524"/>
                  <a:pt x="47" y="2582"/>
                </a:cubicBezTo>
                <a:cubicBezTo>
                  <a:pt x="38" y="2647"/>
                  <a:pt x="19" y="2706"/>
                  <a:pt x="2" y="2769"/>
                </a:cubicBezTo>
                <a:cubicBezTo>
                  <a:pt x="5" y="2799"/>
                  <a:pt x="0" y="2830"/>
                  <a:pt x="10" y="2858"/>
                </a:cubicBezTo>
                <a:cubicBezTo>
                  <a:pt x="13" y="2866"/>
                  <a:pt x="73" y="2888"/>
                  <a:pt x="84" y="2888"/>
                </a:cubicBezTo>
                <a:cubicBezTo>
                  <a:pt x="151" y="2886"/>
                  <a:pt x="219" y="2878"/>
                  <a:pt x="286" y="2873"/>
                </a:cubicBezTo>
                <a:close/>
              </a:path>
            </a:pathLst>
          </a:cu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876920" y="388620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809880" y="2273400"/>
            <a:ext cx="1981440" cy="4584600"/>
          </a:xfrm>
          <a:custGeom>
            <a:avLst/>
            <a:gdLst/>
            <a:ahLst/>
            <a:rect l="l" t="t" r="r" b="b"/>
            <a:pathLst>
              <a:path w="1248" h="2888">
                <a:moveTo>
                  <a:pt x="286" y="2873"/>
                </a:moveTo>
                <a:cubicBezTo>
                  <a:pt x="254" y="2826"/>
                  <a:pt x="329" y="2814"/>
                  <a:pt x="310" y="2763"/>
                </a:cubicBezTo>
                <a:cubicBezTo>
                  <a:pt x="339" y="2675"/>
                  <a:pt x="312" y="2650"/>
                  <a:pt x="384" y="2597"/>
                </a:cubicBezTo>
                <a:cubicBezTo>
                  <a:pt x="432" y="2562"/>
                  <a:pt x="477" y="2516"/>
                  <a:pt x="526" y="2484"/>
                </a:cubicBezTo>
                <a:cubicBezTo>
                  <a:pt x="568" y="2425"/>
                  <a:pt x="545" y="2444"/>
                  <a:pt x="586" y="2417"/>
                </a:cubicBezTo>
                <a:cubicBezTo>
                  <a:pt x="599" y="2375"/>
                  <a:pt x="631" y="2344"/>
                  <a:pt x="668" y="2320"/>
                </a:cubicBezTo>
                <a:cubicBezTo>
                  <a:pt x="690" y="2286"/>
                  <a:pt x="710" y="2251"/>
                  <a:pt x="728" y="2215"/>
                </a:cubicBezTo>
                <a:cubicBezTo>
                  <a:pt x="740" y="2163"/>
                  <a:pt x="758" y="2117"/>
                  <a:pt x="788" y="2073"/>
                </a:cubicBezTo>
                <a:cubicBezTo>
                  <a:pt x="802" y="2013"/>
                  <a:pt x="770" y="2050"/>
                  <a:pt x="800" y="1997"/>
                </a:cubicBezTo>
                <a:cubicBezTo>
                  <a:pt x="812" y="1976"/>
                  <a:pt x="820" y="1890"/>
                  <a:pt x="831" y="1868"/>
                </a:cubicBezTo>
                <a:cubicBezTo>
                  <a:pt x="848" y="1779"/>
                  <a:pt x="874" y="1851"/>
                  <a:pt x="874" y="1678"/>
                </a:cubicBezTo>
                <a:cubicBezTo>
                  <a:pt x="874" y="1544"/>
                  <a:pt x="898" y="1303"/>
                  <a:pt x="937" y="1175"/>
                </a:cubicBezTo>
                <a:cubicBezTo>
                  <a:pt x="940" y="1140"/>
                  <a:pt x="939" y="1105"/>
                  <a:pt x="945" y="1071"/>
                </a:cubicBezTo>
                <a:cubicBezTo>
                  <a:pt x="954" y="1017"/>
                  <a:pt x="988" y="961"/>
                  <a:pt x="1012" y="913"/>
                </a:cubicBezTo>
                <a:cubicBezTo>
                  <a:pt x="1027" y="884"/>
                  <a:pt x="1031" y="858"/>
                  <a:pt x="1049" y="831"/>
                </a:cubicBezTo>
                <a:cubicBezTo>
                  <a:pt x="1064" y="773"/>
                  <a:pt x="1046" y="829"/>
                  <a:pt x="1079" y="771"/>
                </a:cubicBezTo>
                <a:cubicBezTo>
                  <a:pt x="1096" y="742"/>
                  <a:pt x="1102" y="704"/>
                  <a:pt x="1117" y="674"/>
                </a:cubicBezTo>
                <a:cubicBezTo>
                  <a:pt x="1136" y="572"/>
                  <a:pt x="1158" y="465"/>
                  <a:pt x="1192" y="367"/>
                </a:cubicBezTo>
                <a:cubicBezTo>
                  <a:pt x="1198" y="331"/>
                  <a:pt x="1207" y="299"/>
                  <a:pt x="1214" y="263"/>
                </a:cubicBezTo>
                <a:cubicBezTo>
                  <a:pt x="1212" y="221"/>
                  <a:pt x="1248" y="79"/>
                  <a:pt x="1177" y="53"/>
                </a:cubicBezTo>
                <a:cubicBezTo>
                  <a:pt x="1105" y="56"/>
                  <a:pt x="1000" y="0"/>
                  <a:pt x="960" y="61"/>
                </a:cubicBezTo>
                <a:cubicBezTo>
                  <a:pt x="899" y="155"/>
                  <a:pt x="957" y="285"/>
                  <a:pt x="952" y="397"/>
                </a:cubicBezTo>
                <a:cubicBezTo>
                  <a:pt x="950" y="441"/>
                  <a:pt x="925" y="503"/>
                  <a:pt x="900" y="539"/>
                </a:cubicBezTo>
                <a:cubicBezTo>
                  <a:pt x="881" y="612"/>
                  <a:pt x="864" y="720"/>
                  <a:pt x="832" y="786"/>
                </a:cubicBezTo>
                <a:cubicBezTo>
                  <a:pt x="822" y="807"/>
                  <a:pt x="814" y="834"/>
                  <a:pt x="803" y="854"/>
                </a:cubicBezTo>
                <a:cubicBezTo>
                  <a:pt x="800" y="860"/>
                  <a:pt x="768" y="907"/>
                  <a:pt x="758" y="921"/>
                </a:cubicBezTo>
                <a:cubicBezTo>
                  <a:pt x="740" y="948"/>
                  <a:pt x="734" y="1002"/>
                  <a:pt x="728" y="1033"/>
                </a:cubicBezTo>
                <a:cubicBezTo>
                  <a:pt x="723" y="1107"/>
                  <a:pt x="688" y="1261"/>
                  <a:pt x="678" y="1341"/>
                </a:cubicBezTo>
                <a:cubicBezTo>
                  <a:pt x="668" y="1421"/>
                  <a:pt x="681" y="1436"/>
                  <a:pt x="666" y="1513"/>
                </a:cubicBezTo>
                <a:cubicBezTo>
                  <a:pt x="657" y="1539"/>
                  <a:pt x="598" y="1777"/>
                  <a:pt x="586" y="1801"/>
                </a:cubicBezTo>
                <a:cubicBezTo>
                  <a:pt x="561" y="1851"/>
                  <a:pt x="574" y="1905"/>
                  <a:pt x="526" y="1938"/>
                </a:cubicBezTo>
                <a:cubicBezTo>
                  <a:pt x="508" y="1965"/>
                  <a:pt x="493" y="1988"/>
                  <a:pt x="466" y="2006"/>
                </a:cubicBezTo>
                <a:cubicBezTo>
                  <a:pt x="456" y="2021"/>
                  <a:pt x="449" y="2038"/>
                  <a:pt x="436" y="2051"/>
                </a:cubicBezTo>
                <a:cubicBezTo>
                  <a:pt x="429" y="2058"/>
                  <a:pt x="420" y="2065"/>
                  <a:pt x="414" y="2073"/>
                </a:cubicBezTo>
                <a:cubicBezTo>
                  <a:pt x="387" y="2108"/>
                  <a:pt x="381" y="2132"/>
                  <a:pt x="346" y="2155"/>
                </a:cubicBezTo>
                <a:cubicBezTo>
                  <a:pt x="328" y="2191"/>
                  <a:pt x="302" y="2218"/>
                  <a:pt x="279" y="2252"/>
                </a:cubicBezTo>
                <a:cubicBezTo>
                  <a:pt x="258" y="2283"/>
                  <a:pt x="242" y="2321"/>
                  <a:pt x="212" y="2342"/>
                </a:cubicBezTo>
                <a:cubicBezTo>
                  <a:pt x="192" y="2372"/>
                  <a:pt x="167" y="2405"/>
                  <a:pt x="137" y="2425"/>
                </a:cubicBezTo>
                <a:cubicBezTo>
                  <a:pt x="116" y="2482"/>
                  <a:pt x="67" y="2524"/>
                  <a:pt x="47" y="2582"/>
                </a:cubicBezTo>
                <a:cubicBezTo>
                  <a:pt x="38" y="2647"/>
                  <a:pt x="19" y="2706"/>
                  <a:pt x="2" y="2769"/>
                </a:cubicBezTo>
                <a:cubicBezTo>
                  <a:pt x="5" y="2799"/>
                  <a:pt x="0" y="2830"/>
                  <a:pt x="10" y="2858"/>
                </a:cubicBezTo>
                <a:cubicBezTo>
                  <a:pt x="13" y="2866"/>
                  <a:pt x="73" y="2888"/>
                  <a:pt x="84" y="2888"/>
                </a:cubicBezTo>
                <a:cubicBezTo>
                  <a:pt x="151" y="2886"/>
                  <a:pt x="219" y="2878"/>
                  <a:pt x="286" y="2873"/>
                </a:cubicBezTo>
                <a:close/>
              </a:path>
            </a:pathLst>
          </a:cu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876920" y="4038480"/>
            <a:ext cx="380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8153280" y="167652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8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1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7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0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3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6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9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2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5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8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1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4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7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0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3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6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9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2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5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8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1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4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7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0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3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6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9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2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8" dur="3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3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4" dur="3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7" dur="3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5" dur="3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8" dur="3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1" dur="3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3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3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5" dur="3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8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1" dur="3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9" dur="5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2" dur="5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5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6500"/>
                            </p:stCondLst>
                            <p:childTnLst>
                              <p:par>
                                <p:cTn id="195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195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196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3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86" dur="20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88" dur="2000" fill="hold"/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90" dur="20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92" dur="20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94" dur="20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96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98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2000" dur="2000" fill="hold"/>
                                        <p:tgtEl>
                                          <p:spTgt spid="8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2002" dur="2000" fill="hold"/>
                                        <p:tgtEl>
                                          <p:spTgt spid="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3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0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3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6" dur="2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9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4" dur="3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3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0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5" dur="3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8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3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w of ______ states that Sediments are deposited in flat horizontal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ock layers are missing in the geologic record we call it an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w of ____  ____   relationships states that A fault line or an igneous intrusion must be younger than the rock it cuts acr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162920" y="2514600"/>
            <a:ext cx="16761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form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cu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165800" y="2209680"/>
            <a:ext cx="1756080" cy="221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1" dur="indefinite" restart="never" nodeType="tmRoot">
          <p:childTnLst>
            <p:seq>
              <p:cTn id="2052" dur="indefinite" nodeType="mainSeq">
                <p:childTnLst>
                  <p:par>
                    <p:cTn id="2053" fill="hold">
                      <p:stCondLst>
                        <p:cond delay="0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0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pic: Absolute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y 3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know how scientists use absolute dating to determine the exact age of r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know the concept of  half life and radioactive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ickwri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2-3 sentences answer one of the questions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shook up 100 pennies in a box, how many do you think would be heads????  How many do you think would be tails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say you have 100 dollars and you can only spend half of it every day.  How much money would you have after 2 days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 rot="16200000">
            <a:off x="7467480" y="22935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ologic Time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 major time eras include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am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eans and atmospher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ozo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brates, plants and fish are the dominant form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ozo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re the dominant form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ozo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mmals are the dominant form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4781520" y="8629560"/>
            <a:ext cx="4152960" cy="1067040"/>
          </a:xfrm>
          <a:prstGeom prst="rect">
            <a:avLst/>
          </a:prstGeom>
          <a:solidFill>
            <a:srgbClr val="80000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cam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 rot="16200000">
            <a:off x="7356600" y="7502400"/>
            <a:ext cx="1247760" cy="1177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 rot="16200000">
            <a:off x="7043760" y="9415080"/>
            <a:ext cx="1476360" cy="933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534520" y="762012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Water and Atmosphe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534520" y="1188720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Plants, fish, and invertebrat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534520" y="16002000"/>
            <a:ext cx="609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Repti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4781520" y="12820680"/>
            <a:ext cx="4152960" cy="1067040"/>
          </a:xfrm>
          <a:prstGeom prst="rect">
            <a:avLst/>
          </a:prstGeom>
          <a:solidFill>
            <a:srgbClr val="80808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le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4781520" y="17011440"/>
            <a:ext cx="4152960" cy="1067040"/>
          </a:xfrm>
          <a:prstGeom prst="rect">
            <a:avLst/>
          </a:prstGeom>
          <a:solidFill>
            <a:srgbClr val="00800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s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4781520" y="21202560"/>
            <a:ext cx="4152960" cy="1067040"/>
          </a:xfrm>
          <a:prstGeom prst="rect">
            <a:avLst/>
          </a:prstGeom>
          <a:solidFill>
            <a:srgbClr val="0066ff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en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 rot="16200000">
            <a:off x="7687440" y="13191120"/>
            <a:ext cx="911160" cy="1198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 rot="17314200">
            <a:off x="7436160" y="12451320"/>
            <a:ext cx="1257480" cy="585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 rot="17623200">
            <a:off x="7329960" y="11567520"/>
            <a:ext cx="1067040" cy="63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 rot="16200000">
            <a:off x="7687080" y="13953240"/>
            <a:ext cx="911520" cy="1198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 rot="16200000">
            <a:off x="7520760" y="15872400"/>
            <a:ext cx="1266840" cy="763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 rot="16200000">
            <a:off x="7057080" y="16793280"/>
            <a:ext cx="1819440" cy="1455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 rot="16200000">
            <a:off x="7532640" y="18146520"/>
            <a:ext cx="1131840" cy="1414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534520" y="19964520"/>
            <a:ext cx="609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Mamma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1"/>
          <a:stretch/>
        </p:blipFill>
        <p:spPr>
          <a:xfrm rot="16200000">
            <a:off x="7195320" y="19898640"/>
            <a:ext cx="1828800" cy="1046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2"/>
          <a:stretch/>
        </p:blipFill>
        <p:spPr>
          <a:xfrm rot="16200000">
            <a:off x="7275240" y="21327840"/>
            <a:ext cx="1524240" cy="1235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3"/>
          <a:stretch/>
        </p:blipFill>
        <p:spPr>
          <a:xfrm rot="16200000">
            <a:off x="7562880" y="22155120"/>
            <a:ext cx="1047600" cy="1238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4"/>
          <a:srcRect l="0" t="0" r="46250" b="0"/>
          <a:stretch/>
        </p:blipFill>
        <p:spPr>
          <a:xfrm>
            <a:off x="6041880" y="914400"/>
            <a:ext cx="272124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6" dur="35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" dur="3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" dur="35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2" dur="3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4" dur="3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6" dur="35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8" dur="35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30" dur="35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32" dur="3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34" dur="3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36" dur="35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38" dur="3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40" dur="35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42" dur="3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44" dur="35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46" dur="35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48" dur="3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50" dur="3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52" dur="3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54" dur="35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56" dur="3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8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-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Absolute 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know the earth is 4.6 billion years o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know when dinosaurs went extin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answer those questions by using Absolute 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Absolute Dating is a method used by geologists to determine the exact age of a rock or fos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analyzing the properties of atoms in rocks and fossils we can get a really accurate date for when the rock or fossil form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 rot="16200000">
            <a:off x="7467480" y="22935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940" name=""/>
          <p:cNvSpPr/>
          <p:nvPr/>
        </p:nvSpPr>
        <p:spPr>
          <a:xfrm rot="16200000">
            <a:off x="4781520" y="8629560"/>
            <a:ext cx="4152960" cy="1067040"/>
          </a:xfrm>
          <a:prstGeom prst="rect">
            <a:avLst/>
          </a:prstGeom>
          <a:solidFill>
            <a:srgbClr val="80000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cam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2"/>
          <a:stretch/>
        </p:blipFill>
        <p:spPr>
          <a:xfrm rot="16200000">
            <a:off x="7356600" y="7502400"/>
            <a:ext cx="1247760" cy="117792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 rot="16200000">
            <a:off x="7043760" y="9415080"/>
            <a:ext cx="1476360" cy="93348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8534520" y="762012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Water and Atmosphe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534520" y="1188720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Plants, fish, and invertebrat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8534520" y="16002000"/>
            <a:ext cx="609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Repti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rot="16200000">
            <a:off x="4781520" y="12820680"/>
            <a:ext cx="4152960" cy="1067040"/>
          </a:xfrm>
          <a:prstGeom prst="rect">
            <a:avLst/>
          </a:prstGeom>
          <a:solidFill>
            <a:srgbClr val="80808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le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rot="16200000">
            <a:off x="4781520" y="17011440"/>
            <a:ext cx="4152960" cy="1067040"/>
          </a:xfrm>
          <a:prstGeom prst="rect">
            <a:avLst/>
          </a:prstGeom>
          <a:solidFill>
            <a:srgbClr val="00800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s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rot="16200000">
            <a:off x="4781520" y="21202560"/>
            <a:ext cx="4152960" cy="1067040"/>
          </a:xfrm>
          <a:prstGeom prst="rect">
            <a:avLst/>
          </a:prstGeom>
          <a:solidFill>
            <a:srgbClr val="0066ff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en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4"/>
          <a:stretch/>
        </p:blipFill>
        <p:spPr>
          <a:xfrm rot="16200000">
            <a:off x="7687440" y="13191120"/>
            <a:ext cx="911160" cy="119844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5"/>
          <a:stretch/>
        </p:blipFill>
        <p:spPr>
          <a:xfrm rot="17314200">
            <a:off x="7436160" y="12451320"/>
            <a:ext cx="1257480" cy="585720"/>
          </a:xfrm>
          <a:prstGeom prst="rect">
            <a:avLst/>
          </a:prstGeom>
          <a:ln w="0">
            <a:noFill/>
          </a:ln>
        </p:spPr>
      </p:pic>
      <p:pic>
        <p:nvPicPr>
          <p:cNvPr id="951" name="" descr=""/>
          <p:cNvPicPr/>
          <p:nvPr/>
        </p:nvPicPr>
        <p:blipFill>
          <a:blip r:embed="rId6"/>
          <a:stretch/>
        </p:blipFill>
        <p:spPr>
          <a:xfrm rot="17623200">
            <a:off x="7329960" y="11567520"/>
            <a:ext cx="1067040" cy="63972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7"/>
          <a:stretch/>
        </p:blipFill>
        <p:spPr>
          <a:xfrm rot="16200000">
            <a:off x="7687080" y="13953240"/>
            <a:ext cx="911520" cy="119844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8"/>
          <a:stretch/>
        </p:blipFill>
        <p:spPr>
          <a:xfrm rot="16200000">
            <a:off x="7520760" y="15872400"/>
            <a:ext cx="1266840" cy="76356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9"/>
          <a:stretch/>
        </p:blipFill>
        <p:spPr>
          <a:xfrm rot="16200000">
            <a:off x="7057080" y="16793280"/>
            <a:ext cx="1819440" cy="145584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10"/>
          <a:stretch/>
        </p:blipFill>
        <p:spPr>
          <a:xfrm rot="16200000">
            <a:off x="7532640" y="18146520"/>
            <a:ext cx="1131840" cy="141444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8534520" y="19964520"/>
            <a:ext cx="609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Mamma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1"/>
          <a:stretch/>
        </p:blipFill>
        <p:spPr>
          <a:xfrm rot="16200000">
            <a:off x="7195320" y="19898640"/>
            <a:ext cx="1828800" cy="104616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/>
          <p:cNvPicPr/>
          <p:nvPr/>
        </p:nvPicPr>
        <p:blipFill>
          <a:blip r:embed="rId12"/>
          <a:stretch/>
        </p:blipFill>
        <p:spPr>
          <a:xfrm rot="16200000">
            <a:off x="7275240" y="21327840"/>
            <a:ext cx="1524240" cy="123516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13"/>
          <a:stretch/>
        </p:blipFill>
        <p:spPr>
          <a:xfrm rot="16200000">
            <a:off x="7562880" y="22155120"/>
            <a:ext cx="1047600" cy="12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0" dur="indefinite" restart="never" nodeType="tmRoot">
          <p:childTnLst>
            <p:seq>
              <p:cTn id="2061" dur="indefinite" nodeType="mainSeq">
                <p:childTnLst>
                  <p:par>
                    <p:cTn id="2062" fill="hold">
                      <p:stCondLst>
                        <p:cond delay="0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after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65" dur="35000" fill="hold"/>
                                        <p:tgtEl>
                                          <p:spTgt spid="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67" dur="35000" fill="hold"/>
                                        <p:tgtEl>
                                          <p:spTgt spid="9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69" dur="35000" fill="hold"/>
                                        <p:tgtEl>
                                          <p:spTgt spid="9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71" dur="35000" fill="hold"/>
                                        <p:tgtEl>
                                          <p:spTgt spid="9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73" dur="35000" fill="hold"/>
                                        <p:tgtEl>
                                          <p:spTgt spid="9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75" dur="35000" fill="hold"/>
                                        <p:tgtEl>
                                          <p:spTgt spid="9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77" dur="35000" fill="hold"/>
                                        <p:tgtEl>
                                          <p:spTgt spid="9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79" dur="35000" fill="hold"/>
                                        <p:tgtEl>
                                          <p:spTgt spid="9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81" dur="350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83" dur="35000" fill="hold"/>
                                        <p:tgtEl>
                                          <p:spTgt spid="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85" dur="35000" fill="hold"/>
                                        <p:tgtEl>
                                          <p:spTgt spid="9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87" dur="35000" fill="hold"/>
                                        <p:tgtEl>
                                          <p:spTgt spid="9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89" dur="35000" fill="hold"/>
                                        <p:tgtEl>
                                          <p:spTgt spid="9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91" dur="35000" fill="hold"/>
                                        <p:tgtEl>
                                          <p:spTgt spid="9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93" dur="35000" fill="hold"/>
                                        <p:tgtEl>
                                          <p:spTgt spid="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95" dur="35000" fill="hold"/>
                                        <p:tgtEl>
                                          <p:spTgt spid="9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97" dur="35000" fill="hold"/>
                                        <p:tgtEl>
                                          <p:spTgt spid="9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099" dur="35000" fill="hold"/>
                                        <p:tgtEl>
                                          <p:spTgt spid="9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101" dur="35000" fill="hold"/>
                                        <p:tgtEl>
                                          <p:spTgt spid="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103" dur="35000" fill="hold"/>
                                        <p:tgtEl>
                                          <p:spTgt spid="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2105" dur="35000" fill="hold"/>
                                        <p:tgtEl>
                                          <p:spTgt spid="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bsolute D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6629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Absolute Dating is a method used by geologists to determine the exact _____ of a rock or fos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Different from relative dating because it gives an exact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315200" y="1981080"/>
            <a:ext cx="1600200" cy="2210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162920" y="2057400"/>
            <a:ext cx="1676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6" dur="indefinite" restart="never" nodeType="tmRoot">
          <p:childTnLst>
            <p:seq>
              <p:cTn id="2107" dur="indefinite" nodeType="mainSeq">
                <p:childTnLst>
                  <p:par>
                    <p:cTn id="2108" fill="hold">
                      <p:stCondLst>
                        <p:cond delay="0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2" dur="2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dioactive Dec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Radioactive Decay: The decay of one element into another element,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would be whe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ran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omes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anium is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erial and lead is the what we call 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augh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0880" y="37339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r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010280" y="3809880"/>
            <a:ext cx="137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52280" y="4724280"/>
            <a:ext cx="1981440" cy="19814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n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52280" y="4191120"/>
            <a:ext cx="3124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ent Material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unstable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67280" y="4191120"/>
            <a:ext cx="3124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aughter Material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(st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553080" y="4724280"/>
            <a:ext cx="1981440" cy="19814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6" dur="indefinite" restart="never" nodeType="tmRoot">
          <p:childTnLst>
            <p:seq>
              <p:cTn id="2117" dur="indefinite" nodeType="mainSeq">
                <p:childTnLst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2" dur="250" autoRev="1" fill="hold"/>
                                        <p:tgtEl>
                                          <p:spTgt spid="9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5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126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7 -3.33333E-006 E">
                                      <p:cBhvr>
                                        <p:cTn id="2128" dur="2000" fill="hold"/>
                                        <p:tgtEl>
                                          <p:spTgt spid="9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2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Radioactive Dec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6934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3300"/>
                </a:solidFill>
                <a:latin typeface="Arial"/>
              </a:rPr>
              <a:t>The decay of one element into another 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3300"/>
                </a:solidFill>
                <a:latin typeface="Arial"/>
              </a:rPr>
              <a:t>Ex.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Uranium</a:t>
            </a:r>
            <a:r>
              <a:rPr b="0" lang="en-US" sz="3000" spc="-1" strike="noStrike">
                <a:solidFill>
                  <a:srgbClr val="663300"/>
                </a:solidFill>
                <a:latin typeface="Arial"/>
              </a:rPr>
              <a:t>, the unstable parent material decays into the stable daughter product 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L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467480" y="1295280"/>
            <a:ext cx="1600200" cy="2210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391520" y="1371600"/>
            <a:ext cx="1676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80880" y="37339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r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010280" y="3809880"/>
            <a:ext cx="137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52280" y="4724280"/>
            <a:ext cx="1981440" cy="19814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n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52280" y="4191120"/>
            <a:ext cx="3124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ent Material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unstable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867280" y="4191120"/>
            <a:ext cx="3124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aughter Material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(st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553080" y="4724280"/>
            <a:ext cx="1981440" cy="19814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3" dur="indefinite" restart="never" nodeType="tmRoot">
          <p:childTnLst>
            <p:seq>
              <p:cTn id="2134" dur="indefinite" nodeType="mainSeq">
                <p:childTnLst>
                  <p:par>
                    <p:cTn id="2135" fill="hold">
                      <p:stCondLst>
                        <p:cond delay="0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6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7" dur="250" autoRev="1" fill="hold"/>
                                        <p:tgtEl>
                                          <p:spTgt spid="9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0" dur="2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151" dur="2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7 -3.33333E-006 E">
                                      <p:cBhvr>
                                        <p:cTn id="2153" dur="2000" fill="hold"/>
                                        <p:tgtEl>
                                          <p:spTgt spid="9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Picture 16" descr="granit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62520" y="4635360"/>
            <a:ext cx="2666880" cy="222264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6095880" y="1066680"/>
            <a:ext cx="2451240" cy="245124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6934320" y="3733920"/>
            <a:ext cx="1523880" cy="15238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9246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72388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70102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6960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6960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0102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2388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74674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388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9246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674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72388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960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6960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2388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4674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4674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0102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2388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4674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6960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79246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6960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4674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9246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246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9246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7315200" y="1447920"/>
            <a:ext cx="14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7315200" y="1523880"/>
            <a:ext cx="360360" cy="750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7315200" y="1828800"/>
            <a:ext cx="762120" cy="42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7315200" y="22860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7315200" y="2286000"/>
            <a:ext cx="7621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7162920" y="990720"/>
            <a:ext cx="1365120" cy="1888920"/>
          </a:xfrm>
          <a:custGeom>
            <a:avLst/>
            <a:gdLst/>
            <a:ahLst/>
            <a:rect l="l" t="t" r="r" b="b"/>
            <a:pathLst>
              <a:path w="860" h="1190">
                <a:moveTo>
                  <a:pt x="82" y="768"/>
                </a:moveTo>
                <a:cubicBezTo>
                  <a:pt x="76" y="651"/>
                  <a:pt x="54" y="234"/>
                  <a:pt x="50" y="117"/>
                </a:cubicBezTo>
                <a:cubicBezTo>
                  <a:pt x="46" y="0"/>
                  <a:pt x="0" y="64"/>
                  <a:pt x="57" y="67"/>
                </a:cubicBezTo>
                <a:cubicBezTo>
                  <a:pt x="114" y="70"/>
                  <a:pt x="281" y="86"/>
                  <a:pt x="390" y="136"/>
                </a:cubicBezTo>
                <a:cubicBezTo>
                  <a:pt x="499" y="186"/>
                  <a:pt x="638" y="274"/>
                  <a:pt x="713" y="370"/>
                </a:cubicBezTo>
                <a:cubicBezTo>
                  <a:pt x="788" y="466"/>
                  <a:pt x="822" y="612"/>
                  <a:pt x="841" y="713"/>
                </a:cubicBezTo>
                <a:cubicBezTo>
                  <a:pt x="860" y="814"/>
                  <a:pt x="844" y="897"/>
                  <a:pt x="826" y="976"/>
                </a:cubicBezTo>
                <a:cubicBezTo>
                  <a:pt x="809" y="1055"/>
                  <a:pt x="804" y="1184"/>
                  <a:pt x="739" y="1187"/>
                </a:cubicBezTo>
                <a:cubicBezTo>
                  <a:pt x="674" y="1190"/>
                  <a:pt x="550" y="1055"/>
                  <a:pt x="440" y="994"/>
                </a:cubicBezTo>
                <a:cubicBezTo>
                  <a:pt x="330" y="933"/>
                  <a:pt x="141" y="859"/>
                  <a:pt x="82" y="822"/>
                </a:cubicBezTo>
                <a:cubicBezTo>
                  <a:pt x="22" y="785"/>
                  <a:pt x="82" y="885"/>
                  <a:pt x="82" y="768"/>
                </a:cubicBezTo>
                <a:close/>
              </a:path>
            </a:pathLst>
          </a:custGeom>
          <a:solidFill>
            <a:srgbClr val="3399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81532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81532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1532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81532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1532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81532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52280" y="838080"/>
            <a:ext cx="4267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alf life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is the time it takes for half of the of the parent material to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suppose I have a rock sample that has 100 atom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ran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lf-Life of Uranium is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4.5 billion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after 4.5 billion years (1 half life) half of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ran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have decayed into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after 1 half life, you are left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0% Uran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0%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lf-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5791320" y="3733920"/>
            <a:ext cx="1143000" cy="175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5867280" y="5257440"/>
            <a:ext cx="10670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5791320" y="5257440"/>
            <a:ext cx="26668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010280" y="16002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1 hal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= 4.5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72428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952880" y="2286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Ur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724280" y="3200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029200" y="31240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029200" y="4038480"/>
            <a:ext cx="1752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 at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f Ura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50 a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of 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8" dur="indefinite" restart="never" nodeType="tmRoot">
          <p:childTnLst>
            <p:seq>
              <p:cTn id="2159" dur="indefinite" nodeType="mainSeq">
                <p:childTnLst>
                  <p:par>
                    <p:cTn id="2160" fill="hold">
                      <p:stCondLst>
                        <p:cond delay="0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5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9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179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1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182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500"/>
                            </p:stCondLst>
                            <p:childTnLst>
                              <p:par>
                                <p:cTn id="218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18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19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3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194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9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0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0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0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1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12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7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18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0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21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6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27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3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3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3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42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4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45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4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3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6" descr="granit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114800" y="4635360"/>
            <a:ext cx="2666880" cy="222264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6095880" y="1066680"/>
            <a:ext cx="2451240" cy="245124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6934320" y="3733920"/>
            <a:ext cx="1523880" cy="15238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9246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2388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0102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6960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70102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72388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74674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72388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74674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72388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70102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6960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70102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2388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4674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0102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74674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0102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2388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4674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9246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6960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4674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9246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162920" y="990720"/>
            <a:ext cx="1334880" cy="1888920"/>
          </a:xfrm>
          <a:custGeom>
            <a:avLst/>
            <a:gdLst/>
            <a:ahLst/>
            <a:rect l="l" t="t" r="r" b="b"/>
            <a:pathLst>
              <a:path w="841" h="1190">
                <a:moveTo>
                  <a:pt x="95" y="768"/>
                </a:moveTo>
                <a:cubicBezTo>
                  <a:pt x="90" y="651"/>
                  <a:pt x="68" y="234"/>
                  <a:pt x="64" y="117"/>
                </a:cubicBezTo>
                <a:cubicBezTo>
                  <a:pt x="60" y="0"/>
                  <a:pt x="0" y="58"/>
                  <a:pt x="71" y="67"/>
                </a:cubicBezTo>
                <a:cubicBezTo>
                  <a:pt x="142" y="76"/>
                  <a:pt x="375" y="99"/>
                  <a:pt x="493" y="171"/>
                </a:cubicBezTo>
                <a:cubicBezTo>
                  <a:pt x="611" y="243"/>
                  <a:pt x="720" y="406"/>
                  <a:pt x="777" y="496"/>
                </a:cubicBezTo>
                <a:cubicBezTo>
                  <a:pt x="834" y="587"/>
                  <a:pt x="827" y="633"/>
                  <a:pt x="834" y="713"/>
                </a:cubicBezTo>
                <a:cubicBezTo>
                  <a:pt x="841" y="794"/>
                  <a:pt x="837" y="897"/>
                  <a:pt x="820" y="976"/>
                </a:cubicBezTo>
                <a:cubicBezTo>
                  <a:pt x="803" y="1055"/>
                  <a:pt x="798" y="1184"/>
                  <a:pt x="735" y="1187"/>
                </a:cubicBezTo>
                <a:cubicBezTo>
                  <a:pt x="672" y="1190"/>
                  <a:pt x="538" y="1055"/>
                  <a:pt x="444" y="994"/>
                </a:cubicBezTo>
                <a:cubicBezTo>
                  <a:pt x="350" y="933"/>
                  <a:pt x="227" y="858"/>
                  <a:pt x="169" y="820"/>
                </a:cubicBezTo>
                <a:cubicBezTo>
                  <a:pt x="111" y="782"/>
                  <a:pt x="110" y="779"/>
                  <a:pt x="95" y="768"/>
                </a:cubicBezTo>
                <a:close/>
              </a:path>
            </a:pathLst>
          </a:custGeom>
          <a:solidFill>
            <a:srgbClr val="3399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81532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81532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81532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52280" y="838080"/>
            <a:ext cx="4267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ow much Lead and Uranium is left after another 4.5 billion year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2 half lives)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?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find out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lf-Life of Uranium is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4.5 billion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after another 4.5 billion years (2 half lives) half of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ran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have decayed into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after 2 half lives, you are left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5% Uran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5%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lf-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5791320" y="3733920"/>
            <a:ext cx="1143000" cy="175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5867280" y="5257440"/>
            <a:ext cx="10670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5791320" y="5257440"/>
            <a:ext cx="26668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572000" y="2362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800600" y="22096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Ur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72000" y="3200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800600" y="30481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7315200" y="2286000"/>
            <a:ext cx="7621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7315200" y="2274840"/>
            <a:ext cx="457200" cy="77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7315200" y="2254320"/>
            <a:ext cx="0" cy="793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6934320" y="2287440"/>
            <a:ext cx="380880" cy="68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6552720" y="22860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248520" y="2197080"/>
            <a:ext cx="2203200" cy="1308240"/>
          </a:xfrm>
          <a:custGeom>
            <a:avLst/>
            <a:gdLst/>
            <a:ahLst/>
            <a:rect l="l" t="t" r="r" b="b"/>
            <a:pathLst>
              <a:path w="1388" h="824">
                <a:moveTo>
                  <a:pt x="710" y="70"/>
                </a:moveTo>
                <a:cubicBezTo>
                  <a:pt x="814" y="135"/>
                  <a:pt x="1184" y="363"/>
                  <a:pt x="1285" y="428"/>
                </a:cubicBezTo>
                <a:cubicBezTo>
                  <a:pt x="1388" y="494"/>
                  <a:pt x="1375" y="409"/>
                  <a:pt x="1324" y="464"/>
                </a:cubicBezTo>
                <a:cubicBezTo>
                  <a:pt x="1274" y="520"/>
                  <a:pt x="1116" y="706"/>
                  <a:pt x="984" y="766"/>
                </a:cubicBezTo>
                <a:cubicBezTo>
                  <a:pt x="852" y="824"/>
                  <a:pt x="649" y="822"/>
                  <a:pt x="537" y="818"/>
                </a:cubicBezTo>
                <a:cubicBezTo>
                  <a:pt x="425" y="813"/>
                  <a:pt x="390" y="779"/>
                  <a:pt x="317" y="739"/>
                </a:cubicBezTo>
                <a:cubicBezTo>
                  <a:pt x="244" y="697"/>
                  <a:pt x="148" y="613"/>
                  <a:pt x="101" y="571"/>
                </a:cubicBezTo>
                <a:cubicBezTo>
                  <a:pt x="54" y="529"/>
                  <a:pt x="0" y="540"/>
                  <a:pt x="36" y="489"/>
                </a:cubicBezTo>
                <a:cubicBezTo>
                  <a:pt x="72" y="438"/>
                  <a:pt x="215" y="337"/>
                  <a:pt x="320" y="262"/>
                </a:cubicBezTo>
                <a:cubicBezTo>
                  <a:pt x="425" y="187"/>
                  <a:pt x="599" y="70"/>
                  <a:pt x="664" y="38"/>
                </a:cubicBezTo>
                <a:cubicBezTo>
                  <a:pt x="729" y="6"/>
                  <a:pt x="610" y="0"/>
                  <a:pt x="710" y="70"/>
                </a:cubicBezTo>
                <a:close/>
              </a:path>
            </a:pathLst>
          </a:custGeom>
          <a:solidFill>
            <a:srgbClr val="9966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9246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76960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6960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9246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6960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9246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1532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1532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81532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629400" y="2819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econd half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= 4.5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029200" y="4038480"/>
            <a:ext cx="1752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5% Ur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75% 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9" dur="indefinite" restart="never" nodeType="tmRoot">
          <p:childTnLst>
            <p:seq>
              <p:cTn id="2260" dur="indefinite" nodeType="mainSeq">
                <p:childTnLst>
                  <p:par>
                    <p:cTn id="2261" fill="hold">
                      <p:stCondLst>
                        <p:cond delay="0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6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0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9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80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83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28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8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89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1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92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29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0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30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9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310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5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31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319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7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2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Picture 16" descr="granit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62520" y="4635360"/>
            <a:ext cx="2666880" cy="222264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095880" y="1066680"/>
            <a:ext cx="2451240" cy="2451240"/>
          </a:xfrm>
          <a:prstGeom prst="rect">
            <a:avLst/>
          </a:prstGeom>
          <a:ln w="0">
            <a:noFill/>
          </a:ln>
        </p:spPr>
      </p:pic>
      <p:sp>
        <p:nvSpPr>
          <p:cNvPr id="1097" name=""/>
          <p:cNvSpPr/>
          <p:nvPr/>
        </p:nvSpPr>
        <p:spPr>
          <a:xfrm>
            <a:off x="6934320" y="3733920"/>
            <a:ext cx="1523880" cy="15238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9246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2388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0102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76960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0102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2388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2388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4674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70102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6960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2388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0102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0102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2388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74674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79246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6960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4674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9246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7162920" y="990720"/>
            <a:ext cx="1334880" cy="1888920"/>
          </a:xfrm>
          <a:custGeom>
            <a:avLst/>
            <a:gdLst/>
            <a:ahLst/>
            <a:rect l="l" t="t" r="r" b="b"/>
            <a:pathLst>
              <a:path w="841" h="1190">
                <a:moveTo>
                  <a:pt x="95" y="768"/>
                </a:moveTo>
                <a:cubicBezTo>
                  <a:pt x="90" y="651"/>
                  <a:pt x="68" y="234"/>
                  <a:pt x="64" y="117"/>
                </a:cubicBezTo>
                <a:cubicBezTo>
                  <a:pt x="60" y="0"/>
                  <a:pt x="0" y="58"/>
                  <a:pt x="71" y="67"/>
                </a:cubicBezTo>
                <a:cubicBezTo>
                  <a:pt x="142" y="76"/>
                  <a:pt x="375" y="99"/>
                  <a:pt x="493" y="171"/>
                </a:cubicBezTo>
                <a:cubicBezTo>
                  <a:pt x="611" y="243"/>
                  <a:pt x="720" y="406"/>
                  <a:pt x="777" y="496"/>
                </a:cubicBezTo>
                <a:cubicBezTo>
                  <a:pt x="834" y="587"/>
                  <a:pt x="827" y="633"/>
                  <a:pt x="834" y="713"/>
                </a:cubicBezTo>
                <a:cubicBezTo>
                  <a:pt x="841" y="794"/>
                  <a:pt x="837" y="897"/>
                  <a:pt x="820" y="976"/>
                </a:cubicBezTo>
                <a:cubicBezTo>
                  <a:pt x="803" y="1055"/>
                  <a:pt x="798" y="1184"/>
                  <a:pt x="735" y="1187"/>
                </a:cubicBezTo>
                <a:cubicBezTo>
                  <a:pt x="672" y="1190"/>
                  <a:pt x="538" y="1054"/>
                  <a:pt x="444" y="994"/>
                </a:cubicBezTo>
                <a:cubicBezTo>
                  <a:pt x="350" y="934"/>
                  <a:pt x="227" y="866"/>
                  <a:pt x="169" y="828"/>
                </a:cubicBezTo>
                <a:cubicBezTo>
                  <a:pt x="111" y="790"/>
                  <a:pt x="110" y="780"/>
                  <a:pt x="95" y="768"/>
                </a:cubicBezTo>
                <a:close/>
              </a:path>
            </a:pathLst>
          </a:custGeom>
          <a:solidFill>
            <a:srgbClr val="3399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153280" y="4495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8153280" y="4724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8153280" y="4952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1066680"/>
            <a:ext cx="3886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ow much Lead and Uranium is left after another 4.5 billion year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3 half lives)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?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find out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after another 4.5 billion year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 half liv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lf of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ran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decay into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after 3 half lives, you are left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.5% Uran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87.5%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lf-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5791320" y="3733920"/>
            <a:ext cx="1143000" cy="175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5867280" y="5257440"/>
            <a:ext cx="10670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5791320" y="5257440"/>
            <a:ext cx="26668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72428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952880" y="2286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Ur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724280" y="3200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029200" y="31240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6552720" y="22860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6477120" y="2274840"/>
            <a:ext cx="83808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 flipV="1">
            <a:off x="6552720" y="1905120"/>
            <a:ext cx="762120" cy="34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6934320" y="1599840"/>
            <a:ext cx="380880" cy="687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7315200" y="14479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6078600" y="977760"/>
            <a:ext cx="1334880" cy="2001960"/>
          </a:xfrm>
          <a:custGeom>
            <a:avLst/>
            <a:gdLst/>
            <a:ahLst/>
            <a:rect l="l" t="t" r="r" b="b"/>
            <a:pathLst>
              <a:path w="841" h="1261">
                <a:moveTo>
                  <a:pt x="435" y="1023"/>
                </a:moveTo>
                <a:cubicBezTo>
                  <a:pt x="330" y="1082"/>
                  <a:pt x="213" y="1146"/>
                  <a:pt x="159" y="1173"/>
                </a:cubicBezTo>
                <a:cubicBezTo>
                  <a:pt x="104" y="1201"/>
                  <a:pt x="131" y="1261"/>
                  <a:pt x="108" y="1190"/>
                </a:cubicBezTo>
                <a:cubicBezTo>
                  <a:pt x="84" y="1118"/>
                  <a:pt x="0" y="889"/>
                  <a:pt x="14" y="745"/>
                </a:cubicBezTo>
                <a:cubicBezTo>
                  <a:pt x="28" y="601"/>
                  <a:pt x="130" y="426"/>
                  <a:pt x="189" y="330"/>
                </a:cubicBezTo>
                <a:cubicBezTo>
                  <a:pt x="249" y="236"/>
                  <a:pt x="296" y="222"/>
                  <a:pt x="367" y="178"/>
                </a:cubicBezTo>
                <a:cubicBezTo>
                  <a:pt x="439" y="135"/>
                  <a:pt x="559" y="93"/>
                  <a:pt x="619" y="73"/>
                </a:cubicBezTo>
                <a:cubicBezTo>
                  <a:pt x="679" y="53"/>
                  <a:pt x="703" y="0"/>
                  <a:pt x="730" y="57"/>
                </a:cubicBezTo>
                <a:cubicBezTo>
                  <a:pt x="757" y="114"/>
                  <a:pt x="771" y="290"/>
                  <a:pt x="780" y="417"/>
                </a:cubicBezTo>
                <a:cubicBezTo>
                  <a:pt x="789" y="544"/>
                  <a:pt x="841" y="719"/>
                  <a:pt x="784" y="820"/>
                </a:cubicBezTo>
                <a:cubicBezTo>
                  <a:pt x="727" y="921"/>
                  <a:pt x="540" y="964"/>
                  <a:pt x="435" y="1023"/>
                </a:cubicBezTo>
                <a:close/>
              </a:path>
            </a:pathLst>
          </a:custGeom>
          <a:solidFill>
            <a:srgbClr val="6600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7924680" y="3809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7696080" y="40384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7696080" y="3809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7924680" y="40384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7696080" y="42670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924680" y="42670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8153280" y="3809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8153280" y="40384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8153280" y="42670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7467480" y="1752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1st Half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= 4.5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952880" y="4038480"/>
            <a:ext cx="175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.5% Ur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87.5%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248520" y="2278080"/>
            <a:ext cx="2182680" cy="1222200"/>
          </a:xfrm>
          <a:custGeom>
            <a:avLst/>
            <a:gdLst/>
            <a:ahLst/>
            <a:rect l="l" t="t" r="r" b="b"/>
            <a:pathLst>
              <a:path w="1375" h="770">
                <a:moveTo>
                  <a:pt x="1013" y="179"/>
                </a:moveTo>
                <a:cubicBezTo>
                  <a:pt x="1116" y="241"/>
                  <a:pt x="1233" y="335"/>
                  <a:pt x="1285" y="374"/>
                </a:cubicBezTo>
                <a:cubicBezTo>
                  <a:pt x="1337" y="413"/>
                  <a:pt x="1375" y="355"/>
                  <a:pt x="1324" y="410"/>
                </a:cubicBezTo>
                <a:cubicBezTo>
                  <a:pt x="1274" y="466"/>
                  <a:pt x="1116" y="652"/>
                  <a:pt x="984" y="712"/>
                </a:cubicBezTo>
                <a:cubicBezTo>
                  <a:pt x="852" y="770"/>
                  <a:pt x="649" y="768"/>
                  <a:pt x="537" y="764"/>
                </a:cubicBezTo>
                <a:cubicBezTo>
                  <a:pt x="425" y="759"/>
                  <a:pt x="390" y="725"/>
                  <a:pt x="317" y="685"/>
                </a:cubicBezTo>
                <a:cubicBezTo>
                  <a:pt x="244" y="643"/>
                  <a:pt x="148" y="559"/>
                  <a:pt x="101" y="517"/>
                </a:cubicBezTo>
                <a:cubicBezTo>
                  <a:pt x="54" y="475"/>
                  <a:pt x="0" y="486"/>
                  <a:pt x="36" y="435"/>
                </a:cubicBezTo>
                <a:cubicBezTo>
                  <a:pt x="72" y="384"/>
                  <a:pt x="215" y="280"/>
                  <a:pt x="320" y="208"/>
                </a:cubicBezTo>
                <a:cubicBezTo>
                  <a:pt x="425" y="136"/>
                  <a:pt x="554" y="10"/>
                  <a:pt x="669" y="5"/>
                </a:cubicBezTo>
                <a:cubicBezTo>
                  <a:pt x="784" y="0"/>
                  <a:pt x="910" y="117"/>
                  <a:pt x="1013" y="179"/>
                </a:cubicBezTo>
                <a:close/>
              </a:path>
            </a:pathLst>
          </a:custGeom>
          <a:solidFill>
            <a:srgbClr val="9966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553080" y="2895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2nd Half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= 4.5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70102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72388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74674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74674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74674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257800" y="1676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3rd Half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= 4.5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3" dur="indefinite" restart="never" nodeType="tmRoot">
          <p:childTnLst>
            <p:seq>
              <p:cTn id="2334" dur="indefinite" nodeType="mainSeq">
                <p:childTnLst>
                  <p:par>
                    <p:cTn id="2335" fill="hold">
                      <p:stCondLst>
                        <p:cond delay="0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0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4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3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354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500"/>
                            </p:stCondLst>
                            <p:childTnLst>
                              <p:par>
                                <p:cTn id="2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2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363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8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369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4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375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0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381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fill="hold">
                            <p:stCondLst>
                              <p:cond delay="5500"/>
                            </p:stCondLst>
                            <p:childTnLst>
                              <p:par>
                                <p:cTn id="2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9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8500"/>
                            </p:stCondLst>
                            <p:childTnLst>
                              <p:par>
                                <p:cTn id="2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4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is Half lif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Half life is the time it takes for half of the of the parent material to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Ex. Uranium has a half life of 4.5 billion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886200" y="1219320"/>
            <a:ext cx="1600200" cy="220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886200" y="1447920"/>
            <a:ext cx="1523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9" name="Picture 16" descr="granit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62520" y="4635360"/>
            <a:ext cx="2666880" cy="2222640"/>
          </a:xfrm>
          <a:prstGeom prst="rect">
            <a:avLst/>
          </a:prstGeom>
          <a:ln w="0">
            <a:noFill/>
          </a:ln>
        </p:spPr>
      </p:pic>
      <p:pic>
        <p:nvPicPr>
          <p:cNvPr id="1160" name="" descr=""/>
          <p:cNvPicPr/>
          <p:nvPr/>
        </p:nvPicPr>
        <p:blipFill>
          <a:blip r:embed="rId2"/>
          <a:stretch/>
        </p:blipFill>
        <p:spPr>
          <a:xfrm>
            <a:off x="6095880" y="1066680"/>
            <a:ext cx="2451240" cy="2451240"/>
          </a:xfrm>
          <a:prstGeom prst="rect">
            <a:avLst/>
          </a:prstGeom>
          <a:ln w="0">
            <a:noFill/>
          </a:ln>
        </p:spPr>
      </p:pic>
      <p:sp>
        <p:nvSpPr>
          <p:cNvPr id="1161" name=""/>
          <p:cNvSpPr/>
          <p:nvPr/>
        </p:nvSpPr>
        <p:spPr>
          <a:xfrm>
            <a:off x="6934320" y="3733920"/>
            <a:ext cx="1523880" cy="15238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79246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72388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70102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6960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6960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70102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72388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4674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2388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79246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74674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72388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0102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960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6960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70102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2388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674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0102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4674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70102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72388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4674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76960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9246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6960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4674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9246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9246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9246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315200" y="1447920"/>
            <a:ext cx="14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315200" y="1523880"/>
            <a:ext cx="360360" cy="750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7315200" y="1828800"/>
            <a:ext cx="762120" cy="42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7315200" y="22860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7315200" y="2286000"/>
            <a:ext cx="7621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188120" y="990720"/>
            <a:ext cx="1365480" cy="1888920"/>
          </a:xfrm>
          <a:custGeom>
            <a:avLst/>
            <a:gdLst/>
            <a:ahLst/>
            <a:rect l="l" t="t" r="r" b="b"/>
            <a:pathLst>
              <a:path w="860" h="1190">
                <a:moveTo>
                  <a:pt x="82" y="768"/>
                </a:moveTo>
                <a:cubicBezTo>
                  <a:pt x="76" y="651"/>
                  <a:pt x="54" y="234"/>
                  <a:pt x="50" y="117"/>
                </a:cubicBezTo>
                <a:cubicBezTo>
                  <a:pt x="46" y="0"/>
                  <a:pt x="0" y="64"/>
                  <a:pt x="57" y="67"/>
                </a:cubicBezTo>
                <a:cubicBezTo>
                  <a:pt x="114" y="70"/>
                  <a:pt x="281" y="86"/>
                  <a:pt x="390" y="136"/>
                </a:cubicBezTo>
                <a:cubicBezTo>
                  <a:pt x="499" y="186"/>
                  <a:pt x="638" y="274"/>
                  <a:pt x="713" y="370"/>
                </a:cubicBezTo>
                <a:cubicBezTo>
                  <a:pt x="788" y="466"/>
                  <a:pt x="822" y="612"/>
                  <a:pt x="841" y="713"/>
                </a:cubicBezTo>
                <a:cubicBezTo>
                  <a:pt x="860" y="814"/>
                  <a:pt x="844" y="897"/>
                  <a:pt x="826" y="976"/>
                </a:cubicBezTo>
                <a:cubicBezTo>
                  <a:pt x="809" y="1055"/>
                  <a:pt x="804" y="1184"/>
                  <a:pt x="739" y="1187"/>
                </a:cubicBezTo>
                <a:cubicBezTo>
                  <a:pt x="674" y="1190"/>
                  <a:pt x="550" y="1055"/>
                  <a:pt x="440" y="994"/>
                </a:cubicBezTo>
                <a:cubicBezTo>
                  <a:pt x="330" y="933"/>
                  <a:pt x="141" y="859"/>
                  <a:pt x="82" y="822"/>
                </a:cubicBezTo>
                <a:cubicBezTo>
                  <a:pt x="22" y="785"/>
                  <a:pt x="82" y="885"/>
                  <a:pt x="82" y="768"/>
                </a:cubicBezTo>
                <a:close/>
              </a:path>
            </a:pathLst>
          </a:custGeom>
          <a:solidFill>
            <a:srgbClr val="3399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815328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815328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81532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8153280" y="4952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815328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8153280" y="4267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5791320" y="3733920"/>
            <a:ext cx="1143000" cy="175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5867280" y="5257440"/>
            <a:ext cx="10670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5791320" y="5257440"/>
            <a:ext cx="26668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7010280" y="14479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1 half life = 4.5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029200" y="4038480"/>
            <a:ext cx="1752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 at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f Ura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50 a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of 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5" dur="indefinite" restart="never" nodeType="tmRoot">
          <p:childTnLst>
            <p:seq>
              <p:cTn id="2396" dur="indefinite" nodeType="mainSeq">
                <p:childTnLst>
                  <p:par>
                    <p:cTn id="2397" fill="hold">
                      <p:stCondLst>
                        <p:cond delay="0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1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4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1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12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4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15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21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2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6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27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2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33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5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36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1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42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4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45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51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3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54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5500"/>
                            </p:stCondLst>
                            <p:childTnLst>
                              <p:par>
                                <p:cTn id="24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9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60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6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8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69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1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7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4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75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7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78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0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481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6500"/>
                            </p:stCondLst>
                            <p:childTnLst>
                              <p:par>
                                <p:cTn id="2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6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1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thinks they understand half-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0" name="r" descr=""/>
          <p:cNvPicPr/>
          <p:nvPr/>
        </p:nvPicPr>
        <p:blipFill>
          <a:blip r:embed="rId1"/>
          <a:stretch/>
        </p:blipFill>
        <p:spPr>
          <a:xfrm>
            <a:off x="0" y="1219320"/>
            <a:ext cx="3929040" cy="5029200"/>
          </a:xfrm>
          <a:prstGeom prst="rect">
            <a:avLst/>
          </a:prstGeom>
          <a:ln w="0">
            <a:noFill/>
          </a:ln>
        </p:spPr>
      </p:pic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809880" y="159984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What is the half life of uranium-238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According to this diagram, how much uranium remains after 4.5 Billion years? L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After 9 billion years, how much uranium is left?  L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11201400" y="-1600200"/>
            <a:ext cx="822960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62120" y="0"/>
            <a:ext cx="1295280" cy="12952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838080" y="76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066680" y="76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295280" y="76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523880" y="76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752480" y="76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83808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06668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9528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52388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75248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83808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06668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29528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52388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75248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838080" y="762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066680" y="762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95280" y="762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523880" y="762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2480" y="762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838080" y="990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1066680" y="990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295280" y="990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523880" y="990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752480" y="990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752480" y="1676520"/>
            <a:ext cx="1295640" cy="12952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8288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20574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2860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5146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7432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82880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28600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51460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74320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82880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05740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228600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74320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182880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205740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228600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51460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274320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82880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05740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228600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251460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274320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838080" y="220968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0" y="0"/>
                </a:moveTo>
                <a:cubicBezTo>
                  <a:pt x="56" y="104"/>
                  <a:pt x="112" y="208"/>
                  <a:pt x="192" y="336"/>
                </a:cubicBezTo>
                <a:cubicBezTo>
                  <a:pt x="272" y="464"/>
                  <a:pt x="392" y="648"/>
                  <a:pt x="480" y="768"/>
                </a:cubicBezTo>
                <a:cubicBezTo>
                  <a:pt x="568" y="888"/>
                  <a:pt x="664" y="992"/>
                  <a:pt x="720" y="1056"/>
                </a:cubicBezTo>
                <a:cubicBezTo>
                  <a:pt x="776" y="1120"/>
                  <a:pt x="800" y="1136"/>
                  <a:pt x="816" y="1152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838080" y="1295280"/>
            <a:ext cx="381240" cy="990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3429000" y="3886200"/>
            <a:ext cx="380880" cy="990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4724280" y="4495680"/>
            <a:ext cx="609840" cy="9144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6095880" y="5105160"/>
            <a:ext cx="762120" cy="53316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7391520" y="5181480"/>
            <a:ext cx="914400" cy="5335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133720" y="4038480"/>
            <a:ext cx="1295280" cy="914400"/>
          </a:xfrm>
          <a:custGeom>
            <a:avLst/>
            <a:gdLst/>
            <a:ahLst/>
            <a:rect l="l" t="t" r="r" b="b"/>
            <a:pathLst>
              <a:path w="816" h="576">
                <a:moveTo>
                  <a:pt x="0" y="0"/>
                </a:moveTo>
                <a:cubicBezTo>
                  <a:pt x="50" y="44"/>
                  <a:pt x="185" y="179"/>
                  <a:pt x="298" y="266"/>
                </a:cubicBezTo>
                <a:cubicBezTo>
                  <a:pt x="411" y="353"/>
                  <a:pt x="594" y="471"/>
                  <a:pt x="680" y="523"/>
                </a:cubicBezTo>
                <a:cubicBezTo>
                  <a:pt x="766" y="575"/>
                  <a:pt x="788" y="565"/>
                  <a:pt x="816" y="576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205740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838080" y="22860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838080" y="2209680"/>
            <a:ext cx="0" cy="38102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838080" y="6019920"/>
            <a:ext cx="6705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17220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2860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arent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172200" y="838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400800" y="8380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daughter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5943600" y="1371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life = 50,000 y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rot="3408600">
            <a:off x="647280" y="308556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2133720" y="2971800"/>
            <a:ext cx="304560" cy="990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200400" y="2590920"/>
            <a:ext cx="1295280" cy="12952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76720" y="2666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50532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733920" y="2666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96252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191120" y="2666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2767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5053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7339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962520" y="28954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1911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276720" y="31240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50532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3733920" y="31240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191120" y="31240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27672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505320" y="3352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73392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96252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19112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276720" y="3581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505320" y="3581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733920" y="3581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3581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191120" y="3581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057400" y="22860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Par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762120" y="2133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rot="2257200">
            <a:off x="1904760" y="434304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048120" y="1676520"/>
            <a:ext cx="2590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 Daughter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 Par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724280" y="3200400"/>
            <a:ext cx="1295640" cy="12952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8006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0292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2578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7150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800600" y="3505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029200" y="3505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5257800" y="3505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5486400" y="3505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715000" y="3505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800600" y="3733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029200" y="3733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5257800" y="3733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5486400" y="3733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5715000" y="3733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8006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0292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2578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486400" y="3962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7150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8006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0292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2578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48640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7150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50532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2767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73392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495680" y="243828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% Daughter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% Par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429000" y="4952880"/>
            <a:ext cx="129528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0"/>
                </a:moveTo>
                <a:cubicBezTo>
                  <a:pt x="49" y="24"/>
                  <a:pt x="188" y="101"/>
                  <a:pt x="292" y="141"/>
                </a:cubicBezTo>
                <a:cubicBezTo>
                  <a:pt x="396" y="181"/>
                  <a:pt x="537" y="215"/>
                  <a:pt x="624" y="240"/>
                </a:cubicBezTo>
                <a:cubicBezTo>
                  <a:pt x="711" y="265"/>
                  <a:pt x="784" y="280"/>
                  <a:pt x="816" y="288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352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6095880" y="312408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7.5% Daughter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5% Par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172200" y="3809880"/>
            <a:ext cx="1295280" cy="129564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6248520" y="38862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477120" y="38862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6705720" y="38862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934320" y="38862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162920" y="38862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248520" y="41148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6477120" y="4114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6705720" y="41148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934320" y="41148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162920" y="4114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248520" y="4343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6477120" y="4343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705720" y="4343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6934320" y="4343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162920" y="4343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6248520" y="45720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6477120" y="45720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705720" y="45720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934320" y="45720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162920" y="45720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6248520" y="48006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6477120" y="48006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48006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934320" y="4800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7162920" y="48006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4724280" y="5410080"/>
            <a:ext cx="1371600" cy="239760"/>
          </a:xfrm>
          <a:custGeom>
            <a:avLst/>
            <a:gdLst/>
            <a:ahLst/>
            <a:rect l="l" t="t" r="r" b="b"/>
            <a:pathLst>
              <a:path w="864" h="151">
                <a:moveTo>
                  <a:pt x="0" y="0"/>
                </a:moveTo>
                <a:cubicBezTo>
                  <a:pt x="56" y="16"/>
                  <a:pt x="112" y="31"/>
                  <a:pt x="192" y="48"/>
                </a:cubicBezTo>
                <a:cubicBezTo>
                  <a:pt x="272" y="65"/>
                  <a:pt x="384" y="86"/>
                  <a:pt x="480" y="102"/>
                </a:cubicBezTo>
                <a:cubicBezTo>
                  <a:pt x="576" y="118"/>
                  <a:pt x="704" y="137"/>
                  <a:pt x="768" y="144"/>
                </a:cubicBezTo>
                <a:cubicBezTo>
                  <a:pt x="832" y="151"/>
                  <a:pt x="848" y="144"/>
                  <a:pt x="864" y="144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6483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7696080" y="3886200"/>
            <a:ext cx="1295640" cy="12952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77724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80010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82296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84582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86868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7724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800100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82296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84582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868680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772400" y="4419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8001000" y="4419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8229600" y="4419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8458200" y="4419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8686800" y="4419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7772400" y="4648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8001000" y="4648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8229600" y="4648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8458200" y="4648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8686800" y="4648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7772400" y="4876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8001000" y="4876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8229600" y="4876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8458200" y="4876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8686800" y="4876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172200" y="5638680"/>
            <a:ext cx="1219320" cy="76320"/>
          </a:xfrm>
          <a:custGeom>
            <a:avLst/>
            <a:gdLst/>
            <a:ahLst/>
            <a:rect l="l" t="t" r="r" b="b"/>
            <a:pathLst>
              <a:path w="768" h="48">
                <a:moveTo>
                  <a:pt x="0" y="0"/>
                </a:moveTo>
                <a:cubicBezTo>
                  <a:pt x="64" y="6"/>
                  <a:pt x="257" y="28"/>
                  <a:pt x="385" y="36"/>
                </a:cubicBezTo>
                <a:cubicBezTo>
                  <a:pt x="513" y="44"/>
                  <a:pt x="688" y="46"/>
                  <a:pt x="768" y="48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01992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731520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5791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3429000" y="5791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4724280" y="5791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095880" y="5791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838080" y="31240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7391520" y="5791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362320" y="6324480"/>
            <a:ext cx="3733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Half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838080" y="40384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838080" y="49528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rot="16200000">
            <a:off x="-1599840" y="38098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Parent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228600" y="289548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52280" y="1905120"/>
            <a:ext cx="838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28600" y="380988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52280" y="4724280"/>
            <a:ext cx="838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 rot="1202400">
            <a:off x="3276360" y="510516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rot="629400">
            <a:off x="4648320" y="541008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019920" y="556272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1981080" y="6019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3276720" y="6019920"/>
            <a:ext cx="304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572000" y="6019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943600" y="6019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238880" y="6019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85800" y="6019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2" dur="indefinite" restart="never" nodeType="tmRoot">
          <p:childTnLst>
            <p:seq>
              <p:cTn id="2493" dur="indefinite" nodeType="mainSeq">
                <p:childTnLst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8" dur="2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1" dur="2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4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0" dur="2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3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6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2" dur="2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5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8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1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4" dur="2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7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0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3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6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9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2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5" dur="2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8" dur="2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1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4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7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0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3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7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0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3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7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3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6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9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4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7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3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6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2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8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1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4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0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3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9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2" dur="8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5" dur="5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6" nodeType="withEffect" fill="hold" presetClass="emph" presetID="1" presetSubtype="2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2677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678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9" nodeType="withEffect" fill="hold" presetClass="emph" presetID="1" presetSubtype="2">
                                  <p:stCondLst>
                                    <p:cond delay="4500"/>
                                  </p:stCondLst>
                                  <p:childTnLst>
                                    <p:animClr clrSpc="rgb">
                                      <p:cBhvr>
                                        <p:cTn id="268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681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2" nodeType="withEffect" fill="hold" presetClass="emph" presetID="1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2683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684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5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2686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687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8" nodeType="with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2689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690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693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4" nodeType="withEffect" fill="hold" presetClass="emph" presetID="1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2695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696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7" nodeType="with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2698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699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0" nodeType="withEffect" fill="hold" presetClass="emph" presetID="1" presetSubtype="2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2701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702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3" nodeType="with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2704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705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6" nodeType="withEffect" fill="hold" presetClass="emph" presetID="1" presetSubtype="2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2707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708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9" nodeType="withEffect" fill="hold" presetClass="emph" presetID="1" presetSubtype="2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2710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711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5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8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1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23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4" fill="hold">
                      <p:stCondLst>
                        <p:cond delay="indefinite"/>
                      </p:stCondLst>
                      <p:childTnLst>
                        <p:par>
                          <p:cTn id="2725" fill="hold">
                            <p:stCondLst>
                              <p:cond delay="0"/>
                            </p:stCondLst>
                            <p:childTnLst>
                              <p:par>
                                <p:cTn id="2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8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1" dur="2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4" dur="2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7" dur="2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0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3" dur="2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6" dur="2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9" dur="2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2" dur="2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5" dur="2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8" dur="2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1" dur="2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4" dur="2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7" dur="2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0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3" dur="2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6" dur="2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9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2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5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8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1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4" dur="2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7" dur="2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0" dur="2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3" dur="2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6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9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2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5" dur="2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8" dur="8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1" dur="20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2" nodeType="withEffect" fill="hold" presetClass="emph" presetID="1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2823" dur="2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824" dur="2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5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826" dur="2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827" dur="2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829" dur="2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830" dur="2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1" nodeType="withEffect" fill="hold" presetClass="emph" presetID="1" presetSubtype="2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2832" dur="2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833" dur="2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835" dur="2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836" dur="2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7" nodeType="withEffect" fill="hold" presetClass="emph" presetID="1" presetSubtype="2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2838" dur="2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839" dur="2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3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6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9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1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6" dur="2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9" dur="2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2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5" dur="2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8" dur="2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1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4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7" dur="2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0" dur="2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3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6" dur="2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9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2" dur="2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5" dur="2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8" dur="2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1" dur="2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4" dur="2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7" dur="2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0" dur="2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3" dur="2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6" dur="2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9" dur="2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2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5" dur="2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8" dur="2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1" dur="2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4" dur="8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7" dur="5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9" dur="2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940" dur="2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1" nodeType="withEffect" fill="hold" presetClass="emph" presetID="1" presetSubtype="2">
                                  <p:stCondLst>
                                    <p:cond delay="4500"/>
                                  </p:stCondLst>
                                  <p:childTnLst>
                                    <p:animClr clrSpc="rgb">
                                      <p:cBhvr>
                                        <p:cTn id="2942" dur="2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943" dur="2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4" nodeType="withEffect" fill="hold" presetClass="emph" presetID="1" presetSubtype="2">
                                  <p:stCondLst>
                                    <p:cond delay="7000"/>
                                  </p:stCondLst>
                                  <p:childTnLst>
                                    <p:animClr clrSpc="rgb">
                                      <p:cBhvr>
                                        <p:cTn id="2945" dur="2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946" dur="2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0" dur="2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3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6" dur="2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58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fill="hold">
                      <p:stCondLst>
                        <p:cond delay="indefinite"/>
                      </p:stCondLst>
                      <p:childTnLst>
                        <p:par>
                          <p:cTn id="2960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3" dur="2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6" dur="2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9" dur="2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2" dur="2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5" dur="2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8" dur="2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1" dur="2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4" dur="2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7" dur="2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0" dur="2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3" dur="2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6" dur="2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9" dur="2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2" dur="2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5" dur="2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8" dur="2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1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4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7" dur="2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0" dur="2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3" dur="2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6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9" dur="2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2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5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8" dur="2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2" dur="8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5" dur="2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7" dur="2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3048" dur="2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9" nodeType="withEffect" fill="hold" presetClass="emph" presetID="1" presetSubtype="2">
                                  <p:stCondLst>
                                    <p:cond delay="7000"/>
                                  </p:stCondLst>
                                  <p:childTnLst>
                                    <p:animClr clrSpc="rgb">
                                      <p:cBhvr>
                                        <p:cTn id="3050" dur="2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3051" dur="2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5" dur="2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8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3" dur="2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6" dur="2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9" dur="2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2" dur="2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5" dur="2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8" dur="2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1" dur="2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2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7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0" dur="2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3" dur="2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6" dur="2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9" dur="2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2" dur="2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5" dur="2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8" dur="2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1" dur="2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4" dur="2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2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0" dur="2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3" dur="2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6" dur="2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9" dur="2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2" dur="2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5" dur="2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8" dur="2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2" dur="8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5" dur="2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7" dur="2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3148" dur="2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2" dur="2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What is the Geologic Time Scal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3733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cale from the beginning of earth to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broken into time divisions such as Eras, &amp; Periods that are based on the ____record, dominant life forms, and mass ____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1752480"/>
            <a:ext cx="175284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205740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46250" b="0"/>
          <a:stretch/>
        </p:blipFill>
        <p:spPr>
          <a:xfrm>
            <a:off x="6041880" y="914400"/>
            <a:ext cx="272124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mph" presetID="35" repeatCount="3000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ld vs. Young 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Uranium half life to measure the age of the earth, which is ve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how would we measure something that is younger, like tree rings or artifacts from an ancient l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rbon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 a radioactive form of carbon) has a half-life of 5,730 years, we can use it to date rocks that are much younger (unlike uranium, which has a half-life of 4.5 billion years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5,730 years Carbon-14 will decay into stable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diometric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5029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 geologist who studies rocks in order figure out earth’s history, these radioactive elements that decay are like a clock ticking away, keeping track of time since that’s passed since earth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metric dating has allowed us to figure out Earth’s history in chronological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Radiometric Dating: A dating method that uses the rate of decay of radioactive atoms in rocks by the amount of parent and daughter product to determine the absolute age of a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1" name="Picture 16" descr="granit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638680" y="1523880"/>
            <a:ext cx="2895840" cy="241308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Radiometric D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6248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Dating method that uses the rate of decay of radioactive atoms in rocks by the amount of parent and daughter product to _____ the absolute age of a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010280" y="2133720"/>
            <a:ext cx="1600200" cy="220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858000" y="2209680"/>
            <a:ext cx="1676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16" descr="granit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0" y="4444920"/>
            <a:ext cx="2895480" cy="2413080"/>
          </a:xfrm>
          <a:prstGeom prst="rect">
            <a:avLst/>
          </a:prstGeom>
          <a:ln w="0">
            <a:noFill/>
          </a:ln>
        </p:spPr>
      </p:pic>
      <p:pic>
        <p:nvPicPr>
          <p:cNvPr id="1438" name="" descr=""/>
          <p:cNvPicPr/>
          <p:nvPr/>
        </p:nvPicPr>
        <p:blipFill>
          <a:blip r:embed="rId2"/>
          <a:stretch/>
        </p:blipFill>
        <p:spPr>
          <a:xfrm>
            <a:off x="5486400" y="505476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6" dur="indefinite" restart="never" nodeType="tmRoot">
          <p:childTnLst>
            <p:seq>
              <p:cTn id="3157" dur="indefinite" nodeType="mainSeq">
                <p:childTnLst>
                  <p:par>
                    <p:cTn id="3158" fill="hold">
                      <p:stCondLst>
                        <p:cond delay="0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2" dur="2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5" dur="2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5" dur="2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iz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6933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following scenario to complete the answer below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piece of coa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made of carbon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from a cave man’s fire is found to have about 50%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rbon-1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50%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itrog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 The half life of Carbon-14 is 573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-14 is the _____ material and Nitrogen is the _____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 is the half life of Carbon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veman’s coal and fire is ______year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’s use _____dating to determine the absolute ____of rocks and foss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7315200" y="380880"/>
            <a:ext cx="1600200" cy="2210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7162920" y="457200"/>
            <a:ext cx="1676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7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52280" y="2971800"/>
            <a:ext cx="243864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895480" y="3048120"/>
            <a:ext cx="2514600" cy="685800"/>
          </a:xfrm>
          <a:prstGeom prst="rightArrow">
            <a:avLst>
              <a:gd name="adj1" fmla="val 54167"/>
              <a:gd name="adj2" fmla="val 11410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730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486400" y="2971800"/>
            <a:ext cx="160020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086600" y="2971800"/>
            <a:ext cx="1600200" cy="838080"/>
          </a:xfrm>
          <a:prstGeom prst="rect">
            <a:avLst/>
          </a:prstGeom>
          <a:solidFill>
            <a:srgbClr val="dede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6" dur="indefinite" restart="never" nodeType="tmRoot">
          <p:childTnLst>
            <p:seq>
              <p:cTn id="3187" dur="indefinite" nodeType="mainSeq">
                <p:childTnLst>
                  <p:par>
                    <p:cTn id="3188" fill="hold">
                      <p:stCondLst>
                        <p:cond delay="0"/>
                      </p:stCondLst>
                      <p:childTnLst>
                        <p:par>
                          <p:cTn id="3189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2" dur="2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5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-1905120"/>
            <a:ext cx="9296280" cy="6172200"/>
          </a:xfrm>
          <a:prstGeom prst="rect">
            <a:avLst/>
          </a:prstGeom>
          <a:gradFill rotWithShape="0">
            <a:gsLst>
              <a:gs pos="0">
                <a:srgbClr val="945c4a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90512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90512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388620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388620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579132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579132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7696080" y="5297400"/>
            <a:ext cx="1981440" cy="1560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7696080" y="4419720"/>
            <a:ext cx="1981440" cy="914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4191120"/>
            <a:ext cx="9677520" cy="4724280"/>
          </a:xfrm>
          <a:prstGeom prst="rect">
            <a:avLst/>
          </a:prstGeom>
          <a:gradFill rotWithShape="0">
            <a:gsLst>
              <a:gs pos="0">
                <a:srgbClr val="0a0a0a"/>
              </a:gs>
              <a:gs pos="100000">
                <a:srgbClr val="333333">
                  <a:alpha val="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1"/>
          <a:stretch/>
        </p:blipFill>
        <p:spPr>
          <a:xfrm>
            <a:off x="9677520" y="-83808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2"/>
          <a:stretch/>
        </p:blipFill>
        <p:spPr>
          <a:xfrm flipH="1">
            <a:off x="-1676880" y="-1523880"/>
            <a:ext cx="1543320" cy="1187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-1752480" y="4114800"/>
            <a:ext cx="11277360" cy="3809880"/>
          </a:xfrm>
          <a:prstGeom prst="rect">
            <a:avLst/>
          </a:prstGeom>
          <a:solidFill>
            <a:srgbClr val="0066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3">
            <a:lum bright="-30000"/>
          </a:blip>
          <a:stretch/>
        </p:blipFill>
        <p:spPr>
          <a:xfrm>
            <a:off x="762120" y="2971800"/>
            <a:ext cx="1199880" cy="1981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-30000"/>
          </a:blip>
          <a:stretch/>
        </p:blipFill>
        <p:spPr>
          <a:xfrm>
            <a:off x="6248520" y="3124080"/>
            <a:ext cx="830160" cy="1371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209680" y="685800"/>
            <a:ext cx="3733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was a harsh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eorites bombarded our ear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volcanoes spewed out g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5">
            <a:lum bright="-30000"/>
          </a:blip>
          <a:stretch/>
        </p:blipFill>
        <p:spPr>
          <a:xfrm>
            <a:off x="8001000" y="2514600"/>
            <a:ext cx="1704960" cy="2819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371600" y="609480"/>
            <a:ext cx="4038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oceans slowly formed over millions of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volcanoes released st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of these gases was steam or (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6"/>
          <a:stretch/>
        </p:blipFill>
        <p:spPr>
          <a:xfrm>
            <a:off x="6172200" y="5335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629400" y="-152280"/>
            <a:ext cx="2286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6 billion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rth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572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572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44956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44956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4572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4572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4572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533520"/>
            <a:ext cx="4038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was what our planet was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billion years--90% of earth’s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ientists call this period the Precambri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1981080" y="9753480"/>
            <a:ext cx="1981080" cy="1905120"/>
          </a:xfrm>
          <a:prstGeom prst="flowChartSummingJunction">
            <a:avLst/>
          </a:prstGeom>
          <a:noFill/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0550400">
            <a:off x="-1751760" y="8534520"/>
            <a:ext cx="99036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96080" y="685800"/>
            <a:ext cx="1417680" cy="2878200"/>
          </a:xfrm>
          <a:custGeom>
            <a:avLst/>
            <a:gdLst/>
            <a:ahLst/>
            <a:rect l="l" t="t" r="r" b="b"/>
            <a:pathLst>
              <a:path w="893" h="1813">
                <a:moveTo>
                  <a:pt x="48" y="1008"/>
                </a:moveTo>
                <a:cubicBezTo>
                  <a:pt x="49" y="826"/>
                  <a:pt x="50" y="306"/>
                  <a:pt x="54" y="153"/>
                </a:cubicBezTo>
                <a:cubicBezTo>
                  <a:pt x="58" y="0"/>
                  <a:pt x="25" y="88"/>
                  <a:pt x="72" y="87"/>
                </a:cubicBezTo>
                <a:cubicBezTo>
                  <a:pt x="119" y="86"/>
                  <a:pt x="236" y="103"/>
                  <a:pt x="336" y="144"/>
                </a:cubicBezTo>
                <a:cubicBezTo>
                  <a:pt x="436" y="185"/>
                  <a:pt x="584" y="240"/>
                  <a:pt x="672" y="336"/>
                </a:cubicBezTo>
                <a:cubicBezTo>
                  <a:pt x="760" y="432"/>
                  <a:pt x="835" y="585"/>
                  <a:pt x="864" y="720"/>
                </a:cubicBezTo>
                <a:cubicBezTo>
                  <a:pt x="893" y="855"/>
                  <a:pt x="889" y="1017"/>
                  <a:pt x="848" y="1150"/>
                </a:cubicBezTo>
                <a:cubicBezTo>
                  <a:pt x="807" y="1283"/>
                  <a:pt x="709" y="1422"/>
                  <a:pt x="619" y="1515"/>
                </a:cubicBezTo>
                <a:cubicBezTo>
                  <a:pt x="529" y="1608"/>
                  <a:pt x="405" y="1669"/>
                  <a:pt x="309" y="1710"/>
                </a:cubicBezTo>
                <a:cubicBezTo>
                  <a:pt x="213" y="1751"/>
                  <a:pt x="90" y="1758"/>
                  <a:pt x="45" y="1761"/>
                </a:cubicBezTo>
                <a:cubicBezTo>
                  <a:pt x="0" y="1764"/>
                  <a:pt x="39" y="1813"/>
                  <a:pt x="39" y="1728"/>
                </a:cubicBezTo>
                <a:cubicBezTo>
                  <a:pt x="39" y="1643"/>
                  <a:pt x="46" y="1368"/>
                  <a:pt x="48" y="1248"/>
                </a:cubicBezTo>
                <a:cubicBezTo>
                  <a:pt x="50" y="1128"/>
                  <a:pt x="48" y="1192"/>
                  <a:pt x="48" y="100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69200" y="1224000"/>
            <a:ext cx="1450800" cy="2301840"/>
          </a:xfrm>
          <a:custGeom>
            <a:avLst/>
            <a:gdLst/>
            <a:ahLst/>
            <a:rect l="l" t="t" r="r" b="b"/>
            <a:pathLst>
              <a:path w="914" h="1450">
                <a:moveTo>
                  <a:pt x="806" y="1407"/>
                </a:moveTo>
                <a:cubicBezTo>
                  <a:pt x="800" y="1450"/>
                  <a:pt x="808" y="1413"/>
                  <a:pt x="779" y="1410"/>
                </a:cubicBezTo>
                <a:cubicBezTo>
                  <a:pt x="750" y="1407"/>
                  <a:pt x="694" y="1409"/>
                  <a:pt x="629" y="1389"/>
                </a:cubicBezTo>
                <a:cubicBezTo>
                  <a:pt x="564" y="1369"/>
                  <a:pt x="455" y="1330"/>
                  <a:pt x="389" y="1293"/>
                </a:cubicBezTo>
                <a:cubicBezTo>
                  <a:pt x="323" y="1256"/>
                  <a:pt x="272" y="1207"/>
                  <a:pt x="230" y="1164"/>
                </a:cubicBezTo>
                <a:cubicBezTo>
                  <a:pt x="188" y="1121"/>
                  <a:pt x="163" y="1077"/>
                  <a:pt x="137" y="1038"/>
                </a:cubicBezTo>
                <a:cubicBezTo>
                  <a:pt x="111" y="999"/>
                  <a:pt x="95" y="973"/>
                  <a:pt x="76" y="930"/>
                </a:cubicBezTo>
                <a:cubicBezTo>
                  <a:pt x="57" y="887"/>
                  <a:pt x="35" y="847"/>
                  <a:pt x="23" y="780"/>
                </a:cubicBezTo>
                <a:cubicBezTo>
                  <a:pt x="11" y="713"/>
                  <a:pt x="0" y="615"/>
                  <a:pt x="5" y="525"/>
                </a:cubicBezTo>
                <a:cubicBezTo>
                  <a:pt x="10" y="435"/>
                  <a:pt x="26" y="315"/>
                  <a:pt x="53" y="237"/>
                </a:cubicBezTo>
                <a:cubicBezTo>
                  <a:pt x="80" y="159"/>
                  <a:pt x="143" y="89"/>
                  <a:pt x="167" y="57"/>
                </a:cubicBezTo>
                <a:cubicBezTo>
                  <a:pt x="191" y="25"/>
                  <a:pt x="182" y="38"/>
                  <a:pt x="197" y="45"/>
                </a:cubicBezTo>
                <a:cubicBezTo>
                  <a:pt x="212" y="52"/>
                  <a:pt x="153" y="0"/>
                  <a:pt x="257" y="96"/>
                </a:cubicBezTo>
                <a:cubicBezTo>
                  <a:pt x="361" y="192"/>
                  <a:pt x="728" y="534"/>
                  <a:pt x="821" y="621"/>
                </a:cubicBezTo>
                <a:cubicBezTo>
                  <a:pt x="914" y="708"/>
                  <a:pt x="818" y="597"/>
                  <a:pt x="818" y="621"/>
                </a:cubicBezTo>
                <a:cubicBezTo>
                  <a:pt x="818" y="645"/>
                  <a:pt x="821" y="677"/>
                  <a:pt x="821" y="765"/>
                </a:cubicBezTo>
                <a:cubicBezTo>
                  <a:pt x="821" y="853"/>
                  <a:pt x="819" y="1042"/>
                  <a:pt x="816" y="1149"/>
                </a:cubicBezTo>
                <a:cubicBezTo>
                  <a:pt x="813" y="1256"/>
                  <a:pt x="812" y="1365"/>
                  <a:pt x="806" y="1407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772400" y="838080"/>
            <a:ext cx="0" cy="1447920"/>
          </a:xfrm>
          <a:prstGeom prst="line">
            <a:avLst/>
          </a:prstGeom>
          <a:ln w="57240">
            <a:solidFill>
              <a:srgbClr val="29292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86600" y="228600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Precamb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609480"/>
            <a:ext cx="4038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ring the Precambri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oceans and atmosphere form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ong with other important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533520"/>
            <a:ext cx="4038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am cooled and condensed into clou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clouds Released precipitation (rain)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llions of years, eventually forming our oc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7"/>
          <a:stretch/>
        </p:blipFill>
        <p:spPr>
          <a:xfrm>
            <a:off x="3276720" y="2438280"/>
            <a:ext cx="1295280" cy="1038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8"/>
          <a:stretch/>
        </p:blipFill>
        <p:spPr>
          <a:xfrm>
            <a:off x="838080" y="2438280"/>
            <a:ext cx="1219320" cy="978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9"/>
          <a:stretch/>
        </p:blipFill>
        <p:spPr>
          <a:xfrm>
            <a:off x="1600200" y="1828800"/>
            <a:ext cx="1905120" cy="1832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0"/>
          <a:stretch/>
        </p:blipFill>
        <p:spPr>
          <a:xfrm>
            <a:off x="4114800" y="1828800"/>
            <a:ext cx="1940040" cy="2136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1"/>
          <a:stretch/>
        </p:blipFill>
        <p:spPr>
          <a:xfrm>
            <a:off x="2590920" y="1905120"/>
            <a:ext cx="2631960" cy="4343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-1447920" y="-1981080"/>
            <a:ext cx="10972800" cy="883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2"/>
          <a:stretch/>
        </p:blipFill>
        <p:spPr>
          <a:xfrm>
            <a:off x="990720" y="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76520" y="-457200"/>
            <a:ext cx="5257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Welcome to Ea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4.6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23699E-006 L -1.25313 0.59654 E">
                                      <p:cBhvr>
                                        <p:cTn id="99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104 0.00231 L 1.29792 0.50404 E">
                                      <p:cBhvr>
                                        <p:cTn id="103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6" repeatCount="indefinite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5" repeatCount="3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15607E-007 C -0.00191 -0.10497 -0.00469 -0.20948 0.00885 -0.27584 C 0.0224 -0.3422 0.06649 -0.37272 0.0816 -0.39815 E">
                                      <p:cBhvr>
                                        <p:cTn id="155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5607E-007 C 0.00086 -0.09457 0.0033 -0.18983 -0.00764 -0.25734 C -0.01858 -0.32486 -0.05348 -0.37387 -0.06563 -0.40462 E">
                                      <p:cBhvr>
                                        <p:cTn id="158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5607E-007 C -0.00781 -0.05295 -0.01527 -0.10566 -0.01267 -0.14428 C -0.01007 -0.18358 0.01459 -0.20069 0.01615 -0.23399 C 0.01771 -0.26728 0.00018 -0.31538 -0.00295 -0.34335 C -0.00607 -0.37133 -0.00295 -0.39029 -0.00295 -0.40254 E">
                                      <p:cBhvr>
                                        <p:cTn id="161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-1905120"/>
            <a:ext cx="9296280" cy="6172200"/>
          </a:xfrm>
          <a:prstGeom prst="rect">
            <a:avLst/>
          </a:prstGeom>
          <a:gradFill rotWithShape="0">
            <a:gsLst>
              <a:gs pos="0">
                <a:srgbClr val="945c4a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90512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190512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388620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388620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579132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579132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7696080" y="5297400"/>
            <a:ext cx="1981440" cy="1560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0"/>
          <a:stretch/>
        </p:blipFill>
        <p:spPr>
          <a:xfrm>
            <a:off x="7696080" y="4419720"/>
            <a:ext cx="1981440" cy="914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4191120"/>
            <a:ext cx="9372600" cy="4724280"/>
          </a:xfrm>
          <a:prstGeom prst="rect">
            <a:avLst/>
          </a:prstGeom>
          <a:gradFill rotWithShape="0">
            <a:gsLst>
              <a:gs pos="0">
                <a:srgbClr val="0a0a0a"/>
              </a:gs>
              <a:gs pos="100000">
                <a:srgbClr val="333333">
                  <a:alpha val="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762120" y="4191120"/>
            <a:ext cx="10134720" cy="3733560"/>
          </a:xfrm>
          <a:prstGeom prst="rect">
            <a:avLst/>
          </a:prstGeom>
          <a:solidFill>
            <a:srgbClr val="0066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1">
            <a:lum bright="-30000"/>
          </a:blip>
          <a:stretch/>
        </p:blipFill>
        <p:spPr>
          <a:xfrm>
            <a:off x="914400" y="2971800"/>
            <a:ext cx="1047600" cy="1981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>
            <a:lum bright="-30000"/>
          </a:blip>
          <a:stretch/>
        </p:blipFill>
        <p:spPr>
          <a:xfrm>
            <a:off x="6248520" y="3124080"/>
            <a:ext cx="83016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>
            <a:lum bright="-30000"/>
          </a:blip>
          <a:stretch/>
        </p:blipFill>
        <p:spPr>
          <a:xfrm>
            <a:off x="8001000" y="2514600"/>
            <a:ext cx="1704960" cy="2819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/>
          <a:stretch/>
        </p:blipFill>
        <p:spPr>
          <a:xfrm>
            <a:off x="6172200" y="5335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629400" y="-228600"/>
            <a:ext cx="2286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6 billion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rth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48006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7777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7242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7777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47242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7777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1981080" y="9753480"/>
            <a:ext cx="1981080" cy="1905120"/>
          </a:xfrm>
          <a:prstGeom prst="flowChartSummingJunction">
            <a:avLst/>
          </a:prstGeom>
          <a:noFill/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0550400">
            <a:off x="-1751760" y="8534520"/>
            <a:ext cx="99036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726320" y="685800"/>
            <a:ext cx="1417680" cy="2878200"/>
          </a:xfrm>
          <a:custGeom>
            <a:avLst/>
            <a:gdLst/>
            <a:ahLst/>
            <a:rect l="l" t="t" r="r" b="b"/>
            <a:pathLst>
              <a:path w="893" h="1813">
                <a:moveTo>
                  <a:pt x="48" y="1008"/>
                </a:moveTo>
                <a:cubicBezTo>
                  <a:pt x="49" y="826"/>
                  <a:pt x="50" y="306"/>
                  <a:pt x="54" y="153"/>
                </a:cubicBezTo>
                <a:cubicBezTo>
                  <a:pt x="58" y="0"/>
                  <a:pt x="25" y="88"/>
                  <a:pt x="72" y="87"/>
                </a:cubicBezTo>
                <a:cubicBezTo>
                  <a:pt x="119" y="86"/>
                  <a:pt x="236" y="103"/>
                  <a:pt x="336" y="144"/>
                </a:cubicBezTo>
                <a:cubicBezTo>
                  <a:pt x="436" y="185"/>
                  <a:pt x="584" y="240"/>
                  <a:pt x="672" y="336"/>
                </a:cubicBezTo>
                <a:cubicBezTo>
                  <a:pt x="760" y="432"/>
                  <a:pt x="835" y="585"/>
                  <a:pt x="864" y="720"/>
                </a:cubicBezTo>
                <a:cubicBezTo>
                  <a:pt x="893" y="855"/>
                  <a:pt x="889" y="1017"/>
                  <a:pt x="848" y="1150"/>
                </a:cubicBezTo>
                <a:cubicBezTo>
                  <a:pt x="807" y="1283"/>
                  <a:pt x="709" y="1422"/>
                  <a:pt x="619" y="1515"/>
                </a:cubicBezTo>
                <a:cubicBezTo>
                  <a:pt x="529" y="1608"/>
                  <a:pt x="405" y="1669"/>
                  <a:pt x="309" y="1710"/>
                </a:cubicBezTo>
                <a:cubicBezTo>
                  <a:pt x="213" y="1751"/>
                  <a:pt x="90" y="1758"/>
                  <a:pt x="45" y="1761"/>
                </a:cubicBezTo>
                <a:cubicBezTo>
                  <a:pt x="0" y="1764"/>
                  <a:pt x="39" y="1813"/>
                  <a:pt x="39" y="1728"/>
                </a:cubicBezTo>
                <a:cubicBezTo>
                  <a:pt x="39" y="1643"/>
                  <a:pt x="46" y="1368"/>
                  <a:pt x="48" y="1248"/>
                </a:cubicBezTo>
                <a:cubicBezTo>
                  <a:pt x="50" y="1128"/>
                  <a:pt x="48" y="1192"/>
                  <a:pt x="48" y="100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1216080"/>
            <a:ext cx="1479600" cy="2343240"/>
          </a:xfrm>
          <a:custGeom>
            <a:avLst/>
            <a:gdLst/>
            <a:ahLst/>
            <a:rect l="l" t="t" r="r" b="b"/>
            <a:pathLst>
              <a:path w="932" h="1476">
                <a:moveTo>
                  <a:pt x="826" y="1434"/>
                </a:moveTo>
                <a:cubicBezTo>
                  <a:pt x="817" y="1476"/>
                  <a:pt x="812" y="1419"/>
                  <a:pt x="779" y="1412"/>
                </a:cubicBezTo>
                <a:cubicBezTo>
                  <a:pt x="746" y="1405"/>
                  <a:pt x="694" y="1411"/>
                  <a:pt x="629" y="1391"/>
                </a:cubicBezTo>
                <a:cubicBezTo>
                  <a:pt x="564" y="1371"/>
                  <a:pt x="455" y="1332"/>
                  <a:pt x="389" y="1295"/>
                </a:cubicBezTo>
                <a:cubicBezTo>
                  <a:pt x="323" y="1258"/>
                  <a:pt x="272" y="1209"/>
                  <a:pt x="230" y="1166"/>
                </a:cubicBezTo>
                <a:cubicBezTo>
                  <a:pt x="188" y="1123"/>
                  <a:pt x="163" y="1079"/>
                  <a:pt x="137" y="1040"/>
                </a:cubicBezTo>
                <a:cubicBezTo>
                  <a:pt x="111" y="1001"/>
                  <a:pt x="95" y="975"/>
                  <a:pt x="76" y="932"/>
                </a:cubicBezTo>
                <a:cubicBezTo>
                  <a:pt x="57" y="889"/>
                  <a:pt x="35" y="849"/>
                  <a:pt x="23" y="782"/>
                </a:cubicBezTo>
                <a:cubicBezTo>
                  <a:pt x="11" y="715"/>
                  <a:pt x="0" y="617"/>
                  <a:pt x="5" y="527"/>
                </a:cubicBezTo>
                <a:cubicBezTo>
                  <a:pt x="10" y="437"/>
                  <a:pt x="26" y="317"/>
                  <a:pt x="53" y="239"/>
                </a:cubicBezTo>
                <a:cubicBezTo>
                  <a:pt x="80" y="161"/>
                  <a:pt x="143" y="91"/>
                  <a:pt x="167" y="59"/>
                </a:cubicBezTo>
                <a:cubicBezTo>
                  <a:pt x="191" y="27"/>
                  <a:pt x="182" y="40"/>
                  <a:pt x="197" y="47"/>
                </a:cubicBezTo>
                <a:cubicBezTo>
                  <a:pt x="212" y="54"/>
                  <a:pt x="150" y="0"/>
                  <a:pt x="257" y="98"/>
                </a:cubicBezTo>
                <a:cubicBezTo>
                  <a:pt x="364" y="196"/>
                  <a:pt x="746" y="546"/>
                  <a:pt x="839" y="633"/>
                </a:cubicBezTo>
                <a:cubicBezTo>
                  <a:pt x="932" y="720"/>
                  <a:pt x="819" y="602"/>
                  <a:pt x="818" y="623"/>
                </a:cubicBezTo>
                <a:cubicBezTo>
                  <a:pt x="817" y="644"/>
                  <a:pt x="832" y="669"/>
                  <a:pt x="835" y="758"/>
                </a:cubicBezTo>
                <a:cubicBezTo>
                  <a:pt x="838" y="847"/>
                  <a:pt x="837" y="1047"/>
                  <a:pt x="835" y="1160"/>
                </a:cubicBezTo>
                <a:cubicBezTo>
                  <a:pt x="833" y="1273"/>
                  <a:pt x="835" y="1392"/>
                  <a:pt x="826" y="1434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7772400" y="838080"/>
            <a:ext cx="0" cy="1447920"/>
          </a:xfrm>
          <a:prstGeom prst="line">
            <a:avLst/>
          </a:prstGeom>
          <a:ln w="57240">
            <a:solidFill>
              <a:srgbClr val="29292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86600" y="228600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Precamb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5"/>
          <a:stretch/>
        </p:blipFill>
        <p:spPr>
          <a:xfrm>
            <a:off x="2666880" y="1905120"/>
            <a:ext cx="2362320" cy="4343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371600" y="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other gas given off by volcan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Carbon Dioxide (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76212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microscopic phytoplank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sorbed 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volcanoes and thr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otosynthesis released Oxygen (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o our atm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380880"/>
            <a:ext cx="4648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other important event during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ambrian was the appea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the first single celled forms of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808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phytoplankton were very impor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cause they helped create an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ch atmosphere for life to thriv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3808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2 billion years ago, primitive microsc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gle celled forms of life cal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ytoplankton began to fill the oce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ember the rec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Photosynthesis 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777777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388620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05120" y="2590920"/>
            <a:ext cx="2286000" cy="838080"/>
          </a:xfrm>
          <a:prstGeom prst="ellipse">
            <a:avLst/>
          </a:prstGeom>
          <a:noFill/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9929600">
            <a:off x="3584160" y="2870280"/>
            <a:ext cx="1363680" cy="1676160"/>
          </a:xfrm>
          <a:custGeom>
            <a:avLst/>
            <a:gdLst>
              <a:gd name="textAreaLeft" fmla="*/ 0 w 1363680"/>
              <a:gd name="textAreaRight" fmla="*/ 1364040 w 13636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3255072"/>
                <a:lnTo>
                  <a:pt x="17110" y="2035"/>
                </a:lnTo>
                <a:arcTo wR="10800" hR="10800" stAng="-3255072" swAng="3255072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777777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1905120"/>
            <a:ext cx="2133360" cy="8380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3962520"/>
            <a:ext cx="45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4038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rot="8685000">
            <a:off x="4570560" y="2666160"/>
            <a:ext cx="1523880" cy="1676520"/>
          </a:xfrm>
          <a:custGeom>
            <a:avLst/>
            <a:gdLst>
              <a:gd name="textAreaLeft" fmla="*/ -360 w 1523880"/>
              <a:gd name="textAreaRight" fmla="*/ 1523880 w 15238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3255072"/>
                <a:lnTo>
                  <a:pt x="17110" y="2035"/>
                </a:lnTo>
                <a:arcTo wR="10800" hR="10800" stAng="-3255072" swAng="3255072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66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76212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Oxygen fill our atmosphere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skies eventually became B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961200" y="2129760"/>
            <a:ext cx="6505920" cy="4728240"/>
            <a:chOff x="961200" y="2129760"/>
            <a:chExt cx="6505920" cy="4728240"/>
          </a:xfrm>
        </p:grpSpPr>
        <p:pic>
          <p:nvPicPr>
            <p:cNvPr id="250" name="" descr=""/>
            <p:cNvPicPr/>
            <p:nvPr/>
          </p:nvPicPr>
          <p:blipFill>
            <a:blip r:embed="rId16"/>
            <a:srcRect l="0" t="0" r="42003" b="49643"/>
            <a:stretch/>
          </p:blipFill>
          <p:spPr>
            <a:xfrm rot="20371200">
              <a:off x="1371240" y="2610000"/>
              <a:ext cx="327636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17"/>
            <a:stretch/>
          </p:blipFill>
          <p:spPr>
            <a:xfrm>
              <a:off x="4419360" y="3828960"/>
              <a:ext cx="302868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267080" y="3753000"/>
              <a:ext cx="3200040" cy="2895480"/>
            </a:xfrm>
            <a:prstGeom prst="donut">
              <a:avLst>
                <a:gd name="adj" fmla="val 8300"/>
              </a:avLst>
            </a:prstGeom>
            <a:gradFill rotWithShape="0">
              <a:gsLst>
                <a:gs pos="0">
                  <a:srgbClr val="4b4b4b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5">
                                  <p:stCondLst>
                                    <p:cond delay="1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5">
                                  <p:stCondLst>
                                    <p:cond delay="1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4 -0.00486 C -0.01823 -0.03076 -0.00486 -0.11376 -0.00539 -0.16047 C -0.00591 -0.20717 -0.02049 -0.25919 -0.02448 -0.28509 E">
                                      <p:cBhvr>
                                        <p:cTn id="241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3.58382E-006 C -0.00104 -0.05873 0.01858 -0.12324 -0.00764 -0.1711 C -0.03385 -0.21896 -0.12604 -0.26289 -0.15729 -0.28717 E">
                                      <p:cBhvr>
                                        <p:cTn id="243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4.68208E-006 C -0.00122 -0.02612 0.00833 -0.10682 -0.00695 -0.15676 C -0.02223 -0.2067 -0.07361 -0.27052 -0.09115 -0.30034 E">
                                      <p:cBhvr>
                                        <p:cTn id="24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33333E-006 4.50867E-006 C -0.00816 -0.0259 -0.02378 -0.11145 -0.04913 -0.15469 C -0.07448 -0.19792 -0.1309 -0.23815 -0.15243 -0.26012 E">
                                      <p:cBhvr>
                                        <p:cTn id="270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2.02312E-006 C -0.00486 -0.05757 -0.02118 -0.11052 -0.03489 -0.15861 C -0.04861 -0.2067 -0.07257 -0.26173 -0.08246 -0.28878 E">
                                      <p:cBhvr>
                                        <p:cTn id="27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3.75723E-006 C -0.00486 -0.05757 -0.0342 -0.11237 -0.03489 -0.15861 C -0.03559 -0.20485 -0.01093 -0.25294 -0.00468 -0.27768 E">
                                      <p:cBhvr>
                                        <p:cTn id="274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ff"/>
                                      </p:to>
                                    </p:animClr>
                                    <p:set>
                                      <p:cBhvr>
                                        <p:cTn id="30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ow did our atmosphere become rich in oxyg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6095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itive phytoplankton and algae bacteria called stromatolites released oxygen into our atmosphere through _____ about 2 by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1752480"/>
            <a:ext cx="175248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10280" y="205740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4:30:22Z</dcterms:created>
  <dc:creator> john swanson</dc:creator>
  <dc:description/>
  <dc:language>en-US</dc:language>
  <cp:lastModifiedBy>jfuller</cp:lastModifiedBy>
  <dcterms:modified xsi:type="dcterms:W3CDTF">2012-04-13T16:12:21Z</dcterms:modified>
  <cp:revision>97</cp:revision>
  <dc:subject/>
  <dc:title>Geologic History</dc:title>
</cp:coreProperties>
</file>